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4E65-D59F-43E7-BDEF-40CB15C2E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A531-7FF2-4EDA-8968-CA1A79E6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DB5C-5882-4430-87B8-61E911C6D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8543-742B-4280-9B4B-EB30FA326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0646-0B4E-40C3-8E95-B74CE978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A5AE-6E65-40AE-AAA9-D63C8A8F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C464-6234-4B84-8274-B2FD6C4C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3C69-AB14-48A9-BE50-526EA174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0CE6-0C90-49B7-9CE4-390353DA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604F-A4E0-4A04-A776-D270E620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B581-BE66-4997-9F32-7C995E12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C88F-4DFF-419F-93BF-BAD119A8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0EE6-DCF8-4DD2-A26E-C2D05C789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XML-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finir la syntaxe d'un type de document XML (document cible du sché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aison avec DT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especte la syntaxe 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lus complex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ossibilités de contrôle de type plus strictes (exemple : un entier entre 1 et 1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utils de génération automatique de logiciels d'analy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ateur du W3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w3.org/2001/03/webdata/xs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tenu de l'élément rac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schema xmlns:s="http://www.w3.org/2001/XMLSchema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Namespace=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http://igm.univ-mlv.fr/~laporte/jardinerie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FormDefault="qualified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name="CATALOG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maxOccurs="unbounded" name="PLANT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!-- déclaration locale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elem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crivent les contenus possibles d'un élément ou d'un attri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çu pour spécifier des contenus avec des balises ou avec des attrib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sequence&gt; :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até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Occurs="unbounded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défaut, minOccurs et maxOccurs vale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claration lo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maxOccurs="unbounded" name="PLANT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claration locale : n'autorise pas PLANT à être élément racine d'un document c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'il l'est, le validateur ne vérifiera pas la synta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spécifier si les éléments des documents cibles doivent appartenir à l'espace de noms c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les éléments déclarés en local, déclarer dans s: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FormDefault="qualified"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 "unqualified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="qualified"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u "unqualified" dans une déclaration lo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tenu de l'élément rac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schema xmlns:s="http://www.w3.org/2001/XMLSchema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Namespace=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http://igm.univ-mlv.fr/~laporte/jardinerie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name="CATALOG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maxOccurs="unbounded" name="PLANT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="qualified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elem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claration glob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mlns:s="http://www.w3.org/2001/XMLSchema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Namespace="http://igm.univ-mlv.fr/~laporte/jardinerie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mlns:jrd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"http://igm.univ-mlv.fr/~laporte/jardinerie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name="CATALOG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maxOccurs="unbounded"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="jrd:PLAN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elem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="PLANT"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claration glob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name="PLANT"/&gt; fils de &lt;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T pourra être à la racine des documents c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 devra faire partie de l'espace de noms c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la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clarat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lobale, on n'utilise pas le préfixe de l'espace de n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cas de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férenc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à une déclaration, utiliser le préfi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maxOccurs="unbounded"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="jrd:PLAN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faut donc déclarer le préfixe dans &lt;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mlns:jrd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"http://igm.univ-mlv.fr/~laporte/jardinerie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peut faire référence à un élément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n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e décla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clarations globales ou locale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ntages des déclarations lo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s strict : les éléments ne peuvent être que là où on les a décla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é de surcharge : utiliser le même nom d'élément pour autre chose ailleu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ntages des déclarations glob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s souple : les éléments peuvent apparaître à la rac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s de réuti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s lisible : plus faciles à trouver dans le sché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peut méla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clarer à la fois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FormDefault="qualified"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 le préfixe de l'espace de noms cible (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mlns:jrd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Types nomm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name="CATALOG"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="jrd:typeCATALOG"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!--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férenc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avec préfixe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complexType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="typeCATALOG"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!--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clarat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sans préfixe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maxOccurs="unbounded" ref="jrd:PLANT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name="PLANT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Types nommés ou anonyme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ntages des types anony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s direct, moins de n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ntages des types nomm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s de réuti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peut méla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Tous types nommés (1/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name="CATALOG" type="jrd:typeCATALOG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name="PLANT" type="jrd:typePLANT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name="COMMON" type="s:string"/&gt;   </a:t>
            </a: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!-- texte --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name="BOTANICAL" type="s:string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name="ZONE" type="s:string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name="LIGHT" type="s:string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name="PRICE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name="AVAILABILITY" type="s:string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complexType name="typeCATALOG"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sequenc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minOccurs="0" maxOccurs="unbounded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="jrd:PLANT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sequenc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complexTyp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spaces de n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 schéma 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w3.org/2001/XML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 déclarer avec xmlns dans l'élément principal &lt;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 document XML c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'est l'espace de noms de l'élément racine du document c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déclarer dans le schéma XML avec l'attribut targetName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l'appelle l'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ace de noms cibl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 schéma 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schema xmlns:s="http://www.w3.org/2001/XMLSchema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Namespace="http://igm.univ-mlv.fr/~laporte/jardinerie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Tous types nommés (2/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complexType name="typePLANT"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sequence&gt;   </a:t>
            </a: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!-- concaténation dans un ordre fixe --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COMMON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BOTANICAL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ZONE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LIGHT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PRICE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AVAILABILITY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sequenc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complexTyp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Tous éléments en local : poupées ru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name="CATALOG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complexTyp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sequenc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minOccurs="0" maxOccurs="unbounded" name="PLANT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complexTyp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sequenc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name="COMMON" type="s:string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name="BOTANICAL" type="s:string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name="ZONE" type="s:string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name="LIGHT" type="s:string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name="PRICE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name="AVAILABILITY" type="s:string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sequenc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complexTyp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elemen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sequenc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complexTyp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elemen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Types anonymes, éléments globaux (1/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name="CATALOG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complexTy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sequ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minOccurs="0" maxOccurs="unbounded" ref="jrd:PLANT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sequ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complexTy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eleme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name="PLANT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complexTy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sequ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COMMON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BOTANICAL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ZONE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Types anonymes, éléments globaux (2/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LIGHT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PRICE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AVAILABILITY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sequ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complexTy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eleme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name="COMMON" type="s:string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name="BOTANICAL" type="s:string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name="ZONE" type="s:string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name="LIGHT" type="s:string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name="PRICE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name="AVAILABILITY" type="s:string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Types comple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aténation d'éléments dans l'ord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ice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seul élément pris parmi plusi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que élément une seule fois, d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'importe quel ord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e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jouter un attri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ceau de définition nommé 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utilis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e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&lt;s:choic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complexType name="typePLANT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sequ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COMMON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BOTANICAL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ZONE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LIGHT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PRICE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choice&gt;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!-- un parmi les trois 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AVAILABILITY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LATEST-YEAR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SUGGESTION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choi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sequ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complexTy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&lt;s:all&gt; (1/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complexType name="typePLAN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all&gt;      &lt;!-- les champs dans n'importe quel ordre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COMMON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BOTANICAL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ZONE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LIGHT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PRICE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AVAILABILITY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al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&lt;s:all&gt; (2/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 de récursivité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all&gt; ne peut contenir que des &lt;xs:elemen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all&gt; ne peut pas apparaître dans un &lt;s:sequence&gt;, &lt;s:choice&gt;, &lt;s:all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mple : on veut que les champs ZONE et LIGHT puissent apparaître dans n'importe quel ord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&lt;s:all&gt; (3/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complexType name="typePLAN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COMMON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BOTANICAL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all&gt;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!-- NE MARCHE PAS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ZONE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LIGHT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al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PRICE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AVAILABILITY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&lt;s:all&gt; (4/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complexType name="typePLANT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sequenc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COMMON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BOTANICAL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choice&gt;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!-- marche, mais pas très lisible --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sequenc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ZONE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LIGHT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sequenc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sequenc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LIGHT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ZONE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sequenc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choic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PRICE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AVAILABILITY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sequenc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complexTyp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ppeler un schéma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l'élément racine des documents cibl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déclarer l'espace de noms x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mlns:xsi="http://www.w3.org/2001/XMLSchema-instance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ttributs utilisables dans les documents ci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appeler le sché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si:schemaLocation="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...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ttp://...xsd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aleur de l'attribut donne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'abord l'espace de noms cibl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uis l'URL du sché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&lt;s:all&gt; (5/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on veut que ZONE, LIGHT et PRICE apparaissent dans n'importe quel ordre, &lt;s:choice&gt; ne marche 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hoix entre 6 séquences de 3 élé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lisibl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rop difficile pour le valid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 d'erreur du validateu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deterministic content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inte sur l'écriture des schémas XML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rs de l'analyse syntaxique d'un document cible, la correspondance avec le schéma doit pouvoir se faire de façon déterministe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s connaître les éléments qui suiven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elui en train d'être analys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&lt;s:all&gt; (6/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 : modifier la conception des documents c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mple : insérer un élément conten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LA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COMMON&gt;Bloodroot&lt;/COMMO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BOTANICAL&gt;Sanguinaria canadensis&lt;/BOTANICA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RACTICA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ZONE&gt;4&lt;/ZON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LIGHT&gt;Mostly Shady&lt;/LIGH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RICE unit="dollar"&gt;$2.44&lt;/PR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PRACTICA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AVAILABILITY&gt;031599&lt;/AVAILABILIT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PLA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clarer un attrib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veut que l'élément PLANT puisse avoir un attri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LANT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mily="Papaveraceae"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COMMON&gt;Bloodroot&lt;/COMMO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BOTANICAL&gt;Sanguinaria canadensis&lt;/BOTANICA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ZONE&gt;4&lt;/ZON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LIGHT&gt;Mostly Shady&lt;/LIGH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RICE unit="dollar"&gt;$2.44&lt;/PR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AVAILABILITY&gt;031599&lt;/AVAILABILIT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PLA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clarer un attrib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complexType name="typePLAN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COMMON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BOTANICAL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ZONE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LIGHT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PRICE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AVAILABILITY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attribute name="family" type="s:string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!-- les attributs doivent être déclarés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è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e contenu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clarer un attrib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que l'attribut soit oblig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attribute name="family" type="s:string" use="required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défaut, use="optional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imposer une val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attribute name="unit" type="s:string" fixed="dollar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l'attribut est présent, sa valeur doit être "dollar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 déclaré en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nom d'attribut ne doit pas avoir de préfixe dans le document c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clarer un attribut en glo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complexType name="typePLAN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COMMON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BOTANICAL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ZONE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LIGHT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PRICE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AVAILABILITY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attribute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="jrd:family"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se="required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attribute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="family"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="s:string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clarer un attribut en glo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la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clarat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lobale, on n'utilise pas le préfixe de l'espace de n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cas de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férenc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à une déclaration, utiliser le préfi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attribute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="jrd:family"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se="required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attribute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="family"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="s:string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clarer un attribut en glo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nom d'attribut doit avoir un préfixe dans le document ci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mlns:jrd=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http://igm.univ-mlv.fr/~laporte/jardinerie"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LANT </a:t>
            </a: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rd:family="Papaveraceae"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COMMON&gt;Bloodroot&lt;/COMMON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BOTANICAL&gt;Sanguinaria canadensis&lt;/BOTANICAL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ZONE&gt;4&lt;/ZON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LIGHT&gt;Mostly Shady&lt;/LIGH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RICE unit="dollar"&gt;$2.44&lt;/PRIC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AVAILABILITY&gt;031599&lt;/AVAILABILITY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PLAN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Nommer et réutiliser une partie du sché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716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xicon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mlns="http://igm.univ-mlv.fr/~laporte/jardinerie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entry&gt;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!-- pour traduire un noeud texte --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en&gt;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root&lt;/e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r&gt;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guinaire du Canada&lt;/f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entr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element&gt;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!-- pour traduire un nom d'élément --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en&gt;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ALOG&lt;/e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r&gt;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alogue&lt;/f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elemen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elemen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en&gt;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T&lt;/e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r&gt;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te&lt;/f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attribu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en&gt;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mily&lt;/e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r&gt;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mille&lt;/f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attribu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elemen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Nommer et réutiliser une partie du sché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lexic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mlns:xsi="http://www.w3.org/2001/XMLSchema-instance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si:schemaLocation="http://igm.univ-mlv.fr/~laporte/jardin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gm.univ-mlv.fr/~laporte/xml/schema/jardinerieGroup.xsd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mlns="http://igm.univ-mlv.fr/~laporte/jardinerie"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entry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en&gt;Bloodroot&lt;/en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r&gt;Sanguinaire du Canada&lt;/fr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entry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n-tête du document c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?xml version="1.0" encoding="ISO-8859-1"?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!-- plantCatalogNS.xml - avec espace de noms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CATALOG xmlns:xsi="http://www.w3.org/2001/XMLSchema-instance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si:schemaLocation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http://igm.univ-mlv.fr/~laporte/jardine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gm.univ-mlv.fr/~laporte/xml/schema/jardinerie0.xsd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mlns="http://igm.univ-mlv.fr/~laporte/jardineri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LA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Nommer et réutiliser une partie du sché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name="lexicon" type="jrd:typeLexicon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name="entry" type="jrd:typeEntry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name="element" type="jrd:typeElement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name="attribut" type="jrd:typeEntry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complexType name="typeLexicon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choice minOccurs="0" maxOccurs="unbounded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entry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element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choi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complexTy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Nommer et réutiliser une partie du sché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complexType name="typeEntry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group ref="jrd:en-fr"/&gt;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!-- pas de noeud en-fr dans lexicon 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complexTy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complexType name="typeElement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sequ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group ref="jrd:en-fr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minOccurs="0" ref="jrd:attribut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sequ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complexTy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group name="en-fr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al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name="en" type="s:string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name="fr" type="s:string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al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grou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&lt;s:grou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férenc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à un groupe est équivalente à une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ie du contenu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déclaration du grou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 permet pas de contourner les restrictions sur &lt;s:all&gt; et sur les "non-deterministic content model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&lt;s:attributeGrou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complexType name="typePLANT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sequ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COMMON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BOTANICAL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ZONE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LIGHT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PRICE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AVAILABILITY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sequ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attributeGroup ref="jrd:systematics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complexTy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attributeGroup name="systematics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attribute name="family" type="s:string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attribute name="order" type="s:string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attributeGrou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utoriser des noeuds tex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complexType name="typeCATALOG"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xed="true"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!-- autorise des noeuds texte comme fils de CATALOG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minOccurs="0" maxOccurs="unbounded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="jrd:PLANT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complexType name="typePLAN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rivation des types complexes (1/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complexType name="typePLANT"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all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COMMON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BOTANICAL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ZONE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LIGHT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PRICE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AVAILABILITY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all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attribute name="family" type="s:string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complexTyp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veut faire une variante plus stricte (un type dérivé </a:t>
            </a: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s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ns le type de bas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09120" y="609120"/>
            <a:ext cx="80773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complexType </a:t>
            </a: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="typePLANTstrict"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complexConten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restriction base="jrd:typePLANT"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sequence&gt;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!-- plus strict que all --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COMMON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BOTANICAL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ZONE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LIGHT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PRICE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AVAILABILITY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sequenc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attribute name="family" type="s:string" </a:t>
            </a: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="required"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restriction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complexConten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complexTyp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rivation des types complexes (3/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définit complètement le type dériv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ption : si on ne redéfinit pas les attributs, ils sont conservés automatiqu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lidateur vérifie que le type dérivé est inclus dans le type de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ut sous-arbre qui satisfait au type dérivé doit satisfaire aussi au type de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rivation des types complexes (4/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veut avoir deux variantes de typePLANT, une avec moins d'infor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LANT family="Papaveraceae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COMMON&gt;Bloodroot&lt;/COMMO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BOTANICAL&gt;Sanguinaria canadensis&lt;/BOTANICA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ZONE&gt;4&lt;/ZON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PLA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 l'autre complè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rivation des types complexes (5/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complexType name="typePLAN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al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COMMON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BOTANICAL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ZONE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al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attribute name="family" type="s:string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&lt;s:schema&gt;, &lt;s:elemen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?xml version="1.0" encoding="ISO-8859-1" ?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!-- Premier schéma XML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schema xmlns:s="http://www.w3.org/2001/XMLSchema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Namespace="http://igm.univ-mlv.fr/~laporte/jardinerie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name="CATALOG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name="lexicon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name="invoice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rivation des types complexes (6/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complexType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="typePLANTextended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complexCont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xtension base="jrd:typePLAN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all&gt;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!-- ces champs seront ajoutés à la fin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LIGHT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PRICE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ref="jrd:AVAILABILITY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al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extensio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complexCont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rivation des types complexes (7/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joute des informations à la f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re en premier les informations qui peuvent être communes à d'autres obj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'est pas le contraire de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rivation des types complexes (8/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43960" y="2276640"/>
            <a:ext cx="2062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: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70160" y="3716280"/>
            <a:ext cx="24026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: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:complex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32720" y="5661000"/>
            <a:ext cx="1295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tio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4" idx="1"/>
            <a:endCxn id="144" idx="3"/>
          </p:cNvCxnSpPr>
          <p:nvPr/>
        </p:nvCxnSpPr>
        <p:spPr>
          <a:xfrm flipH="1" flipV="1" rot="10800000">
            <a:off x="5866920" y="4132080"/>
            <a:ext cx="2409120" cy="2160"/>
          </a:xfrm>
          <a:prstGeom prst="curvedConnector5">
            <a:avLst>
              <a:gd name="adj1" fmla="val -9490"/>
              <a:gd name="adj2" fmla="val 43040000"/>
              <a:gd name="adj3" fmla="val -9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3" idx="2"/>
            <a:endCxn id="144" idx="0"/>
          </p:cNvCxnSpPr>
          <p:nvPr/>
        </p:nvCxnSpPr>
        <p:spPr>
          <a:xfrm>
            <a:off x="6975000" y="2742840"/>
            <a:ext cx="97560" cy="97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7020000" y="2852640"/>
            <a:ext cx="1295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tio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claration globale &lt;s:elemen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name="..."&gt; fils de &lt;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que qu'un élé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eut être à la racine des documents c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oit appartenir à l'espace de noms c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l'élément racine du document cible ne correspond à aucune déclaration globale, le validateur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 vérifie pa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syntaxe et produit le messag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ation was l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mple : le nom de l'élément racine correspond, mais pas l'espace de n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as où l'élément racine du document cible n'appartient pas à un espace de n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21333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document cible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e schéma XML doivent en tenir comp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le document cibl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si:noNamespaceSchemaLocation="http://...xsd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le schéma XML (schéma caméléon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 pas mettre d'attribut targetName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:schema xmlns:xs="http://www.w3.org/2001/XMLSchema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n-tête du document c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?xml version="1.0" encoding="ISO-8859-1"?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!-- plantCatalogNNS.xml - sans espace de noms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CATALOG xmlns:xsi="http://www.w3.org/2001/XMLSchema-instance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si:noNamespaceSchemaLocation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http://igm.univ-mlv.fr/~laporte/xml/schema/jardinerie1.xsd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!-- pas d'espace de noms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LA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chéma XML sans espace de noms cib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(schéma camélé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?xml version="1.0" encoding="ISO-8859-1" ?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!-- jardinerie1.xsd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schema xmlns:s="http://www.w3.org/2001/XMLSchema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name="CATALOG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name="lexicon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:element name="invoice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0T17:05:44Z</dcterms:created>
  <dc:creator>laporte</dc:creator>
  <dc:description/>
  <dc:language>en-US</dc:language>
  <cp:lastModifiedBy>laporte</cp:lastModifiedBy>
  <dcterms:modified xsi:type="dcterms:W3CDTF">2007-11-18T11:45:06Z</dcterms:modified>
  <cp:revision>675</cp:revision>
  <dc:subject/>
  <dc:title>Situer son travail de recherche</dc:title>
</cp:coreProperties>
</file>