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72F0-9FE5-41C7-B7DC-03B0A49E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19DB-8D87-4A21-8CBB-1ED8E661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64E-8C54-47FD-B8C5-8B51FF40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F34-2178-42D9-A6B6-2472D8D9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092-E235-4DBD-9F4C-4F1AB275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BAB6-C475-46B0-997A-D5AD5885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75D-51A3-44BD-B4A2-9DAA1E99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D8E-319B-4FF8-9C6B-D28883EE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6A09-E938-428D-A74C-94C5987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DA69-9693-4ABD-951E-665B6171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0703-5BDA-4536-9C92-0A94E312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9426-044F-4327-AA45-129159A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CCAC-4EA2-4603-8C59-DCD56B9A2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alistapart.com/articles/betterliving" TargetMode="External"/><Relationship Id="rId2" Type="http://schemas.openxmlformats.org/officeDocument/2006/relationships/hyperlink" Target="http://alistapart.com/articles/betterliving" TargetMode="External"/><Relationship Id="rId3" Type="http://schemas.openxmlformats.org/officeDocument/2006/relationships/hyperlink" Target="http://alistapart.com/articles/betterliving" TargetMode="External"/><Relationship Id="rId4" Type="http://schemas.openxmlformats.org/officeDocument/2006/relationships/hyperlink" Target="http://alistapart.com/articles/betterliving" TargetMode="External"/><Relationship Id="rId5" Type="http://schemas.openxmlformats.org/officeDocument/2006/relationships/hyperlink" Target="http://www.nypl.org/styleguide/" TargetMode="External"/><Relationship Id="rId6" Type="http://schemas.openxmlformats.org/officeDocument/2006/relationships/hyperlink" Target="http://www.nypl.org/styleguide/xhtml/benefits.html" TargetMode="External"/><Relationship Id="rId7" Type="http://schemas.openxmlformats.org/officeDocument/2006/relationships/hyperlink" Target="http://www.nypl.org/styleguide/xhtml/guidelines.html" TargetMode="External"/><Relationship Id="rId8" Type="http://schemas.openxmlformats.org/officeDocument/2006/relationships/hyperlink" Target="http://www.nypl.org/styleguide/" TargetMode="External"/><Relationship Id="rId9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catalogu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document('plant_catalog.xml')/CATALOG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parZones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="PLANT" 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catalog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('parZones', $zone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"parNomSc" match="PLANT" use="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homonymes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key('parNomSc', BOTANICAL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homonymes[not(. is current())]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utres tests d'égalité entre noe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143000"/>
            <a:ext cx="76964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($noeud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voie un identifiant de $noeu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une même exécution du programme XSL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e noeud a toujours le même identif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eux noeuds distincts ont deux identifiants distin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lusieurs noeuds passés en paramètre, renvoie l'identifiant du prem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($noeud1)=generate-id($noeu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($noeud1 | $noeud2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($noeud | $ensNoeuds) = count($ensNoeu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si $noeud appartient à $ens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"parNomSc" match="PLANT" use="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homonymes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key('parNomSc', BOTANICAL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id" select="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urrent()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homonymes[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-id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) != $id]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Edited with XML Spy v4.2 --&gt;&lt;CATALO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/&gt;Bloodr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/&gt;Sanguinaria canaden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/&gt;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/&gt;Mostly Sh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/&gt;$2.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/&gt;0315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/&gt;Colum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/&gt;Aquilegia canaden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/&gt;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/&gt;Mostly Shad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/&gt;$9.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/&gt;0306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3480" y="328464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3427560"/>
            <a:ext cx="1224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1413000"/>
            <a:ext cx="172692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ATA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6" idx="2"/>
            <a:endCxn id="95" idx="0"/>
          </p:cNvCxnSpPr>
          <p:nvPr/>
        </p:nvCxnSpPr>
        <p:spPr>
          <a:xfrm flipH="1">
            <a:off x="1080360" y="1844280"/>
            <a:ext cx="284220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212400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2"/>
            <a:endCxn id="98" idx="0"/>
          </p:cNvCxnSpPr>
          <p:nvPr/>
        </p:nvCxnSpPr>
        <p:spPr>
          <a:xfrm flipH="1">
            <a:off x="2231640" y="1844280"/>
            <a:ext cx="169128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62728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2735280" y="1844280"/>
            <a:ext cx="11876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320364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>
            <a:stCxn id="96" idx="2"/>
            <a:endCxn id="102" idx="0"/>
          </p:cNvCxnSpPr>
          <p:nvPr/>
        </p:nvCxnSpPr>
        <p:spPr>
          <a:xfrm flipH="1">
            <a:off x="3310920" y="1844280"/>
            <a:ext cx="6116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3924360" y="3427560"/>
            <a:ext cx="1224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96" idx="2"/>
            <a:endCxn id="104" idx="0"/>
          </p:cNvCxnSpPr>
          <p:nvPr/>
        </p:nvCxnSpPr>
        <p:spPr>
          <a:xfrm>
            <a:off x="3922200" y="1844280"/>
            <a:ext cx="6152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558000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96" idx="2"/>
            <a:endCxn id="106" idx="0"/>
          </p:cNvCxnSpPr>
          <p:nvPr/>
        </p:nvCxnSpPr>
        <p:spPr>
          <a:xfrm>
            <a:off x="3922560" y="1844280"/>
            <a:ext cx="176616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608328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96" idx="2"/>
            <a:endCxn id="108" idx="0"/>
          </p:cNvCxnSpPr>
          <p:nvPr/>
        </p:nvCxnSpPr>
        <p:spPr>
          <a:xfrm>
            <a:off x="3922560" y="1844280"/>
            <a:ext cx="226944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6659640" y="3427560"/>
            <a:ext cx="21600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96" idx="2"/>
            <a:endCxn id="110" idx="0"/>
          </p:cNvCxnSpPr>
          <p:nvPr/>
        </p:nvCxnSpPr>
        <p:spPr>
          <a:xfrm>
            <a:off x="3922200" y="1844280"/>
            <a:ext cx="284580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7236000" y="3427560"/>
            <a:ext cx="12236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96" idx="2"/>
            <a:endCxn id="112" idx="0"/>
          </p:cNvCxnSpPr>
          <p:nvPr/>
        </p:nvCxnSpPr>
        <p:spPr>
          <a:xfrm>
            <a:off x="3922560" y="1844280"/>
            <a:ext cx="3926880" cy="158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96" idx="1"/>
            <a:endCxn id="95" idx="0"/>
          </p:cNvCxnSpPr>
          <p:nvPr/>
        </p:nvCxnSpPr>
        <p:spPr>
          <a:xfrm flipV="1" rot="10800000">
            <a:off x="1080360" y="1627560"/>
            <a:ext cx="1978560" cy="1799640"/>
          </a:xfrm>
          <a:prstGeom prst="curvedConnector2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15" name=""/>
          <p:cNvCxnSpPr>
            <a:stCxn id="116" idx="3"/>
            <a:endCxn id="117" idx="0"/>
          </p:cNvCxnSpPr>
          <p:nvPr/>
        </p:nvCxnSpPr>
        <p:spPr>
          <a:xfrm>
            <a:off x="1509840" y="4506480"/>
            <a:ext cx="1040400" cy="578520"/>
          </a:xfrm>
          <a:prstGeom prst="curvedConnector2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972000" y="42782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1280" y="5084640"/>
            <a:ext cx="99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oe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dex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95" idx="3"/>
            <a:endCxn id="98" idx="0"/>
          </p:cNvCxnSpPr>
          <p:nvPr/>
        </p:nvCxnSpPr>
        <p:spPr>
          <a:xfrm flipV="1">
            <a:off x="1692000" y="3426840"/>
            <a:ext cx="540360" cy="216360"/>
          </a:xfrm>
          <a:prstGeom prst="curvedConnector5">
            <a:avLst>
              <a:gd name="adj1" fmla="val 40000"/>
              <a:gd name="adj2" fmla="val 102833"/>
              <a:gd name="adj3" fmla="val 4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100" idx="0"/>
          </p:cNvCxnSpPr>
          <p:nvPr/>
        </p:nvCxnSpPr>
        <p:spPr>
          <a:xfrm flipV="1">
            <a:off x="1692000" y="3426840"/>
            <a:ext cx="1043640" cy="216360"/>
          </a:xfrm>
          <a:prstGeom prst="curvedConnector5">
            <a:avLst>
              <a:gd name="adj1" fmla="val 44720"/>
              <a:gd name="adj2" fmla="val 102833"/>
              <a:gd name="adj3" fmla="val 4472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0" name=""/>
          <p:cNvCxnSpPr>
            <a:stCxn id="95" idx="3"/>
            <a:endCxn id="102" idx="0"/>
          </p:cNvCxnSpPr>
          <p:nvPr/>
        </p:nvCxnSpPr>
        <p:spPr>
          <a:xfrm flipV="1">
            <a:off x="1692360" y="3426840"/>
            <a:ext cx="1620000" cy="216360"/>
          </a:xfrm>
          <a:prstGeom prst="curvedConnector5">
            <a:avLst>
              <a:gd name="adj1" fmla="val 46654"/>
              <a:gd name="adj2" fmla="val 102833"/>
              <a:gd name="adj3" fmla="val 46654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1" name=""/>
          <p:cNvCxnSpPr>
            <a:stCxn id="96" idx="1"/>
            <a:endCxn id="104" idx="0"/>
          </p:cNvCxnSpPr>
          <p:nvPr/>
        </p:nvCxnSpPr>
        <p:spPr>
          <a:xfrm flipH="1" flipV="1" rot="10800000">
            <a:off x="3058200" y="1627560"/>
            <a:ext cx="1478520" cy="1799640"/>
          </a:xfrm>
          <a:prstGeom prst="curvedConnector5">
            <a:avLst>
              <a:gd name="adj1" fmla="val -15465"/>
              <a:gd name="adj2" fmla="val 28011"/>
              <a:gd name="adj3" fmla="val -15465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2" name=""/>
          <p:cNvCxnSpPr>
            <a:stCxn id="104" idx="3"/>
            <a:endCxn id="106" idx="0"/>
          </p:cNvCxnSpPr>
          <p:nvPr/>
        </p:nvCxnSpPr>
        <p:spPr>
          <a:xfrm flipV="1">
            <a:off x="5148000" y="3426840"/>
            <a:ext cx="540360" cy="216360"/>
          </a:xfrm>
          <a:prstGeom prst="curvedConnector5">
            <a:avLst>
              <a:gd name="adj1" fmla="val 40000"/>
              <a:gd name="adj2" fmla="val 102833"/>
              <a:gd name="adj3" fmla="val 4000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3" name=""/>
          <p:cNvCxnSpPr>
            <a:stCxn id="104" idx="3"/>
            <a:endCxn id="108" idx="0"/>
          </p:cNvCxnSpPr>
          <p:nvPr/>
        </p:nvCxnSpPr>
        <p:spPr>
          <a:xfrm flipV="1">
            <a:off x="5148000" y="3426840"/>
            <a:ext cx="1043640" cy="216360"/>
          </a:xfrm>
          <a:prstGeom prst="curvedConnector5">
            <a:avLst>
              <a:gd name="adj1" fmla="val 44720"/>
              <a:gd name="adj2" fmla="val 102833"/>
              <a:gd name="adj3" fmla="val 44720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4" name=""/>
          <p:cNvCxnSpPr>
            <a:stCxn id="104" idx="3"/>
            <a:endCxn id="110" idx="0"/>
          </p:cNvCxnSpPr>
          <p:nvPr/>
        </p:nvCxnSpPr>
        <p:spPr>
          <a:xfrm flipV="1">
            <a:off x="5148360" y="3426840"/>
            <a:ext cx="1620000" cy="216360"/>
          </a:xfrm>
          <a:prstGeom prst="curvedConnector5">
            <a:avLst>
              <a:gd name="adj1" fmla="val 46654"/>
              <a:gd name="adj2" fmla="val 102833"/>
              <a:gd name="adj3" fmla="val 46654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cxnSp>
        <p:nvCxnSpPr>
          <p:cNvPr id="125" name=""/>
          <p:cNvCxnSpPr>
            <a:stCxn id="96" idx="1"/>
            <a:endCxn id="112" idx="0"/>
          </p:cNvCxnSpPr>
          <p:nvPr/>
        </p:nvCxnSpPr>
        <p:spPr>
          <a:xfrm flipH="1" flipV="1" rot="10800000">
            <a:off x="3058920" y="1627560"/>
            <a:ext cx="4790160" cy="1799640"/>
          </a:xfrm>
          <a:prstGeom prst="curvedConnector5">
            <a:avLst>
              <a:gd name="adj1" fmla="val -4772"/>
              <a:gd name="adj2" fmla="val 28011"/>
              <a:gd name="adj3" fmla="val -4772"/>
            </a:avLst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3924360" y="450864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définir un indexeur de noeu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tiliser les liens de l'indexeur pour faire les liens père/fils de l'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fils" match="PLANT" use="generate-id(..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fi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="COMMON|BOTANICAL|ZONE|LIGHT|AVAILABILITY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="generate-id(preceding-sibling::PLANT[1]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ATALOG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key('fils', generate-id(.)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tructurer un document apl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key('fils', generate-id(.)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="COMMON|BOTANICAL|ZONE|LIGHT|AVAILABILIT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normalize-space(following-sibling::text()[1]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&lt;!-- Edited with XML Spy v4.2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ATALO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Columbine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Aquilegia canadens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3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06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1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Expressions Xpath : tests sur les noe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following-sibl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: PLANT </a:t>
            </a:r>
            <a:r>
              <a:rPr b="0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[position()=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ax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st sur les noeud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rédi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-sibling :: 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tex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commen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processing_instruction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str. de tra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-sibling :: 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-sibling :: 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lé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:: 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 :: uni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réviations dans les expressions X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CATALOG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LOG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tex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comment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rocessing-instruction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ocessing-instruction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:uni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::*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@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::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sultat avec zone=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2952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gne de comm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-jar saxon8.jar -o indexCle.xml modeleCatalogue.xml indexCle.xsl zone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ules les plantes de la zone 5 sont visualisées sur la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réviations dans les expressions X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::node(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*/descendant-or-self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/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escendant-or-self::node()/child::PLA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3213000"/>
            <a:ext cx="7417080" cy="26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ld::*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*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PLANT/child::*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PLANT/*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ent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..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ld::*[position()=last()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*[last(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Abréviations dans les expressions X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1447920"/>
            <a:ext cx="8458200" cy="48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::*/descendant-or-self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*/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escendant-or-self::node()/child::PLANT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//PLANT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ld::*/descendant-or-self::node()[position()=2]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*/descendant-or-self::node()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/descendant-or-self::node()[position()=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3333cc"/>
                </a:solidFill>
                <a:latin typeface="Times New Roman"/>
              </a:rPr>
              <a:t>/descendant-or-self::node()[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rouper par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4479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each-grou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="$catalogue/PLANT" group-by="ZON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ort select="ZON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able border="2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r&gt;&lt;td&gt;Zone &lt;xsl:value-of select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ing-key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"/&gt;&lt;/td&gt;&lt;/t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h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-grou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tr&gt;&lt;t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rouper par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14300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each-grou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lect="..." group-by="...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électionne les noeuds à grou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-b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électionne la clé de groupement : expression évaluée à partir de chacun des noeuds à grouper, puis convertie en valeur textu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ontenu de &lt;xsl:for-each-group&gt; est exécuté une fois par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ing-key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 contient la clé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-group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) contient l'ensemble des noeuds du groupe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rouper par z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143000"/>
            <a:ext cx="8077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 l'intérieur de &lt;xsl:for-each-group&gt;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e noeud courant est le premier noeud du groupe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'ensemble de noeuds courant contient le premier noeud de chaque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&lt;xsl:for-each-group&gt; contient &lt;xsl:sort&gt;, cela classe les groupes les uns par rapport aux au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noeud contexte dans le &lt;xsl:sort&gt; est le premier noeud de chaque grou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 à la fois les noms d'éléments et d'attributs et le tex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utiliser du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odulariser le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our les attrib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 un module pour le 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Tout.xsl (1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907920"/>
            <a:ext cx="79992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lexicon" select="document('lexicon.xml')/lexic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nclude href="localiserTexte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nclude href="localiserAttributs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nclude href="localiserElements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nom-eleme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all-template name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ocaliser-eleme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with-param name="original" select="local-nam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variab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element name="{$nom-element}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*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all-template name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ocaliser-tex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with-param name="original" select="text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eleme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Tout.xsl (2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node()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Elements.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="2.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name="localiser-eleme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param name="origin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$lexicon/element[en=$original]/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Attributs.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1371600"/>
            <a:ext cx="7999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="2.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match="@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attr-original" select="local-name(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elt-original" select="local-name(..)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elt" select="$lexicon/element[en=$elt-original]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ttribute name="{$elt/attribut[en=$attr-original]/fr}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." 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attribu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parZones" match="PLANT" 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 à placer hors des fo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e chaque noeud sélectionné (match) par une clé (u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élection pa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c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nctionne comme d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...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otif Xpa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('parZones', $z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voie l'ensemble des noeuds indexés par la clé $zone dans l'indexeur "parZone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lé peut indexer plusieurs noeu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ocaliserTexte.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371600"/>
            <a:ext cx="82864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ersion="2.0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template name="localiser-text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param name="origin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riable name="inLexicon" select="$lexicon/entry[en=$original]/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choo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when test="$inLexic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$inLexic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wh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value-of select="$origin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choo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1371600"/>
            <a:ext cx="828648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partir un programme en plusieurs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utiliser du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Pas d'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lits entre fonctions appelées par noeuds : comme si les fonctions étaient dans le même module (si une est plus spécifique que toutes les autres, elle a la priorité, sinon c'est une erreu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flits entre fonctions appelées par nom : ne pas définir deux fonctions avec le même 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modules doivent être construits et maintenus ense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espaces de noms doivent être déclarés dans chaque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r les occurrences d'un m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ien de fois figure le mot XHTML dans un text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è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re à jour un compteur dans une it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 de mise à jour de variables en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: un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ègle nommé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écur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paramètres de la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èg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ennent une nouvelle valeur à chaque app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765000"/>
            <a:ext cx="8286480" cy="57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str:count-substring"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text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chars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hoo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hen test="string-length($text) = 0 or string-length($chars) = 0"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xt&gt;0&lt;/xsl:text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when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hen test="contains($text, $chars)"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remaining"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all-template 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str:count-substring"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text" select="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ring-after($text, $chars)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chars" select="$chars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all-templat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variabl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</a:t>
            </a:r>
            <a:r>
              <a:rPr b="1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remaining + 1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when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476280"/>
            <a:ext cx="790236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otherwi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xt&gt;0&lt;/xsl:text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otherwi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hoos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compte xmlns:str="http://xsltsl.org/string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mlns:xhtml="http://www.w3.org/1999/xhtml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41&lt;/comp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nommées récur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371600"/>
            <a:ext cx="8215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nt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rmina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 chaque appel récursif, la taille de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dim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as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e contient pa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404640"/>
            <a:ext cx="821520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ontie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tr:count-substring("XHTML XHTML", "XHTM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str:count-substring(" XHTML", "XHTM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tr:count-substring("", "XHTML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Utilisation d'une pile d'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nommées récursives term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371600"/>
            <a:ext cx="8215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, comptePart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contien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no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Appel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hars, 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404640"/>
            <a:ext cx="8215200" cy="58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 =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ou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est v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si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000" spc="-1" strike="noStrike">
                <a:solidFill>
                  <a:srgbClr val="000000"/>
                </a:solidFill>
                <a:latin typeface="Times New Roman"/>
              </a:rPr>
              <a:t>contient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lor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str:count-substrin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substring-after(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tex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har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non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ompteParti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str:count-substring("XHTML XHTML", "XHTML", 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str:count-substring(" XHTML", "XHTML",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t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tr:count-substring("", "XHTML",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fr-FR" sz="2000" spc="-1" strike="noStrike">
                <a:solidFill>
                  <a:srgbClr val="3333cc"/>
                </a:solidFill>
                <a:latin typeface="Times New Roman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=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e processeur XSLT peut supprimer la pile d'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676520"/>
            <a:ext cx="8458200" cy="27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xsl:key name="parZones" match="PLANT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'expression dans l'attribu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us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ermet d'accéder aux clés à partir d'un noeud indexé (pour définir les c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'indexeur permet d'accéder aux noeuds indexés à partir d'une c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T Standard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4360" y="137160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ibliothèque de règles XSLT version 1.0 réutili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http://xsltsl.sourceforge.ne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9 fich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ylesheet version="2.0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mlns:xsl="http://www.w3.org/1999/XSL/Transfor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xmlns:str="http://xsltsl.org/strin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mlns:xhtml="http://www.w3.org/1999/xhtml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&lt;xsl:import href="/xsltsl-1.2.1/string.xs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output method="xml" indent="yes" encoding="ISO-8859-1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strip-space elements="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clarer les espaces de noms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er les modules utilis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T Standard Libr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137160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/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comp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variable name="compte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 select="//xhtml:p/text()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tex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call-template name="str:count-substring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with-param name="text" select=".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with-param name="chars" select="'XHTML'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/xsl:call-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tex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variab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value-of select="sum($comptes/text)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comp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mport : héritage avec redé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4360" y="1371600"/>
            <a:ext cx="7848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Redéfinition de règles nommé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importée dans un modul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peut avoir le même nom qu'une règle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ans ce cas la règle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 priorité sur la règle impor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 même pour l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Conflits entre règles appelées par noe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 une règle importée da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et une autre définie dan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sont applicables au même noeud, celle d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a priorité sur la règle import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mport : prior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96960" y="2925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4760" y="2925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13716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'arbre des importations de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98560" y="3360240"/>
            <a:ext cx="16574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A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2855160"/>
            <a:ext cx="158400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B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56000" y="4944600"/>
            <a:ext cx="1511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C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mport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38920" y="2495520"/>
            <a:ext cx="151128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D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3503520"/>
            <a:ext cx="14400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!-- E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de d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0" idx="3"/>
            <a:endCxn id="241" idx="1"/>
          </p:cNvCxnSpPr>
          <p:nvPr/>
        </p:nvCxnSpPr>
        <p:spPr>
          <a:xfrm flipV="1">
            <a:off x="2556000" y="3633480"/>
            <a:ext cx="1224720" cy="505440"/>
          </a:xfrm>
          <a:prstGeom prst="curvedConnector5">
            <a:avLst>
              <a:gd name="adj1" fmla="val 49926"/>
              <a:gd name="adj2" fmla="val 49964"/>
              <a:gd name="adj3" fmla="val 49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0" idx="3"/>
            <a:endCxn id="242" idx="1"/>
          </p:cNvCxnSpPr>
          <p:nvPr/>
        </p:nvCxnSpPr>
        <p:spPr>
          <a:xfrm>
            <a:off x="2556000" y="4138560"/>
            <a:ext cx="1800720" cy="1402560"/>
          </a:xfrm>
          <a:prstGeom prst="curvedConnector5">
            <a:avLst>
              <a:gd name="adj1" fmla="val 49990"/>
              <a:gd name="adj2" fmla="val 49987"/>
              <a:gd name="adj3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1" idx="3"/>
            <a:endCxn id="243" idx="1"/>
          </p:cNvCxnSpPr>
          <p:nvPr/>
        </p:nvCxnSpPr>
        <p:spPr>
          <a:xfrm flipV="1">
            <a:off x="5363640" y="2907720"/>
            <a:ext cx="575640" cy="7261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8" name=""/>
          <p:cNvCxnSpPr>
            <a:stCxn id="241" idx="3"/>
            <a:endCxn id="244" idx="1"/>
          </p:cNvCxnSpPr>
          <p:nvPr/>
        </p:nvCxnSpPr>
        <p:spPr>
          <a:xfrm>
            <a:off x="5363640" y="3633480"/>
            <a:ext cx="1585080" cy="283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9" name=""/>
          <p:cNvCxnSpPr>
            <a:stCxn id="242" idx="3"/>
            <a:endCxn id="244" idx="1"/>
          </p:cNvCxnSpPr>
          <p:nvPr/>
        </p:nvCxnSpPr>
        <p:spPr>
          <a:xfrm flipV="1">
            <a:off x="5866920" y="3915720"/>
            <a:ext cx="1081800" cy="1624680"/>
          </a:xfrm>
          <a:prstGeom prst="curvedConnector5">
            <a:avLst>
              <a:gd name="adj1" fmla="val 49900"/>
              <a:gd name="adj2" fmla="val 50000"/>
              <a:gd name="adj3" fmla="val 499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import : priori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4360" y="1371600"/>
            <a:ext cx="7848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'arbre des impor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67480" y="2946600"/>
            <a:ext cx="4003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00640" y="2281680"/>
            <a:ext cx="383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219920" y="3434040"/>
            <a:ext cx="383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88640" y="1921320"/>
            <a:ext cx="4003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51560" y="2857680"/>
            <a:ext cx="366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2" idx="3"/>
            <a:endCxn id="253" idx="1"/>
          </p:cNvCxnSpPr>
          <p:nvPr/>
        </p:nvCxnSpPr>
        <p:spPr>
          <a:xfrm flipV="1">
            <a:off x="2476440" y="2511360"/>
            <a:ext cx="1016640" cy="665640"/>
          </a:xfrm>
          <a:prstGeom prst="curvedConnector5">
            <a:avLst>
              <a:gd name="adj1" fmla="val 49982"/>
              <a:gd name="adj2" fmla="val 50000"/>
              <a:gd name="adj3" fmla="val 49982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8" name=""/>
          <p:cNvCxnSpPr>
            <a:stCxn id="253" idx="3"/>
            <a:endCxn id="255" idx="1"/>
          </p:cNvCxnSpPr>
          <p:nvPr/>
        </p:nvCxnSpPr>
        <p:spPr>
          <a:xfrm flipV="1">
            <a:off x="3892320" y="2150280"/>
            <a:ext cx="1688040" cy="361080"/>
          </a:xfrm>
          <a:prstGeom prst="curvedConnector5">
            <a:avLst>
              <a:gd name="adj1" fmla="val 49936"/>
              <a:gd name="adj2" fmla="val 50000"/>
              <a:gd name="adj3" fmla="val 49936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2" idx="3"/>
            <a:endCxn id="254" idx="1"/>
          </p:cNvCxnSpPr>
          <p:nvPr/>
        </p:nvCxnSpPr>
        <p:spPr>
          <a:xfrm>
            <a:off x="2476440" y="3176640"/>
            <a:ext cx="1735920" cy="488160"/>
          </a:xfrm>
          <a:prstGeom prst="curvedConnector5">
            <a:avLst>
              <a:gd name="adj1" fmla="val 49948"/>
              <a:gd name="adj2" fmla="val 49963"/>
              <a:gd name="adj3" fmla="val 4994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54" idx="3"/>
            <a:endCxn id="256" idx="1"/>
          </p:cNvCxnSpPr>
          <p:nvPr/>
        </p:nvCxnSpPr>
        <p:spPr>
          <a:xfrm flipV="1">
            <a:off x="4611240" y="3087000"/>
            <a:ext cx="1832760" cy="577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3" idx="3"/>
            <a:endCxn id="256" idx="1"/>
          </p:cNvCxnSpPr>
          <p:nvPr/>
        </p:nvCxnSpPr>
        <p:spPr>
          <a:xfrm>
            <a:off x="3892680" y="2511000"/>
            <a:ext cx="2551680" cy="577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765440" y="3213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709800" y="3573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797440" y="3068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33440" y="25653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78160" y="285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78160" y="213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4221000"/>
            <a:ext cx="51847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inéarisation en ordre de prior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88000" y="5013360"/>
            <a:ext cx="360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 importe E, mais E a priorité su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xsl:import : héritage avec complé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4360" y="1371600"/>
            <a:ext cx="7848360" cy="48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template match="@*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message&gt;Début traitement attribut&lt;/xsl: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apply-imports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xsl:message&gt;Fin traitement attribut&lt;/xsl:messag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xsl:apply-im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ur appliquer une règle importée à la place de la règ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obtient une variante de la règle importée, avec des instructions supplémentaires avant ou aprè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péter une opé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143000"/>
            <a:ext cx="81536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name="lign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longueu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document('')//node()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if test="position()&amp;lt;$longueur"&gt;*&lt;/xsl:i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br/&gt;**********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Technique d'itération de Pi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989000"/>
            <a:ext cx="8001000" cy="40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('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ocument qui contient le programme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('')//nod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nsemble des noeuds du programme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én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on perd le noeud courant pendant l'ité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ug si le document XSLT n'a pas assez de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our vérifier : count(document('')//node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uméroter des ob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ire une liste numérotée des liens hypertextes vers http://www.nypl.org dans BetterLiving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Better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Living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hrough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XHTML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rized companion to the Online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Style Gui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the Branch Libraries of Th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rings web pages many of XML’s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benefit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, as enumerated by the Online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to do so. You can learn the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rul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XHTML faster than Domino’s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... eady done so, read the Online </a:t>
            </a:r>
            <a:r>
              <a:rPr b="0" lang="fr-FR" sz="24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Style Guid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of the Branch Libraries of Th 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uméroter des obj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xhtml:p/xhtml:a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tro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number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xhtml:div[@id='articletext']//xhtml:p/xhtml:a[starts-with(@href,'http://www.nypl.org')]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any"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trong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xt&gt; ... &lt;/xsl:text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leftContext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preceding-sibling::text()[1]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substring($leftContext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-length($leftContext)-29,30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catalogu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key('parZones', $zone)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indexation est réalisée avec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ocument XML qui contient le noeud courant au moment de l'appel de key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on supprime le for-each, l'indexation est réalisée avec le document XHTML et elle ne marche 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1371600"/>
            <a:ext cx="7902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n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"xhtml:div[@id='articletext']//xhtml:p/xhtml:a[starts-with(@href,'http://www.nypl.org')]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any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te des noeuds et donne le numéro du noeud co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lectionne quels noeuds sont comp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f Xpath (comme l'attribut match de xsl:template ou xsl:k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 : les éléments de même nom que l'élément cour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any" : une numérotation pour tout l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single" : une numérotation distincte pour chaque groupe de noeuds fr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1371600"/>
            <a:ext cx="7902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vel="multiple" : numérotation à plusieurs niveaux (ex. 3.2.5.) : à chaque niveau, parmi les frè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from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culta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ne un motif Xpath qui réinitialise la numérotation à 1 à chaque noeud qui concorde avec le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format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culta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A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*** 1 ***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1.1.1.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I." (chiffres romai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 : "1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 val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acultati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ce cas le numéro est la valeur de cet attribut, au lieu d'être calculé en comptant des noe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1371600"/>
            <a:ext cx="80769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 4, selectionListe.xs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[COMMON=$plant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omparer deux ensembles de noeuds, on convertit les noeuds en chaînes puis on regarde 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es chaîn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gauche est égale à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es chaîn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dro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 4, localiser.xsl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lexicon/entry[en=$text]/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844640"/>
            <a:ext cx="807696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xCle.xs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key name="parZones" match="PLANT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="ZONE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valeur de l'attribut use est un ensemble de noeuds, elle est convertie en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de chaî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Indexer des noeuds par des c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me="parNomSc" match="PLANT" use="BOTANICAL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homonymes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'parNomSc', BOTANICAL)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$homonymes[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!= current()/COMMON]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seeAlso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1430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Marsh Marigold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Caltha palustr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unn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6.81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517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Cowslip&lt;/seeAls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Cowslip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Caltha palustr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9.90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06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seeAlso&gt;Marsh Marigold&lt;/seeAlso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Test d'égalité entre noeu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143000"/>
            <a:ext cx="7696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noeud1 = $noeu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valeurs textuelles, non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noeud1 is $noeu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e l'égalité des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condition : aucun des opérandes ne doit conteni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sieur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7:05:44Z</dcterms:created>
  <dc:creator>laporte</dc:creator>
  <dc:description/>
  <dc:language>en-US</dc:language>
  <cp:lastModifiedBy>laporte</cp:lastModifiedBy>
  <dcterms:modified xsi:type="dcterms:W3CDTF">2007-11-02T16:52:59Z</dcterms:modified>
  <cp:revision>924</cp:revision>
  <dc:subject/>
  <dc:title>Situer son travail de recherche</dc:title>
</cp:coreProperties>
</file>