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01D-CCFE-44C0-8C4E-5D25AA17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247-9DE5-4527-BE11-B1EA00CF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BA5F-83A2-4EB9-B244-B37E4B4E6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638-2BEE-491C-B129-0C51C6FCE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C1F0-4CC3-4796-8695-9D351F9C3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093B-16BF-4A5C-8965-ED67190B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A31-7C2F-4B30-8764-480F4BE3D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EE5D-C19D-42F8-A490-B433F885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F18-D2E2-4DAA-9173-994F165B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3D1-388E-402F-B7AF-4A8DA0A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DCD-83FC-49BA-B0CD-C64836F5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4533-6D6B-419C-A6FC-54ECA907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843-704D-4DEF-961E-80F73C688E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alistapart.com/articles/betterliving" TargetMode="External"/><Relationship Id="rId2" Type="http://schemas.openxmlformats.org/officeDocument/2006/relationships/hyperlink" Target="http://alistapart.com/articles/betterliving" TargetMode="External"/><Relationship Id="rId3" Type="http://schemas.openxmlformats.org/officeDocument/2006/relationships/hyperlink" Target="http://alistapart.com/articles/betterliving" TargetMode="External"/><Relationship Id="rId4" Type="http://schemas.openxmlformats.org/officeDocument/2006/relationships/hyperlink" Target="http://alistapart.com/articles/betterliving" TargetMode="External"/><Relationship Id="rId5" Type="http://schemas.openxmlformats.org/officeDocument/2006/relationships/hyperlink" Target="http://www.nypl.org/styleguide/" TargetMode="External"/><Relationship Id="rId6" Type="http://schemas.openxmlformats.org/officeDocument/2006/relationships/hyperlink" Target="http://www.nypl.org/styleguide/xhtml/benefits.html" TargetMode="External"/><Relationship Id="rId7" Type="http://schemas.openxmlformats.org/officeDocument/2006/relationships/hyperlink" Target="http://www.nypl.org/styleguide/xhtml/guidelines.html" TargetMode="External"/><Relationship Id="rId8" Type="http://schemas.openxmlformats.org/officeDocument/2006/relationships/hyperlink" Target="http://www.nypl.org/styleguide/" TargetMode="External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Fo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="2.0"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u=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igm.univ-mlv.fr/~laporte/xml/utiliti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:traduire(.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unction name="u:tradui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result select="$lexicon/entry[en=$text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un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xsl:attribute-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1143000"/>
            <a:ext cx="7696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 en dehors des fo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use-attribute-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avec espace de no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spécifier plusieurs noms de groupes d'attributs, séparés par des esp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ble avec xsl:element, xsl:copy, xsl:attribute-set (définitions circulaires interdit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un attribut est défini plusieurs fois, c'est la dernière définition qui s'appl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re d'attachement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xsl:use-attribute-s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tributs définis dans la balise entrante de l'élé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&lt;xsl:attribu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catalogu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plant_catalog.xml')/CATALO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parZones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PLANT" 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catalog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('parZones', $zone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 avec zone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ne de com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-jar saxon8.jar -o indexCle.xml modeleCatalogue.xml indexCle.xsl zone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ules les plantes de la zone 5 sont visualisées sur la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parZones" match="PLANT" 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 à placer hors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 chaque noeud sélectionné (match) par une clé (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lection pa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nctionne comme d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...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tif X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('parZones', $z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l'ensemble des noeuds indexés par la clé $zone dans l'indexeur "parZon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lé peut indexer plusieurs noeu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676520"/>
            <a:ext cx="84582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key name="parZones" match="PLANT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'expression dans l'attribu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ermet d'accéder aux clés à partir d'un noeud indexé (pour définir les c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'indexeur permet d'accéder aux noeuds indexés à partir d'une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88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catalog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parZones', $zone)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indexation est réalisée ave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ocument XML qui contient le noeud courant au moment de l'appel de ke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n supprime le for-each, l'indexation est réalisée avec le document XHTML et elle ne march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844640"/>
            <a:ext cx="80769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Cle.xs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parZones" match="PLANT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valeur de l'attribut use est un ensemble de noeuds, elle est convertie e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chaî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!= current()/COMMON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1430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Marsh Marigold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unn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6.81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517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Cowslip&lt;/seeAls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Cowslip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9.90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Marsh Marigold&lt;/seeAls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Test d'égalité entre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1143000"/>
            <a:ext cx="7696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noeud1 = $noeu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valeurs textuelles, non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noeud1 is $noeu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ondition : aucun des opérandes ne doit conteni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ieu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Fon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e expressio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u:traduire(.)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unction name="u:traduir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nom de fonction a obligatoirement un espace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key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not(. is current())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utres tests d'égalité entre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1143000"/>
            <a:ext cx="7696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($noeud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un identifiant de $noeu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e même exécution du programme XS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 noeud a toujours le même identif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ux noeuds distincts ont deux identifiants distin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lusieurs noeuds passés en paramètre, renvoie l'identifiant du prem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($noeud1)=generate-id($noeu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($noeud1 | $noeud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($noeud | $ensNoeuds) = count($ensNoeu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si $noeud appartient à $ens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key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id" select="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urrent()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!= $id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Edited with XML Spy v4.2 --&gt;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/&gt;Blood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/&gt;Sanguinaria canaden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/&gt;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/&gt;Mostly Sh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/&gt;$2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/&gt;031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/&gt;Colu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/&gt;Aquilegia canaden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/&g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/&gt;Mostly Sh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/&gt;$9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/&gt;0306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480" y="3284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8360" y="3427560"/>
            <a:ext cx="1224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1413000"/>
            <a:ext cx="172692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35" idx="2"/>
            <a:endCxn id="134" idx="0"/>
          </p:cNvCxnSpPr>
          <p:nvPr/>
        </p:nvCxnSpPr>
        <p:spPr>
          <a:xfrm flipH="1">
            <a:off x="1080360" y="1844280"/>
            <a:ext cx="284220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212400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5" idx="2"/>
            <a:endCxn id="137" idx="0"/>
          </p:cNvCxnSpPr>
          <p:nvPr/>
        </p:nvCxnSpPr>
        <p:spPr>
          <a:xfrm flipH="1">
            <a:off x="2231640" y="1844280"/>
            <a:ext cx="169128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9" name=""/>
          <p:cNvSpPr/>
          <p:nvPr/>
        </p:nvSpPr>
        <p:spPr>
          <a:xfrm>
            <a:off x="262728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5" idx="2"/>
            <a:endCxn id="139" idx="0"/>
          </p:cNvCxnSpPr>
          <p:nvPr/>
        </p:nvCxnSpPr>
        <p:spPr>
          <a:xfrm flipH="1">
            <a:off x="2735280" y="1844280"/>
            <a:ext cx="11876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320364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5" idx="2"/>
            <a:endCxn id="141" idx="0"/>
          </p:cNvCxnSpPr>
          <p:nvPr/>
        </p:nvCxnSpPr>
        <p:spPr>
          <a:xfrm flipH="1">
            <a:off x="3310920" y="1844280"/>
            <a:ext cx="6116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3924360" y="3427560"/>
            <a:ext cx="1224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35" idx="2"/>
            <a:endCxn id="143" idx="0"/>
          </p:cNvCxnSpPr>
          <p:nvPr/>
        </p:nvCxnSpPr>
        <p:spPr>
          <a:xfrm>
            <a:off x="3922200" y="1844280"/>
            <a:ext cx="6152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558000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35" idx="2"/>
            <a:endCxn id="145" idx="0"/>
          </p:cNvCxnSpPr>
          <p:nvPr/>
        </p:nvCxnSpPr>
        <p:spPr>
          <a:xfrm>
            <a:off x="3922560" y="1844280"/>
            <a:ext cx="176616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" name=""/>
          <p:cNvSpPr/>
          <p:nvPr/>
        </p:nvSpPr>
        <p:spPr>
          <a:xfrm>
            <a:off x="608328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5" idx="2"/>
            <a:endCxn id="147" idx="0"/>
          </p:cNvCxnSpPr>
          <p:nvPr/>
        </p:nvCxnSpPr>
        <p:spPr>
          <a:xfrm>
            <a:off x="3922560" y="1844280"/>
            <a:ext cx="22694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665964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35" idx="2"/>
            <a:endCxn id="149" idx="0"/>
          </p:cNvCxnSpPr>
          <p:nvPr/>
        </p:nvCxnSpPr>
        <p:spPr>
          <a:xfrm>
            <a:off x="3922200" y="1844280"/>
            <a:ext cx="284580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7236000" y="3427560"/>
            <a:ext cx="12236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35" idx="2"/>
            <a:endCxn id="151" idx="0"/>
          </p:cNvCxnSpPr>
          <p:nvPr/>
        </p:nvCxnSpPr>
        <p:spPr>
          <a:xfrm>
            <a:off x="3922560" y="1844280"/>
            <a:ext cx="392688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" name=""/>
          <p:cNvCxnSpPr>
            <a:stCxn id="135" idx="1"/>
            <a:endCxn id="134" idx="0"/>
          </p:cNvCxnSpPr>
          <p:nvPr/>
        </p:nvCxnSpPr>
        <p:spPr>
          <a:xfrm flipV="1" rot="10800000">
            <a:off x="1080360" y="1627560"/>
            <a:ext cx="1978560" cy="1799640"/>
          </a:xfrm>
          <a:prstGeom prst="curvedConnector2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4" name=""/>
          <p:cNvCxnSpPr>
            <a:stCxn id="155" idx="3"/>
            <a:endCxn id="156" idx="0"/>
          </p:cNvCxnSpPr>
          <p:nvPr/>
        </p:nvCxnSpPr>
        <p:spPr>
          <a:xfrm>
            <a:off x="1509840" y="4506480"/>
            <a:ext cx="1040400" cy="578520"/>
          </a:xfrm>
          <a:prstGeom prst="curvedConnector2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972000" y="42782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1280" y="508464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e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>
            <a:stCxn id="134" idx="3"/>
            <a:endCxn id="137" idx="0"/>
          </p:cNvCxnSpPr>
          <p:nvPr/>
        </p:nvCxnSpPr>
        <p:spPr>
          <a:xfrm flipV="1">
            <a:off x="1692000" y="3426840"/>
            <a:ext cx="540360" cy="216360"/>
          </a:xfrm>
          <a:prstGeom prst="curvedConnector5">
            <a:avLst>
              <a:gd name="adj1" fmla="val 40000"/>
              <a:gd name="adj2" fmla="val 102833"/>
              <a:gd name="adj3" fmla="val 4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8" name=""/>
          <p:cNvCxnSpPr>
            <a:stCxn id="134" idx="3"/>
            <a:endCxn id="139" idx="0"/>
          </p:cNvCxnSpPr>
          <p:nvPr/>
        </p:nvCxnSpPr>
        <p:spPr>
          <a:xfrm flipV="1">
            <a:off x="1692000" y="3426840"/>
            <a:ext cx="1043640" cy="216360"/>
          </a:xfrm>
          <a:prstGeom prst="curvedConnector5">
            <a:avLst>
              <a:gd name="adj1" fmla="val 44720"/>
              <a:gd name="adj2" fmla="val 102833"/>
              <a:gd name="adj3" fmla="val 4472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59" name=""/>
          <p:cNvCxnSpPr>
            <a:stCxn id="134" idx="3"/>
            <a:endCxn id="141" idx="0"/>
          </p:cNvCxnSpPr>
          <p:nvPr/>
        </p:nvCxnSpPr>
        <p:spPr>
          <a:xfrm flipV="1">
            <a:off x="1692360" y="3426840"/>
            <a:ext cx="1620000" cy="216360"/>
          </a:xfrm>
          <a:prstGeom prst="curvedConnector5">
            <a:avLst>
              <a:gd name="adj1" fmla="val 46654"/>
              <a:gd name="adj2" fmla="val 102833"/>
              <a:gd name="adj3" fmla="val 46654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60" name=""/>
          <p:cNvCxnSpPr>
            <a:stCxn id="135" idx="1"/>
            <a:endCxn id="143" idx="0"/>
          </p:cNvCxnSpPr>
          <p:nvPr/>
        </p:nvCxnSpPr>
        <p:spPr>
          <a:xfrm flipH="1" flipV="1" rot="10800000">
            <a:off x="3058200" y="1627560"/>
            <a:ext cx="1478520" cy="1799640"/>
          </a:xfrm>
          <a:prstGeom prst="curvedConnector5">
            <a:avLst>
              <a:gd name="adj1" fmla="val -15465"/>
              <a:gd name="adj2" fmla="val 28011"/>
              <a:gd name="adj3" fmla="val -1546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61" name=""/>
          <p:cNvCxnSpPr>
            <a:stCxn id="143" idx="3"/>
            <a:endCxn id="145" idx="0"/>
          </p:cNvCxnSpPr>
          <p:nvPr/>
        </p:nvCxnSpPr>
        <p:spPr>
          <a:xfrm flipV="1">
            <a:off x="5148000" y="3426840"/>
            <a:ext cx="540360" cy="216360"/>
          </a:xfrm>
          <a:prstGeom prst="curvedConnector5">
            <a:avLst>
              <a:gd name="adj1" fmla="val 40000"/>
              <a:gd name="adj2" fmla="val 102833"/>
              <a:gd name="adj3" fmla="val 4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62" name=""/>
          <p:cNvCxnSpPr>
            <a:stCxn id="143" idx="3"/>
            <a:endCxn id="147" idx="0"/>
          </p:cNvCxnSpPr>
          <p:nvPr/>
        </p:nvCxnSpPr>
        <p:spPr>
          <a:xfrm flipV="1">
            <a:off x="5148000" y="3426840"/>
            <a:ext cx="1043640" cy="216360"/>
          </a:xfrm>
          <a:prstGeom prst="curvedConnector5">
            <a:avLst>
              <a:gd name="adj1" fmla="val 44720"/>
              <a:gd name="adj2" fmla="val 102833"/>
              <a:gd name="adj3" fmla="val 4472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63" name=""/>
          <p:cNvCxnSpPr>
            <a:stCxn id="143" idx="3"/>
            <a:endCxn id="149" idx="0"/>
          </p:cNvCxnSpPr>
          <p:nvPr/>
        </p:nvCxnSpPr>
        <p:spPr>
          <a:xfrm flipV="1">
            <a:off x="5148360" y="3426840"/>
            <a:ext cx="1620000" cy="216360"/>
          </a:xfrm>
          <a:prstGeom prst="curvedConnector5">
            <a:avLst>
              <a:gd name="adj1" fmla="val 46654"/>
              <a:gd name="adj2" fmla="val 102833"/>
              <a:gd name="adj3" fmla="val 46654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64" name=""/>
          <p:cNvCxnSpPr>
            <a:stCxn id="135" idx="1"/>
            <a:endCxn id="151" idx="0"/>
          </p:cNvCxnSpPr>
          <p:nvPr/>
        </p:nvCxnSpPr>
        <p:spPr>
          <a:xfrm flipH="1" flipV="1" rot="10800000">
            <a:off x="3058920" y="1627560"/>
            <a:ext cx="4790160" cy="1799640"/>
          </a:xfrm>
          <a:prstGeom prst="curvedConnector5">
            <a:avLst>
              <a:gd name="adj1" fmla="val -4772"/>
              <a:gd name="adj2" fmla="val 28011"/>
              <a:gd name="adj3" fmla="val -4772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3924360" y="4508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éfinir un indexeur de noeu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tiliser les liens de l'indexeur pour faire les liens père/fils de l'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fils" match="PLANT" use="generate-id(..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fi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COMMON|BOTANICAL|ZONE|LIGHT|AVAILABILITY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="generate-id(preceding-sibling::PLANT[1]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ATALOG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fils', generate-id(.)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fils', generate-id(.)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COMMON|BOTANICAL|ZONE|LIGHT|AVAILABILIT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normalize-space(following-sibling::text()[1]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&lt;!-- Edited with XML Spy v4.2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Columbine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Aquileg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3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1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xpressions Xpath : tests sur les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llowing-sibl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: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T </a:t>
            </a:r>
            <a:r>
              <a:rPr b="0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position()=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x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 sur les noeud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édi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 :: 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tex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commen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processing_instruction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r. de tra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 :: 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::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:: un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CATALOG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tex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commen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rocessing-instruction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ocessing-instruc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:un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: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Paramètres du programme XS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00200"/>
            <a:ext cx="8305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paramGlobal.xsl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tylesh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xsl="http://www.w3.org/1999/XSL/Transform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="2.0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output method="xml" indent="y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="ISO-8859-1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trip-space elements="*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lexiconURL" select="'lexicon.xml'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lexico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lexiconUR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lexic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/descendant-or-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/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escendant-or-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26920" y="3213000"/>
            <a:ext cx="741708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/child::*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NT/*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.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[position()=last()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[las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1447920"/>
            <a:ext cx="84582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/descendant-or-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*/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escendant-or-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/descendant-or-self::node()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/descendant-or-self::node()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descendant-or-self::node()[position()=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/descendant-or-self::node()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each-grou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="$catalogue/PLANT" group-by="ZO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select="ZON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able border="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r&gt;&lt;td&gt;Zone &lt;xsl:value-of 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ing-key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"/&gt;&lt;/td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-grou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r&gt;&lt;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14300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each-grou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="..." group-by="...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électionne les noeuds à gro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-b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électionne la clé de groupement : expression évaluée à partir de chacun des noeuds à grouper, puis convertie en valeur tex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tenu de &lt;xsl:for-each-group&gt; est exécuté une fois par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ing-ke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 contient la clé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 contient l'ensemble des noeuds du groupe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14300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l'intérieur de &lt;xsl:for-each-group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 noeud courant est le premier noeud du groupe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'ensemble de noeuds courant contient le premier noeud de chaqu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&lt;xsl:for-each-group&gt; contient &lt;xsl:sort&gt;, cela classe les groupes les uns par rapport aux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eud contexte dans le &lt;xsl:sort&gt; est le premier noeud de chaqu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 à la fois les noms d'éléments et d'attributs et le tex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utiliser du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ulariser le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s 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 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out.xsl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907920"/>
            <a:ext cx="79992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lexicon" select="document('lexicon.xml')/lexic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Texte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Attributs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Elements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nom-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all-template name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ocaliser-elem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ith-param name="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vari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element name="{$nom-element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*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all-template name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ocaliser-tex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ith-param name="original" select="text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out.xsl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node()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Elements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name="localiser-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param name="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lexicon/element[en=$original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Attributs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attr-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elt-original" select="local-name(..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elt" select="$lexicon/element[en=$elt-original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ttribute name="{$elt/attribut[en=$attr-original]/fr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.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Paramètres du programme XS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295280"/>
            <a:ext cx="83055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-dehors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lexiconURL"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="'lexicon.xml'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attribut select (facultatif) donne la valeur par dé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eur du paramètre est fixée à l'appel du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ne de com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c Saxon sous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java -jar saxon8.jar paramGlobal.xsl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nURL=lexicon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exte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1371600"/>
            <a:ext cx="82864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name="localiser-text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param name="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inLexicon" select="$lexicon/entry[en=$original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hen test="$inLexic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inLexic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wh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520" y="1371600"/>
            <a:ext cx="82864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artir un programme en plusieur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utiliser du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s d'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s entre règles appelées par noeuds : comme si les règles étaient dans le même module (si une est plus spécifique que toutes les autres, elle a la priorité, sinon c'est une err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s entre règles appelées par nom : ne pas définir deux règles avec le même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odules doivent être construits et maintenus 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spaces de noms doivent être déclarés dans chaqu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r les occurrences d'un 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en de fois figure le mot XHTML dans un tex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à jour un compteur dans une it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 mise à jour de variables e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: un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ègle nommé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paramètres de l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è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nnent une nouvelle valeur à chaque 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765000"/>
            <a:ext cx="82864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str:count-substring"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chars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hoo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string-length($text) = 0 or string-length($chars) = 0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0&lt;/xsl:text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when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contains($text, $chars)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remaining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all-template 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str:count-substring"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-after($text, $chars)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chars" select="$chars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variabl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remaining + 1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when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76280"/>
            <a:ext cx="7902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otherwi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0&lt;/xsl:text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otherwi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hoo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ompte xmlns:str="http://xsltsl.org/str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mlns:xhtml="http://www.w3.org/1999/xhtm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1&lt;/comp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nommées récur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371600"/>
            <a:ext cx="8215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rmin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haque appel récursif, la taille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im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s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contient pa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404640"/>
            <a:ext cx="821520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tr:count-substring("XHTML XHTML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str:count-substring(" XHTML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r:count-substring("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ion d'une pile d'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nommées récursives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371600"/>
            <a:ext cx="8215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 comptePart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ppel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 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404640"/>
            <a:ext cx="821520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ntien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tr:count-substring("XHTML XHTML", "XHTML"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str:count-substring(" XHTML", "XHTML"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r:count-substring("", "XHTML"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 processeur XSLT peut supprimer la pile d'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 les noms d'élé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xicon.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LIGHT&lt;/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ensoleillement&lt;/f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PRICE&lt;/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prix&lt;/f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ttribu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UNIT&lt;/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unité&lt;/f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attribu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T Standard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bliothèque de règles XSLT version 1.0 réutili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://xsltsl.sourceforge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9 fich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version="2.0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xmlns:str="http://xsltsl.org/strin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mlns:xhtml="http://www.w3.org/1999/xhtm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mport href="/xsltsl-1.2.1/string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output method="xml" indent="yes" encoding="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rip-space elements="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er les espaces de noms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er les modules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T Standard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comp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riable name="comp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 select="//xhtml:p/text()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call-template name="str:count-substring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with-param name="text" select=".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with-param name="chars" select="'XHTML'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vari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lue-of select="sum($comptes/text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comp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héritage avec redé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edéfinition de règles nomm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importée dans un modu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eut avoir le même nom qu'une règ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ce cas la règ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 priorité sur la règle impor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même pour l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flits entre règles appelées par noe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une règle importée da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une autre définie da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ont applicables au même noeud, cel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 priorité sur la règle impor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prior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96960" y="2925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4760" y="2925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4360" y="13716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'arbre des importations d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98560" y="3360240"/>
            <a:ext cx="16574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A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0000" y="2855160"/>
            <a:ext cx="1584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B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56000" y="4944600"/>
            <a:ext cx="1511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C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38920" y="2495520"/>
            <a:ext cx="1511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D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948360" y="3503520"/>
            <a:ext cx="144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4" name=""/>
          <p:cNvCxnSpPr>
            <a:stCxn id="279" idx="3"/>
            <a:endCxn id="280" idx="1"/>
          </p:cNvCxnSpPr>
          <p:nvPr/>
        </p:nvCxnSpPr>
        <p:spPr>
          <a:xfrm flipV="1">
            <a:off x="2556000" y="3633480"/>
            <a:ext cx="1224720" cy="505440"/>
          </a:xfrm>
          <a:prstGeom prst="curvedConnector5">
            <a:avLst>
              <a:gd name="adj1" fmla="val 49926"/>
              <a:gd name="adj2" fmla="val 49964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9" idx="3"/>
            <a:endCxn id="281" idx="1"/>
          </p:cNvCxnSpPr>
          <p:nvPr/>
        </p:nvCxnSpPr>
        <p:spPr>
          <a:xfrm>
            <a:off x="2556000" y="4138560"/>
            <a:ext cx="1800720" cy="1402560"/>
          </a:xfrm>
          <a:prstGeom prst="curvedConnector5">
            <a:avLst>
              <a:gd name="adj1" fmla="val 49990"/>
              <a:gd name="adj2" fmla="val 49987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80" idx="3"/>
            <a:endCxn id="282" idx="1"/>
          </p:cNvCxnSpPr>
          <p:nvPr/>
        </p:nvCxnSpPr>
        <p:spPr>
          <a:xfrm flipV="1">
            <a:off x="5363640" y="2907720"/>
            <a:ext cx="575640" cy="72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80" idx="3"/>
            <a:endCxn id="283" idx="1"/>
          </p:cNvCxnSpPr>
          <p:nvPr/>
        </p:nvCxnSpPr>
        <p:spPr>
          <a:xfrm>
            <a:off x="5363640" y="3633480"/>
            <a:ext cx="1585080" cy="28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88" name=""/>
          <p:cNvCxnSpPr>
            <a:stCxn id="281" idx="3"/>
            <a:endCxn id="283" idx="1"/>
          </p:cNvCxnSpPr>
          <p:nvPr/>
        </p:nvCxnSpPr>
        <p:spPr>
          <a:xfrm flipV="1">
            <a:off x="5866920" y="3915720"/>
            <a:ext cx="1081800" cy="162468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prior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13716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'arbre des impor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67480" y="2946600"/>
            <a:ext cx="400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0640" y="2281680"/>
            <a:ext cx="383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19920" y="3434040"/>
            <a:ext cx="383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88640" y="1921320"/>
            <a:ext cx="400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51560" y="2857680"/>
            <a:ext cx="366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91" idx="3"/>
            <a:endCxn id="292" idx="1"/>
          </p:cNvCxnSpPr>
          <p:nvPr/>
        </p:nvCxnSpPr>
        <p:spPr>
          <a:xfrm flipV="1">
            <a:off x="2476440" y="2511360"/>
            <a:ext cx="1016640" cy="665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7" name=""/>
          <p:cNvCxnSpPr>
            <a:stCxn id="292" idx="3"/>
            <a:endCxn id="294" idx="1"/>
          </p:cNvCxnSpPr>
          <p:nvPr/>
        </p:nvCxnSpPr>
        <p:spPr>
          <a:xfrm flipV="1">
            <a:off x="3892320" y="2150280"/>
            <a:ext cx="1688040" cy="36108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8" name=""/>
          <p:cNvCxnSpPr>
            <a:stCxn id="291" idx="3"/>
            <a:endCxn id="293" idx="1"/>
          </p:cNvCxnSpPr>
          <p:nvPr/>
        </p:nvCxnSpPr>
        <p:spPr>
          <a:xfrm>
            <a:off x="2476440" y="3176640"/>
            <a:ext cx="1735920" cy="488160"/>
          </a:xfrm>
          <a:prstGeom prst="curvedConnector5">
            <a:avLst>
              <a:gd name="adj1" fmla="val 49948"/>
              <a:gd name="adj2" fmla="val 49963"/>
              <a:gd name="adj3" fmla="val 499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9" name=""/>
          <p:cNvCxnSpPr>
            <a:stCxn id="293" idx="3"/>
            <a:endCxn id="295" idx="1"/>
          </p:cNvCxnSpPr>
          <p:nvPr/>
        </p:nvCxnSpPr>
        <p:spPr>
          <a:xfrm flipV="1">
            <a:off x="4611240" y="3087000"/>
            <a:ext cx="1832760" cy="57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0" name=""/>
          <p:cNvCxnSpPr>
            <a:stCxn id="292" idx="3"/>
            <a:endCxn id="295" idx="1"/>
          </p:cNvCxnSpPr>
          <p:nvPr/>
        </p:nvCxnSpPr>
        <p:spPr>
          <a:xfrm>
            <a:off x="3892680" y="2511000"/>
            <a:ext cx="2551680" cy="577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301" name=""/>
          <p:cNvSpPr/>
          <p:nvPr/>
        </p:nvSpPr>
        <p:spPr>
          <a:xfrm>
            <a:off x="176544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709800" y="3573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7440" y="306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133440" y="256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7816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78160" y="21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5640" y="4221000"/>
            <a:ext cx="518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inéarisation en ordre de prior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88000" y="5013360"/>
            <a:ext cx="360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 importe E, mais E a priorité su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xsl:import : héritage avec complé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436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template match="@*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message&gt;Début traitement attribut&lt;/xsl: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apply-import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message&gt;Fin traitement attribut&lt;/xsl: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xsl:apply-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appliquer une règle importée à la place de la règ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obtient une variante de la règle importée, avec des instructions supplémentaires avant ou aprè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péter une opé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1143000"/>
            <a:ext cx="8153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name="lig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longueu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')//node()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if test="position()&amp;lt;$longueur"&gt;*&lt;/xsl:i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br/&gt;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Technique d'itération de Pi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1989000"/>
            <a:ext cx="8001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('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ocument qui contient le programme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('')//nod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nsemble des noeuds du programme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én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perd le noeud courant pendant l'it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g si le document XSLT n'a pas assez de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ur vérifier : count(document('')//node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uméroter de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ire une liste numérotée des liens hypertextes vers http://www.nypl.org dans BetterLiving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etter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Living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rough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XHTM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rized companion to the Onlin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tyle Gui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the Branch Libraries of Th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rings web pages many of XML’s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benefi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as enumerated by the Onlin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to do so. You can learn th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ru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XHTML faster than Domino’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eady done so, read the Onlin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tyle Gui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the Branch Libraries of Th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uméroter de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xhtml:p/xhtml:a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tro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number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xhtml:div[@id='articletext']//xhtml:p/xhtml:a[starts-with(@href,'http://www.nypl.org')]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tro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 ... &lt;/xsl:tex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leftContext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preceding-sibling::text()[1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substring($leftContex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-length($leftContext)-29,30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692280"/>
            <a:ext cx="790272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element name="{$lexicon/element[en=$original]/fr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attr-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elt-original" select="local-name(..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elt" select="$lexicon/element[en=$elt-original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ttribute name="{$elt/attribut[en=$attr-original]/fr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.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1371600"/>
            <a:ext cx="7902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xhtml:div[@id='articletext']//xhtml:p/xhtml:a[starts-with(@href,'http://www.nypl.org')]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e des noeuds et donne le numéro du noeud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lectionne quels noeuds sont comp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f Xpath (comme l'attribut match de xsl:template ou xsl: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: les éléments de même nom que l'élément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 : une numérotation pour tout l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single" : une numérotation distincte pour chaque groupe de noeuds frères (valeur par défaut de l'attribut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7902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multiple" : numérotation à plusieurs niveaux (ex. 3.2.5.) : à chaque niveau, parmi les fr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from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 un motif Xpath qui réinitialise la numérotation à 1 à chaque noeud qui concorde avec le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forma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*** 1 ***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1.1.1.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." (chiffres roma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: "1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val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 cas le numéro est la valeur de cet attribut, au lieu d'être calculé en comptant des noe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137160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Edited with XML Spy v4.2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atalogu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plan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om-commun&gt;Bloodroot&lt;/nom-commu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om-scientifique&gt;Sanguinaria canadensis&lt;/nom-scientifiqu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ensoleillement&gt;Mostly Shady&lt;/ensoleille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prix unité="dollar"&gt;$2.44&lt;/prix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isponible-le&gt;031599&lt;/disponible-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plan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s d'attrib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143000"/>
            <a:ext cx="76964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ttribute-set name="styl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ttribute name="face"&gt;Arial, Geneva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ttribute name="size"&gt;3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ttribute name="color"&gt;blue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attribute-s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enter&gt;&lt;fon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use-attribute-sets="style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h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h2&gt;&lt;/font&gt;&lt;/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BOTANICA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n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use-attribute-sets="style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lt;p&gt;&lt;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i&gt;&lt;/p&gt;&lt;/fo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en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nt face="Arial, Geneva" size="3" color="b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2&gt;Bloodroot&lt;/h2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cen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nt face="Arial, Geneva" size="3" color="bl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i&gt;Sanguinaria canadensis&lt;/i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fo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7:05:44Z</dcterms:created>
  <dc:creator>laporte</dc:creator>
  <dc:description/>
  <dc:language>en-US</dc:language>
  <cp:lastModifiedBy>laporte</cp:lastModifiedBy>
  <dcterms:modified xsi:type="dcterms:W3CDTF">2008-02-07T12:48:54Z</dcterms:modified>
  <cp:revision>929</cp:revision>
  <dc:subject/>
  <dc:title>Situer son travail de recherche</dc:title>
</cp:coreProperties>
</file>