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943-9878-41D5-AF60-BC63CE64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A261-ACDC-4969-AEAE-BD6EA735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4729-3143-4FCC-8AA2-F8A7F865B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373-8915-44E6-9B26-A8CB16304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53E2-F688-47DF-9D5C-4350A503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03D-135D-4385-9623-732E9192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9132-2304-4C7F-B085-11B23EFE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F30-C3D8-49C1-A0A3-83080B18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4ED8-6C7E-4196-AE23-4330D56C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AF5-A16F-4EFC-9933-66413F01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EDF8-2273-4556-BF52-DFA99AE1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A5D5-AEF6-45AC-8E5F-F29D053A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8AAC-023E-4A00-B539-2D221844A9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lasser des noeuds suivant un or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CATALOG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PLANT[AVAILABILITY&amp;lt;040099]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ort lang='en' select='COMMON'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ort lang='en' select='AVAILABILITY'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apply-templates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isiter des noeuds sans appeler d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inserer-plante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for-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document('plant_catalog.xml')/CATALOG/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 class="sectio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iv class="soustitr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u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BOTANIC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isiter des noeuds sans appeler d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9246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&gt; et &lt;xsl:for-each&gt; sont 2 des 3 seules instructions qui changent le noeud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s changent aussi l'ensemble de noeuds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ort/&gt; avec &lt;xsl:for-each&gt;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document('plant_catalog.xml')/CATALOG/PLANT"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ort select="COMMON"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isiter des noeuds sans appeler d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23888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ntages de &lt;xsl:for-eac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a sélection des noeuds est faite par une seule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ne provoque pas de traitement par déf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nvén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moins de réutilisation de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écoupage en règles moins f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 sty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c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-each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 reste dans la même règle et on "tire" l'information de différents noeu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sh styl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vec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-templat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on passe le contrôle à d'autres règ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lectionner les 10 premiers noeu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node()|@*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inserer-plante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document('plant_catalog.xml')/CATALOG/PLANT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osition()&amp;lt;11]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semble de noeuds contex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position()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() est évalué par rapport à un ensemble de noeuds : l'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mble de noeuds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('plant_catalog.xml')/CATALOG/PLANT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osition()&amp;lt;1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() est évalué par rapport à l'ensemble des noeuds PLANT sélectionné par le début de l'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'est l'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mble de noeuds contex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ensemble de noeuds courant est toujours &lt;inserer-plantes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lectionner des noeuds à partir d'u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3915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listePlantes.xml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ame&gt;Cowslip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ame&gt;Dutchman's-Breeches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ame&gt;Greek Valerian&lt;/na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ire une version du catalogue avec seulement les plantes de cette l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lectionner des noeuds à partir d'u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066320"/>
            <a:ext cx="8001000" cy="517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inserer-plante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document('listePlantes.xml')/plants/nam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document('plant_catalog.xml')/CATALOG/PLANT[COMMON=name]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 class="sectio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iv id="soustitr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u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84800" y="2895480"/>
            <a:ext cx="415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ne marche pas 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lectionner des noeuds à partir d'u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00100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document('listePlantes.xml')/plants/nam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document('plant_catalog.xml')/CATALOG/PLANT[COMMON=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[COMMON=name], le noeud contexte es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accéder à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faudrait que le noeud contexte soit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1 : sauvegarder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ns une constante locale avant d'évaluer l'expressio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66040" y="2590920"/>
            <a:ext cx="4155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ne marche pas --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lectionner des noeuds à partir d'u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inserer-plantes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document('listePlantes.xml')/plants/nam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plantName" select=".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document('plant_catalog.xml')/CATALOG/PLANT[COMMON=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plantNam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 class="section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iv id="soustitr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&lt;xsl:variabl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ux syntaxes possible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plantName"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."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plantName"&gt;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oodroo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variabl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plant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'évaluation ne dépend pas du noeud contex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utiliser le résultat d'un calcul intermédi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ibilité (diviser un calcul en étap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nit une constante, non un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eut initialiser, mais pas changer la valeur ensu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lasser des noeuds suivant un ord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eud fils d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ly-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lusieurs critères de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men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lusieurs instructions xsl:s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deuxième critère de classement est appliqué entre plusieurs noeuds entre lesquels le premier critère est inopé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désigne la clé de classement à partir du noeud cou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langue ("en", "fr"...) pour l'ordre alphabé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-typ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type de données des clés à classer ("number"), par défaut "text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Portée d'une constante loc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43520" y="2901240"/>
            <a:ext cx="103104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r-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20560" y="4272840"/>
            <a:ext cx="100080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22440" y="5321160"/>
            <a:ext cx="18432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4" idx="2"/>
            <a:endCxn id="85" idx="0"/>
          </p:cNvCxnSpPr>
          <p:nvPr/>
        </p:nvCxnSpPr>
        <p:spPr>
          <a:xfrm flipH="1" rot="16200000">
            <a:off x="4086360" y="3731760"/>
            <a:ext cx="1008720" cy="62640"/>
          </a:xfrm>
          <a:prstGeom prst="bentConnector3">
            <a:avLst>
              <a:gd name="adj1" fmla="val 4991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24360" y="3284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0244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6280" y="426708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40680" y="434340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760" y="4263840"/>
            <a:ext cx="350352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document(...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84" idx="2"/>
            <a:endCxn id="94" idx="0"/>
          </p:cNvCxnSpPr>
          <p:nvPr/>
        </p:nvCxnSpPr>
        <p:spPr>
          <a:xfrm rot="5400000">
            <a:off x="2784600" y="2493000"/>
            <a:ext cx="1008720" cy="2540880"/>
          </a:xfrm>
          <a:prstGeom prst="bentConnector3">
            <a:avLst>
              <a:gd name="adj1" fmla="val 4991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194760" y="5635440"/>
            <a:ext cx="311076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ame="plantNam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5" idx="2"/>
            <a:endCxn id="96" idx="0"/>
          </p:cNvCxnSpPr>
          <p:nvPr/>
        </p:nvCxnSpPr>
        <p:spPr>
          <a:xfrm rot="5400000">
            <a:off x="2681280" y="3699720"/>
            <a:ext cx="1008720" cy="2870640"/>
          </a:xfrm>
          <a:prstGeom prst="bentConnector3">
            <a:avLst>
              <a:gd name="adj1" fmla="val 4991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134760" y="4298400"/>
            <a:ext cx="1806840" cy="3520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4" idx="2"/>
            <a:endCxn id="98" idx="0"/>
          </p:cNvCxnSpPr>
          <p:nvPr/>
        </p:nvCxnSpPr>
        <p:spPr>
          <a:xfrm flipH="1" rot="16200000">
            <a:off x="5282640" y="2535120"/>
            <a:ext cx="1033920" cy="2480400"/>
          </a:xfrm>
          <a:prstGeom prst="bentConnector3">
            <a:avLst>
              <a:gd name="adj1" fmla="val 49912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3399840" y="5635440"/>
            <a:ext cx="165816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.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95960" y="5635440"/>
            <a:ext cx="3503520" cy="4975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lect="document(...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85" idx="2"/>
            <a:endCxn id="100" idx="0"/>
          </p:cNvCxnSpPr>
          <p:nvPr/>
        </p:nvCxnSpPr>
        <p:spPr>
          <a:xfrm rot="5400000">
            <a:off x="3920400" y="4938480"/>
            <a:ext cx="1008720" cy="392760"/>
          </a:xfrm>
          <a:prstGeom prst="bentConnector3">
            <a:avLst>
              <a:gd name="adj1" fmla="val 49910"/>
            </a:avLst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8" idx="2"/>
            <a:endCxn id="101" idx="0"/>
          </p:cNvCxnSpPr>
          <p:nvPr/>
        </p:nvCxnSpPr>
        <p:spPr>
          <a:xfrm flipH="1" rot="16200000">
            <a:off x="6552360" y="5142240"/>
            <a:ext cx="983160" cy="10080"/>
          </a:xfrm>
          <a:prstGeom prst="bentConnector3">
            <a:avLst>
              <a:gd name="adj1" fmla="val 49890"/>
            </a:avLst>
          </a:prstGeom>
          <a:ln w="1260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609480" y="1828800"/>
            <a:ext cx="790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noeuds frères droits du noeud &lt;xsl:variable&gt; et les sous-arbres correspond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3581280"/>
            <a:ext cx="3657600" cy="2971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électionner des noeuds à partir d'une li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001000" cy="50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2 : la fonction XPath curre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inserer-plantes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document('listePlantes.xml')/plants/nam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document('plant_catalog.xml')/CATALOG/PLANT[COMMON=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()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 class="section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iv id="soustitr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onstantes glob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219320"/>
            <a:ext cx="790236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catalogu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document('plant_catalog.xml')/CATALOG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/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node()|@*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inserer-plantes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for-each select="document('listePlantes.xml')/plants/nam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plantName" select=".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catalogu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LANT[COMMON=$plantName]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for-eac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Constantes glob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523880"/>
            <a:ext cx="790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nies en-dehors des fo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é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ut le programme, même avant la dé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définitions circulaires sont interd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éutiliser le résultat d'un calcul intermédi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ibilité (diviser un calcul en étap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ocaliser une base de donn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523880"/>
            <a:ext cx="790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ser = adapter à un pays ou à une région (tradu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lexicon.xml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exic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tr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&gt;Bloodroot&lt;/e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r&gt;Sanguinaire du Canada&lt;/f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entr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tr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en&gt;Columbine&lt;/e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r&gt;Ancolie du Canada&lt;/f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entr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Localiser une base de donn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1523880"/>
            <a:ext cx="790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lexico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document('lexicon.xml')/lexicon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COMMON|LIGH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text" select=".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$lexicon/entry[en=$text]/fr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523880"/>
            <a:ext cx="790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!-- Edited with XML Spy v4.2 --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ATALOG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Sanguinaire du Canada&lt;/COMM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Sanguinaria canadensis&lt;/BOTANICA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Plutôt à l'ombre&lt;/LIGH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2.44&lt;/PR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1599&lt;/AVAILABILI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Ancolie du Canada&lt;/COMMO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faut en cas de donnée abs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COMMON|LIGH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text" select=".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fr" select="$lexicon/entry[en=$text]/f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hoo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hen test="$fr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$f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whe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otherwi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following-sibling::BOTANICAL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otherwi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hoos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Populage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Caltha palustr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Plutôt à l'ombre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9.90&lt;/PR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06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Dicentra cucullaria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Dicentra cucullaria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3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Plutôt à l'ombre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6.44&lt;/PR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ctions conditionnel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choose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when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otherw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xsl:choose doit avoir au moins un xsl:wh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lusieurs xsl:when sont vérifiés, seul le premier est exécut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peut mettre un choose dans une variable (faire un exemp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on définit une variable dans un choose, elle n'est plus utilisable quand on sort du choose à cause de la portée loc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if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as de e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version de types en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421000"/>
            <a:ext cx="807696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en chaîne de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lasser.xsl,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sort lang='en' select='COMMON'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leur de l'attribut select est évaluée comme expression Xpath puis convertie en chaîne de caractères (valeur textu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-sibling: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ANICAL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sions Xpath pour les ensembles de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-sibling::PLANT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[25]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-sibling::PLANT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ATALOG/PLANT[25]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-sibling::PLANT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ape de localisation : axe, test sur les noeuds, prédi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n de localisation : une ou plusieur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 - descendant - parent - ancestor - self - following-sibling - preceding-sibling - following - preceding - descendant-or-self - ancestor-or-self - attribute - name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ced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cluent les ancêtres et les descend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axes autres qu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ibu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p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cluent les attributs et les espaces de n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342900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42100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  <a:endCxn id="150" idx="0"/>
          </p:cNvCxnSpPr>
          <p:nvPr/>
        </p:nvCxnSpPr>
        <p:spPr>
          <a:xfrm>
            <a:off x="4103280" y="2781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6443640" y="350028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>
            <a:stCxn id="151" idx="2"/>
            <a:endCxn id="153" idx="0"/>
          </p:cNvCxnSpPr>
          <p:nvPr/>
        </p:nvCxnSpPr>
        <p:spPr>
          <a:xfrm>
            <a:off x="4103280" y="2781000"/>
            <a:ext cx="259272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5" name=""/>
          <p:cNvSpPr/>
          <p:nvPr/>
        </p:nvSpPr>
        <p:spPr>
          <a:xfrm>
            <a:off x="7380360" y="350028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1" idx="2"/>
            <a:endCxn id="155" idx="0"/>
          </p:cNvCxnSpPr>
          <p:nvPr/>
        </p:nvCxnSpPr>
        <p:spPr>
          <a:xfrm>
            <a:off x="4103280" y="2781000"/>
            <a:ext cx="3529800" cy="71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1763640" y="342900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1" idx="2"/>
            <a:endCxn id="157" idx="0"/>
          </p:cNvCxnSpPr>
          <p:nvPr/>
        </p:nvCxnSpPr>
        <p:spPr>
          <a:xfrm flipH="1">
            <a:off x="2015280" y="2781000"/>
            <a:ext cx="208836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" name=""/>
          <p:cNvSpPr/>
          <p:nvPr/>
        </p:nvSpPr>
        <p:spPr>
          <a:xfrm>
            <a:off x="684360" y="342900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" name=""/>
          <p:cNvCxnSpPr>
            <a:stCxn id="151" idx="2"/>
            <a:endCxn id="159" idx="0"/>
          </p:cNvCxnSpPr>
          <p:nvPr/>
        </p:nvCxnSpPr>
        <p:spPr>
          <a:xfrm flipH="1">
            <a:off x="936000" y="2781000"/>
            <a:ext cx="316764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1" name=""/>
          <p:cNvSpPr/>
          <p:nvPr/>
        </p:nvSpPr>
        <p:spPr>
          <a:xfrm>
            <a:off x="4211640" y="458136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63640" y="220500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43640" y="227664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19640" y="458136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35280" y="5445000"/>
            <a:ext cx="50508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537372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24360" y="1557360"/>
            <a:ext cx="50472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7" idx="2"/>
            <a:endCxn id="163" idx="0"/>
          </p:cNvCxnSpPr>
          <p:nvPr/>
        </p:nvCxnSpPr>
        <p:spPr>
          <a:xfrm>
            <a:off x="4176720" y="1917360"/>
            <a:ext cx="2520000" cy="35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7" idx="2"/>
            <a:endCxn id="162" idx="0"/>
          </p:cNvCxnSpPr>
          <p:nvPr/>
        </p:nvCxnSpPr>
        <p:spPr>
          <a:xfrm flipH="1">
            <a:off x="2016000" y="1917720"/>
            <a:ext cx="216108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50" idx="2"/>
            <a:endCxn id="161" idx="0"/>
          </p:cNvCxnSpPr>
          <p:nvPr/>
        </p:nvCxnSpPr>
        <p:spPr>
          <a:xfrm>
            <a:off x="4103280" y="3789360"/>
            <a:ext cx="36108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" name=""/>
          <p:cNvCxnSpPr>
            <a:stCxn id="150" idx="2"/>
            <a:endCxn id="164" idx="0"/>
          </p:cNvCxnSpPr>
          <p:nvPr/>
        </p:nvCxnSpPr>
        <p:spPr>
          <a:xfrm flipH="1">
            <a:off x="3671280" y="3789360"/>
            <a:ext cx="432360" cy="79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" name=""/>
          <p:cNvCxnSpPr>
            <a:stCxn id="161" idx="2"/>
            <a:endCxn id="166" idx="0"/>
          </p:cNvCxnSpPr>
          <p:nvPr/>
        </p:nvCxnSpPr>
        <p:spPr>
          <a:xfrm>
            <a:off x="4463640" y="4941720"/>
            <a:ext cx="36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4" idx="2"/>
            <a:endCxn id="165" idx="0"/>
          </p:cNvCxnSpPr>
          <p:nvPr/>
        </p:nvCxnSpPr>
        <p:spPr>
          <a:xfrm>
            <a:off x="3671640" y="4941720"/>
            <a:ext cx="21636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4" name=""/>
          <p:cNvCxnSpPr>
            <a:stCxn id="167" idx="2"/>
            <a:endCxn id="151" idx="0"/>
          </p:cNvCxnSpPr>
          <p:nvPr/>
        </p:nvCxnSpPr>
        <p:spPr>
          <a:xfrm flipH="1">
            <a:off x="4102920" y="1917720"/>
            <a:ext cx="7380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5" name=""/>
          <p:cNvSpPr/>
          <p:nvPr/>
        </p:nvSpPr>
        <p:spPr>
          <a:xfrm>
            <a:off x="539640" y="4941720"/>
            <a:ext cx="50508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59" idx="2"/>
            <a:endCxn id="175" idx="0"/>
          </p:cNvCxnSpPr>
          <p:nvPr/>
        </p:nvCxnSpPr>
        <p:spPr>
          <a:xfrm flipH="1">
            <a:off x="791640" y="3789000"/>
            <a:ext cx="14544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7451640" y="4797360"/>
            <a:ext cx="50508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53" idx="2"/>
            <a:endCxn id="177" idx="0"/>
          </p:cNvCxnSpPr>
          <p:nvPr/>
        </p:nvCxnSpPr>
        <p:spPr>
          <a:xfrm>
            <a:off x="6696000" y="3860640"/>
            <a:ext cx="100872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" name=""/>
          <p:cNvSpPr/>
          <p:nvPr/>
        </p:nvSpPr>
        <p:spPr>
          <a:xfrm>
            <a:off x="3995640" y="1052640"/>
            <a:ext cx="50508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9" idx="2"/>
            <a:endCxn id="167" idx="0"/>
          </p:cNvCxnSpPr>
          <p:nvPr/>
        </p:nvCxnSpPr>
        <p:spPr>
          <a:xfrm flipH="1">
            <a:off x="4176360" y="1412640"/>
            <a:ext cx="7200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" name=""/>
          <p:cNvSpPr/>
          <p:nvPr/>
        </p:nvSpPr>
        <p:spPr>
          <a:xfrm>
            <a:off x="395280" y="1628640"/>
            <a:ext cx="2232000" cy="41054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12000" y="1700280"/>
            <a:ext cx="2592360" cy="3600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21000"/>
            <a:ext cx="2592360" cy="165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771640" y="907920"/>
            <a:ext cx="3024360" cy="2160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3357720"/>
            <a:ext cx="2232000" cy="57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66760" y="114444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ece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948720" y="126828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84360" y="5877000"/>
            <a:ext cx="153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scend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5493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nces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43640" y="328464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2349360"/>
            <a:ext cx="2376360" cy="5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48000" y="4437000"/>
            <a:ext cx="2232000" cy="5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00720" y="3357720"/>
            <a:ext cx="1800360" cy="57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280" y="3284640"/>
            <a:ext cx="1728720" cy="576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39680" y="290196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llowing-sib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400" y="283068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eceding-sib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22050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88000" y="4365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4149720"/>
            <a:ext cx="360360" cy="28908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@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50" idx="2"/>
            <a:endCxn id="199" idx="0"/>
          </p:cNvCxnSpPr>
          <p:nvPr/>
        </p:nvCxnSpPr>
        <p:spPr>
          <a:xfrm flipH="1">
            <a:off x="2952000" y="3789000"/>
            <a:ext cx="11516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x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dr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ation en profondeur de l'ar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ce de noms puis attributs puis autres fr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d’ordre significatif entre espaces de noms ni entre attrib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umérotation des positions dans l'ensemble de noeu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l'ordre inverse du document pour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estor - preceding-sibling - preceding - ancestor-or-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es axes, [position()=1] signifie "dernier", non "premier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essage d'erreur en cas de donnée abs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COMMON|LIGH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text" select=".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riable name="fr" select="$lexicon/entry[en=$text]/f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if test="not($fr)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messag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uction non trouvée : &lt;xsl:value-of select="$text"/&gt;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messag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if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$fr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Populage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Caltha palustr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Plutôt à l'ombre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9.90&lt;/PR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0699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Dicentra cucullaria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uction non trouvée : Dutchman's-Breech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uction non trouvée : Ginger, Wil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version de types en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371600"/>
            <a:ext cx="79023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en boolé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serDefaut.xsl,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hen test="$fr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d'un ensemble de noeuds en booléen : vide donne faux, non vide donne vr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llowing-sibling::PLANT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[25]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-sibling::PLANT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CATALOG/PLANT[25]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llow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-sibling::PLANT[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s un prédicat, 1 est interprété comme position()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version de types en X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1371600"/>
            <a:ext cx="8076960" cy="50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rsion en chaîne de caract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Liste.xs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T[COMMON=$plantNam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omparer deux ensembles de noeuds, on convertit les noeuds en chaînes puis on regarde si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es chaîn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gauche est égale à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es chaîne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à dro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iser.xsl,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lexicon/entry[en=$text]/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ègles nomm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COMMON|LIGHT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all-template name="traduir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text" select=".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all-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name="traduire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text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$lexicon/entry[en=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$text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/fr"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f : réutiliser du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ègles nomm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3520" y="1523880"/>
            <a:ext cx="790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sl:call-templa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traduire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text" select=".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="traduire"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tex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...)   $text    (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ême principe que les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s autres langages de program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e des 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e l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semble de noeuds co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apply-templates select="CATALOG/PLAN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PLAN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message&gt;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position()"/&gt;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&lt;xsl:tex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x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messag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r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 class="sectio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"COMMON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ègles nomm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523880"/>
            <a:ext cx="79023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Valeur de ret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 sous-arbre, qui peut être  réduit à un noeud tex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valeur de retour est insérée dans le document résultat à un emplacement qui correspond à l'appel de la règle nommé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qui a à la fois un attribut name et un attribut match peut être appelée soit par nom, soit par noe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u lisible donc déconseill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Règles nommé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COMMON|LIGHT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all-template name="traduir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text" select=".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source" select="'en'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cible" select="'fr'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name="traduir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tex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sourc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cible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value-of select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$lexicon/entry[*[name()=$source]=$text]/*[name()=$cible]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name(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1295280"/>
            <a:ext cx="7902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 X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voie le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m qualifié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nom + espace de noms) du noeud passé en paramèt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ucun noeud passé en paramètre, renvoie le nom qualifié du noeud contex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plusieurs noeuds, renvoie le nom qualifié du prem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-name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ême chose, mais renvoie le nom sans l'espace de n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Valeur d'attribut select littér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1828800"/>
            <a:ext cx="7902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r deux niveaux de guillemets/apostroph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source"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'en'"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cible" 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'fr'"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on écrit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="en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aleur d'attribut est évaluée et le résultat est vide (ensemble de noeuds vid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ationaliser la structure d'un document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1371600"/>
            <a:ext cx="79023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aucoup de documents XML sont créés par des spécialistes métier qui connaissent mal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031599&lt;/AVAILABILI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year&gt;99&lt;/yea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month&gt;03&lt;/mont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y&gt;15&lt;/da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dat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AVAILABILIT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: une règle nommée renvoyant un ar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ationaliser la structure d'un document X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match="AVAILABILITY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call-template name="restructDat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with-param name="text" select=".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cop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mplate name="restructDate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param name="text"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year&gt;&lt;xsl:value-of select="substring($text, 5, 2)"/&gt;&lt;/yea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month&gt;&lt;xsl:value-of select="substring($text, 1, 2)"/&gt;&lt;/mon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y&gt;&lt;xsl:value-of select="substring($text, 3, 2)"/&gt;&lt;/da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l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56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3480" y="2133720"/>
            <a:ext cx="2570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520" y="1143000"/>
            <a:ext cx="79023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?xml version="1.0" encoding="ISO-8859-1"?&gt;&lt;!-- Edited with XML Spy v4.2 --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ATALOG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COMMON&gt;Bloodroot&lt;/COMMON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BOTANICAL&gt;Sanguinaria canadensis&lt;/BOTANICA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ZONE&gt;4&lt;/ZON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LIGHT&gt;Mostly Shady&lt;/LIGH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PRICE&gt;$2.44&lt;/PRIC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year&gt;99&lt;/year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month&gt;03&lt;/mon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y&gt;15&lt;/da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d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AVAILABILIT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PLAN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race obt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7238880" cy="47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xon -o position.xml plant_catalog.xml position.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semble de noeuds co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18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eud cou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u départ, la racine de l'arbre du document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es noeuds appelés par &lt;xsl:apply-templates/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emble de noeuds cou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au départ, seulement la rac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l'ensemble des noeuds appelés par &lt;xsl:apply-templates/&gt;, même s'ils sont traités par des règles par défa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l y a un ordre entre les noeuds de l'ensemble : dans les exemples précédents, l'ordre du document sour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nsemble de noeuds cour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196640"/>
            <a:ext cx="769608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du noeud courant dans l'ensemble de noeuds cou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 Xpath position(), à partir d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nvoie la position du noeud contex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races pour l'utilisateur du programme XS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messag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 défaut : terminate="no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message terminate="yes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xsl:text&gt; L'élément appelé ne contient pas d'URL ! &lt;/xsl:text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/xsl:messag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Visiter des noeuds sans appeler d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pel (Combiner deux documents X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inserer-plantes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&lt;xsl:apply-templ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select="document('plant_catalog.xml')/CATALOG/PLANT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xsl:templat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"PLANT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br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p class="section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value-of select="COMMON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div class="soustitre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value-of select="BOTANICAL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17:05:44Z</dcterms:created>
  <dc:creator>laporte</dc:creator>
  <dc:description/>
  <dc:language>en-US</dc:language>
  <cp:lastModifiedBy>laporte</cp:lastModifiedBy>
  <dcterms:modified xsi:type="dcterms:W3CDTF">2008-02-07T12:46:22Z</dcterms:modified>
  <cp:revision>643</cp:revision>
  <dc:subject/>
  <dc:title>Situer son travail de recherche</dc:title>
</cp:coreProperties>
</file>