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DC3-0EFF-469F-A8E0-89ACEB66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4977-436E-4AEB-AE5A-4E820077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593-45CA-42FA-9194-7A9885D08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948-6756-468C-B4F6-BFAA4EBA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1952-BE08-422F-AF78-26B3045F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8FF-1610-4822-94C0-648A9104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F147-1693-481A-B258-27991DF5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F81-DDD9-4D53-B97F-8AB28FB3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B48-6B10-4C12-8E56-A64C4C55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FB0-378E-4CA7-AE84-FC1792AA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F90-C272-438A-B2BA-1E0EF3D2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7FAA-2779-43FE-BAE3-157B8B3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0A28-ECA6-4DA2-90E4-42ACA3816C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duction de fichiers non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par défaut du fichier résultat :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cesseur produit un document XML puis le traduit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 dans le programme XSLT, &lt;br&gt;&lt;/br&gt; dans le document résul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sl:output method="htm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 si l'élément racine du document source est &lt;html&gt; et qu'il n'y a pas de noeud texte avant ni d'espace de n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 "plat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emple : RTF, PDF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xsl:output method="tex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 de premier niveau seulement : fils de l'élément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pprimer un attri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node()|@*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PRIC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!-- Edited with XML Spy v4.2 --&gt;&lt;CATALO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COMMON&gt;Bloodroot&lt;/COMM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BOTANICAL&gt;Sanguinaria canadensis&lt;/BOTANIC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ZONE&gt;4&lt;/ZO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GHT&gt;Mostly Shady&lt;/LIGH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RICE&gt;$2.44&lt;/PRICE&gt;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AVAILABILITY&gt;031599&lt;/AVAILABIL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upprimer un noe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node()|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COMM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77724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!-- Edited with XML Spy v4.2 --&gt;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BOTANICAL&gt;Sanguinar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RICE&gt;$2.44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AVAILABILITY&gt;0315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XSLT comme langage de feuilles d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666880"/>
            <a:ext cx="14475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42900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0" y="4292640"/>
            <a:ext cx="26287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TA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4267080"/>
            <a:ext cx="15242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6160" y="5181480"/>
            <a:ext cx="141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9" idx="2"/>
            <a:endCxn id="121" idx="0"/>
          </p:cNvCxnSpPr>
          <p:nvPr/>
        </p:nvCxnSpPr>
        <p:spPr>
          <a:xfrm flipH="1" rot="16200000">
            <a:off x="1154880" y="4940640"/>
            <a:ext cx="457920" cy="2448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5869080" y="5300640"/>
            <a:ext cx="333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>
            <a:stCxn id="118" idx="2"/>
            <a:endCxn id="125" idx="0"/>
          </p:cNvCxnSpPr>
          <p:nvPr/>
        </p:nvCxnSpPr>
        <p:spPr>
          <a:xfrm flipH="1" rot="16200000">
            <a:off x="3659040" y="4960080"/>
            <a:ext cx="480240" cy="5940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678168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16" idx="2"/>
            <a:endCxn id="117" idx="0"/>
          </p:cNvCxnSpPr>
          <p:nvPr/>
        </p:nvCxnSpPr>
        <p:spPr>
          <a:xfrm rot="5400000">
            <a:off x="3714120" y="2685600"/>
            <a:ext cx="305640" cy="1181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16" idx="2"/>
            <a:endCxn id="126" idx="0"/>
          </p:cNvCxnSpPr>
          <p:nvPr/>
        </p:nvCxnSpPr>
        <p:spPr>
          <a:xfrm flipH="1" rot="16200000">
            <a:off x="5733000" y="1847520"/>
            <a:ext cx="305640" cy="2858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9" name=""/>
          <p:cNvCxnSpPr>
            <a:stCxn id="117" idx="2"/>
            <a:endCxn id="119" idx="0"/>
          </p:cNvCxnSpPr>
          <p:nvPr/>
        </p:nvCxnSpPr>
        <p:spPr>
          <a:xfrm rot="5400000">
            <a:off x="2133000" y="3124080"/>
            <a:ext cx="381600" cy="190584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17" idx="2"/>
            <a:endCxn id="118" idx="0"/>
          </p:cNvCxnSpPr>
          <p:nvPr/>
        </p:nvCxnSpPr>
        <p:spPr>
          <a:xfrm flipH="1" rot="16200000">
            <a:off x="3369240" y="3792240"/>
            <a:ext cx="407160" cy="594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32" idx="2"/>
            <a:endCxn id="116" idx="0"/>
          </p:cNvCxnSpPr>
          <p:nvPr/>
        </p:nvCxnSpPr>
        <p:spPr>
          <a:xfrm>
            <a:off x="4457520" y="17524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22860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?xml...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32" idx="2"/>
            <a:endCxn id="133" idx="0"/>
          </p:cNvCxnSpPr>
          <p:nvPr/>
        </p:nvCxnSpPr>
        <p:spPr>
          <a:xfrm rot="5400000">
            <a:off x="2456640" y="132840"/>
            <a:ext cx="381960" cy="362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35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!--...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2" idx="2"/>
            <a:endCxn id="136" idx="0"/>
          </p:cNvCxnSpPr>
          <p:nvPr/>
        </p:nvCxnSpPr>
        <p:spPr>
          <a:xfrm rot="5400000">
            <a:off x="3333240" y="1009440"/>
            <a:ext cx="381960" cy="1867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54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16" idx="2"/>
            <a:endCxn id="142" idx="0"/>
          </p:cNvCxnSpPr>
          <p:nvPr/>
        </p:nvCxnSpPr>
        <p:spPr>
          <a:xfrm rot="5400000">
            <a:off x="3170160" y="2141280"/>
            <a:ext cx="305640" cy="227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05884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768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5016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6" idx="2"/>
            <a:endCxn id="143" idx="0"/>
          </p:cNvCxnSpPr>
          <p:nvPr/>
        </p:nvCxnSpPr>
        <p:spPr>
          <a:xfrm flipH="1" rot="16200000">
            <a:off x="5189400" y="2391840"/>
            <a:ext cx="305640" cy="1769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16" idx="2"/>
            <a:endCxn id="144" idx="0"/>
          </p:cNvCxnSpPr>
          <p:nvPr/>
        </p:nvCxnSpPr>
        <p:spPr>
          <a:xfrm flipH="1" rot="16200000">
            <a:off x="6065640" y="1515600"/>
            <a:ext cx="305640" cy="3521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16" idx="2"/>
          </p:cNvCxnSpPr>
          <p:nvPr/>
        </p:nvCxnSpPr>
        <p:spPr>
          <a:xfrm flipH="1" rot="16200000">
            <a:off x="6228360" y="1352520"/>
            <a:ext cx="153360" cy="3696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8307360" y="304812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17" idx="2"/>
            <a:endCxn id="150" idx="0"/>
          </p:cNvCxnSpPr>
          <p:nvPr/>
        </p:nvCxnSpPr>
        <p:spPr>
          <a:xfrm rot="5400000">
            <a:off x="1664640" y="2655720"/>
            <a:ext cx="381600" cy="284256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30636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7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65800" y="429264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17" idx="2"/>
            <a:endCxn id="151" idx="0"/>
          </p:cNvCxnSpPr>
          <p:nvPr/>
        </p:nvCxnSpPr>
        <p:spPr>
          <a:xfrm rot="5400000">
            <a:off x="2655360" y="3646440"/>
            <a:ext cx="381600" cy="8611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54" name=""/>
          <p:cNvCxnSpPr>
            <a:stCxn id="117" idx="2"/>
            <a:endCxn id="152" idx="0"/>
          </p:cNvCxnSpPr>
          <p:nvPr/>
        </p:nvCxnSpPr>
        <p:spPr>
          <a:xfrm flipH="1" rot="16200000">
            <a:off x="4182120" y="2980080"/>
            <a:ext cx="407160" cy="22183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5724360" y="4292640"/>
            <a:ext cx="7621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20000" y="429264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60360" y="5300640"/>
            <a:ext cx="188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stly Sh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9800" y="429264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17" idx="2"/>
            <a:endCxn id="155" idx="0"/>
          </p:cNvCxnSpPr>
          <p:nvPr/>
        </p:nvCxnSpPr>
        <p:spPr>
          <a:xfrm flipH="1" rot="16200000">
            <a:off x="4487760" y="2674440"/>
            <a:ext cx="407160" cy="28296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17" idx="2"/>
            <a:endCxn id="158" idx="0"/>
          </p:cNvCxnSpPr>
          <p:nvPr/>
        </p:nvCxnSpPr>
        <p:spPr>
          <a:xfrm flipH="1" rot="16200000">
            <a:off x="4794120" y="2368080"/>
            <a:ext cx="407160" cy="34423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17" idx="2"/>
            <a:endCxn id="156" idx="0"/>
          </p:cNvCxnSpPr>
          <p:nvPr/>
        </p:nvCxnSpPr>
        <p:spPr>
          <a:xfrm flipH="1" rot="16200000">
            <a:off x="5210640" y="1950840"/>
            <a:ext cx="407160" cy="4277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3" name=""/>
          <p:cNvCxnSpPr>
            <a:stCxn id="155" idx="2"/>
            <a:endCxn id="123" idx="0"/>
          </p:cNvCxnSpPr>
          <p:nvPr/>
        </p:nvCxnSpPr>
        <p:spPr>
          <a:xfrm rot="5400000">
            <a:off x="5794920" y="4990320"/>
            <a:ext cx="551520" cy="70200"/>
          </a:xfrm>
          <a:prstGeom prst="bentConnector3">
            <a:avLst>
              <a:gd name="adj1" fmla="val 4983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64" name=""/>
          <p:cNvCxnSpPr>
            <a:stCxn id="156" idx="2"/>
            <a:endCxn id="157" idx="0"/>
          </p:cNvCxnSpPr>
          <p:nvPr/>
        </p:nvCxnSpPr>
        <p:spPr>
          <a:xfrm flipH="1" rot="16200000">
            <a:off x="7301520" y="5000400"/>
            <a:ext cx="551520" cy="50040"/>
          </a:xfrm>
          <a:prstGeom prst="bentConnector3">
            <a:avLst>
              <a:gd name="adj1" fmla="val 4983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65" name=""/>
          <p:cNvSpPr/>
          <p:nvPr/>
        </p:nvSpPr>
        <p:spPr>
          <a:xfrm>
            <a:off x="8231400" y="403848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1295280"/>
            <a:ext cx="381240" cy="457200"/>
          </a:xfrm>
          <a:prstGeom prst="flowChartDecis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1197000"/>
            <a:ext cx="40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règle par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09120" y="5229360"/>
            <a:ext cx="3038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guinaria canad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XSLT comme langage de feuilles d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template match="CATALO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title&gt;Plant Catalog&lt;/tit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center&gt;&lt;h1&gt;Catalog&lt;/h1&gt;&lt;/cen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apply-template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XSLT comme langage de feuilles d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template match="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table bgcolor="lightcyan" border ="2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apply-template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t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t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XSLT comme langage de feuilles de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77724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COMM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center&gt;&lt;h2&gt;&lt;xsl:apply-templates/&gt;&lt;/h2&gt;&lt;/cen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BOTANICA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&gt;&lt;i&gt;&lt;xsl:apply-templates/&gt;&lt;/i&gt;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ZONE|LIGHT|AVAILABILIT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&gt;&lt;xsl:apply-templates/&gt;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PRIC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&gt;&lt;b&gt;&lt;xsl:apply-templates/&gt;&lt;/b&gt;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55280" y="1052640"/>
            <a:ext cx="38163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title&gt;Plant Catalog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1&gt;Catalog&lt;/h1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table bgcolor="lightcyan" border="2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t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2&gt;Bloodroot&lt;/h2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i&gt;Sanguinaria canadensis&lt;/i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8000" y="1197000"/>
            <a:ext cx="38876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&gt;4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&gt;Mostly Shady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b&gt;$2.44&lt;/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&gt;031599&lt;/p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conseillé d'utiliser une feuille de style CSS, plus puissante que les attributs X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réer une page HTML à partir d’une base de données (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2666880"/>
            <a:ext cx="14475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342900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56000" y="4292640"/>
            <a:ext cx="26287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TA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4267080"/>
            <a:ext cx="15242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160" y="5181480"/>
            <a:ext cx="141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  <a:endCxn id="182" idx="0"/>
          </p:cNvCxnSpPr>
          <p:nvPr/>
        </p:nvCxnSpPr>
        <p:spPr>
          <a:xfrm flipH="1" rot="16200000">
            <a:off x="1154880" y="4940640"/>
            <a:ext cx="457920" cy="2448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5869080" y="5300640"/>
            <a:ext cx="333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79" idx="2"/>
            <a:endCxn id="186" idx="0"/>
          </p:cNvCxnSpPr>
          <p:nvPr/>
        </p:nvCxnSpPr>
        <p:spPr>
          <a:xfrm flipH="1" rot="16200000">
            <a:off x="3659040" y="4960080"/>
            <a:ext cx="480240" cy="5940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678168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77" idx="2"/>
            <a:endCxn id="178" idx="0"/>
          </p:cNvCxnSpPr>
          <p:nvPr/>
        </p:nvCxnSpPr>
        <p:spPr>
          <a:xfrm rot="5400000">
            <a:off x="3714120" y="2685600"/>
            <a:ext cx="305640" cy="1181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7" idx="2"/>
            <a:endCxn id="187" idx="0"/>
          </p:cNvCxnSpPr>
          <p:nvPr/>
        </p:nvCxnSpPr>
        <p:spPr>
          <a:xfrm flipH="1" rot="16200000">
            <a:off x="5733000" y="1847520"/>
            <a:ext cx="305640" cy="2858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78" idx="2"/>
            <a:endCxn id="180" idx="0"/>
          </p:cNvCxnSpPr>
          <p:nvPr/>
        </p:nvCxnSpPr>
        <p:spPr>
          <a:xfrm rot="5400000">
            <a:off x="2133000" y="3124080"/>
            <a:ext cx="381600" cy="190584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78" idx="2"/>
            <a:endCxn id="179" idx="0"/>
          </p:cNvCxnSpPr>
          <p:nvPr/>
        </p:nvCxnSpPr>
        <p:spPr>
          <a:xfrm flipH="1" rot="16200000">
            <a:off x="3369240" y="3792240"/>
            <a:ext cx="407160" cy="5943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93" idx="2"/>
            <a:endCxn id="177" idx="0"/>
          </p:cNvCxnSpPr>
          <p:nvPr/>
        </p:nvCxnSpPr>
        <p:spPr>
          <a:xfrm>
            <a:off x="4457520" y="17524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22860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?xml...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3" idx="2"/>
            <a:endCxn id="194" idx="0"/>
          </p:cNvCxnSpPr>
          <p:nvPr/>
        </p:nvCxnSpPr>
        <p:spPr>
          <a:xfrm rot="5400000">
            <a:off x="2456640" y="132840"/>
            <a:ext cx="381960" cy="362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!--...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3" idx="2"/>
            <a:endCxn id="197" idx="0"/>
          </p:cNvCxnSpPr>
          <p:nvPr/>
        </p:nvCxnSpPr>
        <p:spPr>
          <a:xfrm rot="5400000">
            <a:off x="3333240" y="1009440"/>
            <a:ext cx="381960" cy="1867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9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4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77" idx="2"/>
            <a:endCxn id="203" idx="0"/>
          </p:cNvCxnSpPr>
          <p:nvPr/>
        </p:nvCxnSpPr>
        <p:spPr>
          <a:xfrm rot="5400000">
            <a:off x="3170160" y="2141280"/>
            <a:ext cx="305640" cy="227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03" name=""/>
          <p:cNvSpPr/>
          <p:nvPr/>
        </p:nvSpPr>
        <p:spPr>
          <a:xfrm>
            <a:off x="205884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768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5016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77" idx="2"/>
            <a:endCxn id="204" idx="0"/>
          </p:cNvCxnSpPr>
          <p:nvPr/>
        </p:nvCxnSpPr>
        <p:spPr>
          <a:xfrm flipH="1" rot="16200000">
            <a:off x="5189400" y="2391840"/>
            <a:ext cx="305640" cy="1769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07" name=""/>
          <p:cNvCxnSpPr>
            <a:stCxn id="177" idx="2"/>
            <a:endCxn id="205" idx="0"/>
          </p:cNvCxnSpPr>
          <p:nvPr/>
        </p:nvCxnSpPr>
        <p:spPr>
          <a:xfrm flipH="1" rot="16200000">
            <a:off x="6065640" y="1515600"/>
            <a:ext cx="305640" cy="3521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08" name=""/>
          <p:cNvCxnSpPr>
            <a:stCxn id="177" idx="2"/>
          </p:cNvCxnSpPr>
          <p:nvPr/>
        </p:nvCxnSpPr>
        <p:spPr>
          <a:xfrm flipH="1" rot="16200000">
            <a:off x="6228360" y="1352520"/>
            <a:ext cx="153360" cy="3696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09" name=""/>
          <p:cNvSpPr/>
          <p:nvPr/>
        </p:nvSpPr>
        <p:spPr>
          <a:xfrm>
            <a:off x="8307360" y="304812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78" idx="2"/>
            <a:endCxn id="211" idx="0"/>
          </p:cNvCxnSpPr>
          <p:nvPr/>
        </p:nvCxnSpPr>
        <p:spPr>
          <a:xfrm rot="5400000">
            <a:off x="1664640" y="2655720"/>
            <a:ext cx="381600" cy="284256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1" name=""/>
          <p:cNvSpPr/>
          <p:nvPr/>
        </p:nvSpPr>
        <p:spPr>
          <a:xfrm>
            <a:off x="30636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7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65800" y="429264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178" idx="2"/>
            <a:endCxn id="212" idx="0"/>
          </p:cNvCxnSpPr>
          <p:nvPr/>
        </p:nvCxnSpPr>
        <p:spPr>
          <a:xfrm rot="5400000">
            <a:off x="2655360" y="3646440"/>
            <a:ext cx="381600" cy="8611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15" name=""/>
          <p:cNvCxnSpPr>
            <a:stCxn id="178" idx="2"/>
            <a:endCxn id="213" idx="0"/>
          </p:cNvCxnSpPr>
          <p:nvPr/>
        </p:nvCxnSpPr>
        <p:spPr>
          <a:xfrm flipH="1" rot="16200000">
            <a:off x="4182120" y="2980080"/>
            <a:ext cx="407160" cy="22183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5724360" y="4292640"/>
            <a:ext cx="7621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20000" y="429264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60360" y="5300640"/>
            <a:ext cx="188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stly Sh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89800" y="429264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1" name=""/>
          <p:cNvCxnSpPr>
            <a:stCxn id="178" idx="2"/>
            <a:endCxn id="216" idx="0"/>
          </p:cNvCxnSpPr>
          <p:nvPr/>
        </p:nvCxnSpPr>
        <p:spPr>
          <a:xfrm flipH="1" rot="16200000">
            <a:off x="4487760" y="2674440"/>
            <a:ext cx="407160" cy="282960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"/>
          <p:cNvCxnSpPr>
            <a:stCxn id="178" idx="2"/>
            <a:endCxn id="219" idx="0"/>
          </p:cNvCxnSpPr>
          <p:nvPr/>
        </p:nvCxnSpPr>
        <p:spPr>
          <a:xfrm flipH="1" rot="16200000">
            <a:off x="4794120" y="2368080"/>
            <a:ext cx="407160" cy="34423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3" name=""/>
          <p:cNvCxnSpPr>
            <a:stCxn id="178" idx="2"/>
            <a:endCxn id="217" idx="0"/>
          </p:cNvCxnSpPr>
          <p:nvPr/>
        </p:nvCxnSpPr>
        <p:spPr>
          <a:xfrm flipH="1" rot="16200000">
            <a:off x="5210640" y="1950840"/>
            <a:ext cx="407160" cy="42771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4" name=""/>
          <p:cNvCxnSpPr>
            <a:stCxn id="216" idx="2"/>
            <a:endCxn id="184" idx="0"/>
          </p:cNvCxnSpPr>
          <p:nvPr/>
        </p:nvCxnSpPr>
        <p:spPr>
          <a:xfrm rot="5400000">
            <a:off x="5794920" y="4990320"/>
            <a:ext cx="551520" cy="70200"/>
          </a:xfrm>
          <a:prstGeom prst="bentConnector3">
            <a:avLst>
              <a:gd name="adj1" fmla="val 49836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5" name=""/>
          <p:cNvCxnSpPr>
            <a:stCxn id="217" idx="2"/>
            <a:endCxn id="218" idx="0"/>
          </p:cNvCxnSpPr>
          <p:nvPr/>
        </p:nvCxnSpPr>
        <p:spPr>
          <a:xfrm flipH="1" rot="16200000">
            <a:off x="7301520" y="5000400"/>
            <a:ext cx="551520" cy="50040"/>
          </a:xfrm>
          <a:prstGeom prst="bentConnector3">
            <a:avLst>
              <a:gd name="adj1" fmla="val 49836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26" name=""/>
          <p:cNvSpPr/>
          <p:nvPr/>
        </p:nvSpPr>
        <p:spPr>
          <a:xfrm>
            <a:off x="8231400" y="403848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267080" y="1295280"/>
            <a:ext cx="381240" cy="457200"/>
          </a:xfrm>
          <a:prstGeom prst="flowChartDecis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1197000"/>
            <a:ext cx="402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règle pour l’en-tête et le ti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280" y="2852640"/>
            <a:ext cx="2160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e règle pour les 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09120" y="5229360"/>
            <a:ext cx="30384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anguinaria canaden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output (su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oding : codage des caractères dans le doc. 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="no" (par défa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nt="yes" : ajoute une indentation aux caractères introduits par le docum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réer une page HTML à partir d’une base de données (2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pour l’en-tête et le titr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meta http-equiv="Content-Language" content="e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iso-8859-1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meta name="description" content="Plant Catalo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ink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href="plant_catalog.html_fichiers/site.css"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ype="text/css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rel="styleshee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div id="titre"&gt;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’une feuille de style C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réer une page HTML à partir d’une base de données (3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 class="section"&gt;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select="COMMON"/&gt;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iv id="soustitr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ul&gt;&lt;li&gt;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xsl:value-of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lect="BOTANICAL"/&gt;&lt;/li&gt;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iv id="contenu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&gt;zone&lt;br/&gt;light&lt;br/&gt;price&lt;br/&gt;availability&lt;br/&gt;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xsl:value-of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lect="ZONE"/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select="LIGHT"/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select="PRICE"/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select="AVAILABILITY"/&gt;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724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 class="section"&gt;Bloodroot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div id="soustitr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ul&gt;&lt;li&gt;Sanguinaria canadensis&lt;/li&gt;&lt;/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div style="clear: both;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div id="contenu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li&gt;zone&lt;br/&gt;light&lt;br/&gt;price&lt;br/&gt;availability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li&gt;4&lt;br/&gt;Mostly Shady&lt;br/&gt;$2.44&lt;br/&gt;031599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r une chaîne de caractères depuis le document source vers le document 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&lt;xsl:value-of select="COMMO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a valeur de select est une expression 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processeur évalue l’expression et la convertit en chaîne de caractères (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valeur textuel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non sérialis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le résultat est un  ensemble de plusieurs noeuds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eul le premi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converti en chaîne de caract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2276640"/>
            <a:ext cx="790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d'un ensemble de noeuds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'il y a plusieurs noeuds, seul le premier est conve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ément ou  racine : le texte sans les bal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: la valeur de l'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valuation des valeurs d’attribu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eur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évalué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dynamiqu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elect="COMMON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eur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itt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output version="1.0" encoding="ISO-8859-1"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dent="yes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valeur est délimitée par "..." dans les deux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fonction de l’instruction et de l’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oisième ca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odèle de valeur d’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a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href="#{COMMON/text()}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ttéral à l’extérieur des {}, évalué dynamiquement à l’intéri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s des éléments n'appartenant pas à l'espace de noms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ttribut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name="unit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gt; : permet de calculer le nom de l'attrib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réer des liens hypertexte à l’intérieur d’un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PLANT" mode="index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a href="#{COMMON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PLANT" mode="contenu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a name="{COMMON}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 class="secti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réer des liens hypertexte à l’intérieur d’une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iv id="menu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CATALOG/PLANT"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ode="index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ul&gt;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CATALOG/PLANT"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mode="contenu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1342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iv id="menu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&gt;&lt;a href="#Bloodroot"&gt;Bloodroot&lt;/a&gt;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&gt;&lt;a href="#Columbine"&gt;Columbine&lt;/a&gt;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a name="Bloodroot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 class="section"&gt;Bloodroot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iv id="soustitr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&gt;Sanguinaria canadensis&lt;/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ppel par noeud avec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78469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apply-templates select="CATALOG/PLANT" mode="index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template match="PLANT" mode="index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que la règle soit exécutée, le mode dans l'appel et dans la fonction doit concorde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résence/absence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val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avec modifications : ajouter du tex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node()|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BOTANICA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na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itement par défaut des espaces blancs (1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tex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&gt;Dans le texte copié à partir du document source,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&gt;les noeuds textes entièrement blancs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p&gt;sont copiés comme les autres.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tex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itement par défaut des espaces blancs (2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output indent="yes" encoding="ISO-8859-1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text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-of select="node(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Dans le texte copié à partir du programme XSLT,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les noeuds textes entièrement blancs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ne sont pas copiés.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Traitement par défaut des espaces blancs (3/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tex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Dans le texte copié à partir du document source,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les noeuds textes entièrement blancs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sont copiés comme les autres.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Dans le texte copié à partir du programme XSLT,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les noeuds textes entièrement blancs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&gt;ne sont pas copiés.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tex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351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r le traitement des espaces blancs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exte copié à partir du documen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&lt;xsl:strip-spac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&lt;xsl:preserve-spac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tribut xml:space dans le documen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Texte copié à partir du programme 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&lt;xsl:tex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ttribut xml:space dans le programme 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 indenteur de document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2666880"/>
            <a:ext cx="14475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77164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5300640"/>
            <a:ext cx="9144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4360" y="5300640"/>
            <a:ext cx="15238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stCxn id="263" idx="2"/>
            <a:endCxn id="266" idx="0"/>
          </p:cNvCxnSpPr>
          <p:nvPr/>
        </p:nvCxnSpPr>
        <p:spPr>
          <a:xfrm rot="5400000">
            <a:off x="1254240" y="5901480"/>
            <a:ext cx="335880" cy="48240"/>
          </a:xfrm>
          <a:prstGeom prst="bentConnector3">
            <a:avLst>
              <a:gd name="adj1" fmla="val 4967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62" idx="2"/>
            <a:endCxn id="268" idx="0"/>
          </p:cNvCxnSpPr>
          <p:nvPr/>
        </p:nvCxnSpPr>
        <p:spPr>
          <a:xfrm rot="5400000">
            <a:off x="2917800" y="5855400"/>
            <a:ext cx="264240" cy="69120"/>
          </a:xfrm>
          <a:prstGeom prst="bentConnector3">
            <a:avLst>
              <a:gd name="adj1" fmla="val 4993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69" name=""/>
          <p:cNvSpPr/>
          <p:nvPr/>
        </p:nvSpPr>
        <p:spPr>
          <a:xfrm>
            <a:off x="678168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0" idx="2"/>
            <a:endCxn id="261" idx="0"/>
          </p:cNvCxnSpPr>
          <p:nvPr/>
        </p:nvCxnSpPr>
        <p:spPr>
          <a:xfrm rot="5400000">
            <a:off x="3728520" y="2700000"/>
            <a:ext cx="305640" cy="1153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60" idx="2"/>
            <a:endCxn id="269" idx="0"/>
          </p:cNvCxnSpPr>
          <p:nvPr/>
        </p:nvCxnSpPr>
        <p:spPr>
          <a:xfrm flipH="1" rot="16200000">
            <a:off x="5733000" y="1847520"/>
            <a:ext cx="305640" cy="2858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61" idx="2"/>
            <a:endCxn id="263" idx="0"/>
          </p:cNvCxnSpPr>
          <p:nvPr/>
        </p:nvCxnSpPr>
        <p:spPr>
          <a:xfrm rot="5400000">
            <a:off x="1667880" y="3663720"/>
            <a:ext cx="1415160" cy="185976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61" idx="2"/>
            <a:endCxn id="262" idx="0"/>
          </p:cNvCxnSpPr>
          <p:nvPr/>
        </p:nvCxnSpPr>
        <p:spPr>
          <a:xfrm rot="5400000">
            <a:off x="2486880" y="4482720"/>
            <a:ext cx="1415160" cy="22140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275" idx="2"/>
            <a:endCxn id="260" idx="0"/>
          </p:cNvCxnSpPr>
          <p:nvPr/>
        </p:nvCxnSpPr>
        <p:spPr>
          <a:xfrm>
            <a:off x="4457520" y="17524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22860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?xml...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5" idx="2"/>
            <a:endCxn id="276" idx="0"/>
          </p:cNvCxnSpPr>
          <p:nvPr/>
        </p:nvCxnSpPr>
        <p:spPr>
          <a:xfrm rot="5400000">
            <a:off x="2456640" y="132840"/>
            <a:ext cx="381960" cy="362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78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8108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!--...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0" name=""/>
          <p:cNvCxnSpPr>
            <a:stCxn id="275" idx="2"/>
            <a:endCxn id="279" idx="0"/>
          </p:cNvCxnSpPr>
          <p:nvPr/>
        </p:nvCxnSpPr>
        <p:spPr>
          <a:xfrm rot="5400000">
            <a:off x="3333240" y="1009440"/>
            <a:ext cx="381960" cy="1867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81" name=""/>
          <p:cNvCxnSpPr>
            <a:endCxn id="282" idx="0"/>
          </p:cNvCxnSpPr>
          <p:nvPr/>
        </p:nvCxnSpPr>
        <p:spPr>
          <a:xfrm flipV="1" rot="10800000">
            <a:off x="2220120" y="3283560"/>
            <a:ext cx="2212200" cy="4323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83" name=""/>
          <p:cNvCxnSpPr>
            <a:stCxn id="260" idx="2"/>
            <a:endCxn id="284" idx="0"/>
          </p:cNvCxnSpPr>
          <p:nvPr/>
        </p:nvCxnSpPr>
        <p:spPr>
          <a:xfrm flipH="1" rot="16200000">
            <a:off x="5202000" y="2378520"/>
            <a:ext cx="305640" cy="1796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85" name=""/>
          <p:cNvCxnSpPr>
            <a:stCxn id="260" idx="2"/>
            <a:endCxn id="286" idx="0"/>
          </p:cNvCxnSpPr>
          <p:nvPr/>
        </p:nvCxnSpPr>
        <p:spPr>
          <a:xfrm flipH="1" rot="16200000">
            <a:off x="6066360" y="1514160"/>
            <a:ext cx="305640" cy="3524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87" name=""/>
          <p:cNvCxnSpPr>
            <a:stCxn id="260" idx="2"/>
          </p:cNvCxnSpPr>
          <p:nvPr/>
        </p:nvCxnSpPr>
        <p:spPr>
          <a:xfrm flipH="1" rot="16200000">
            <a:off x="6228360" y="1352520"/>
            <a:ext cx="153360" cy="3696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88" name=""/>
          <p:cNvSpPr/>
          <p:nvPr/>
        </p:nvSpPr>
        <p:spPr>
          <a:xfrm>
            <a:off x="8307360" y="304812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61" idx="2"/>
            <a:endCxn id="290" idx="0"/>
          </p:cNvCxnSpPr>
          <p:nvPr/>
        </p:nvCxnSpPr>
        <p:spPr>
          <a:xfrm rot="5400000">
            <a:off x="1082880" y="3078720"/>
            <a:ext cx="1415160" cy="302976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61" idx="2"/>
            <a:endCxn id="292" idx="0"/>
          </p:cNvCxnSpPr>
          <p:nvPr/>
        </p:nvCxnSpPr>
        <p:spPr>
          <a:xfrm rot="5400000">
            <a:off x="2163240" y="4159080"/>
            <a:ext cx="1415160" cy="86904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61" idx="2"/>
            <a:endCxn id="294" idx="0"/>
          </p:cNvCxnSpPr>
          <p:nvPr/>
        </p:nvCxnSpPr>
        <p:spPr>
          <a:xfrm flipH="1" rot="16200000">
            <a:off x="2846880" y="4343040"/>
            <a:ext cx="1415160" cy="50076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295" name=""/>
          <p:cNvSpPr/>
          <p:nvPr/>
        </p:nvSpPr>
        <p:spPr>
          <a:xfrm>
            <a:off x="4211640" y="5300640"/>
            <a:ext cx="7621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84720" y="530064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61" idx="2"/>
            <a:endCxn id="295" idx="0"/>
          </p:cNvCxnSpPr>
          <p:nvPr/>
        </p:nvCxnSpPr>
        <p:spPr>
          <a:xfrm flipH="1" rot="16200000">
            <a:off x="3241440" y="3949200"/>
            <a:ext cx="1415160" cy="128808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99" name=""/>
          <p:cNvCxnSpPr>
            <a:stCxn id="261" idx="2"/>
            <a:endCxn id="300" idx="0"/>
          </p:cNvCxnSpPr>
          <p:nvPr/>
        </p:nvCxnSpPr>
        <p:spPr>
          <a:xfrm flipH="1" rot="16200000">
            <a:off x="3818520" y="3371400"/>
            <a:ext cx="1415160" cy="244404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1" name=""/>
          <p:cNvCxnSpPr>
            <a:stCxn id="261" idx="2"/>
            <a:endCxn id="296" idx="0"/>
          </p:cNvCxnSpPr>
          <p:nvPr/>
        </p:nvCxnSpPr>
        <p:spPr>
          <a:xfrm flipH="1" rot="16200000">
            <a:off x="4253400" y="2936520"/>
            <a:ext cx="1415160" cy="331380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2" name=""/>
          <p:cNvCxnSpPr>
            <a:stCxn id="295" idx="2"/>
            <a:endCxn id="303" idx="0"/>
          </p:cNvCxnSpPr>
          <p:nvPr/>
        </p:nvCxnSpPr>
        <p:spPr>
          <a:xfrm rot="5400000">
            <a:off x="4347360" y="5992920"/>
            <a:ext cx="480240" cy="1008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04" name=""/>
          <p:cNvCxnSpPr>
            <a:stCxn id="296" idx="2"/>
            <a:endCxn id="305" idx="0"/>
          </p:cNvCxnSpPr>
          <p:nvPr/>
        </p:nvCxnSpPr>
        <p:spPr>
          <a:xfrm rot="5400000">
            <a:off x="6438960" y="5914080"/>
            <a:ext cx="335880" cy="23040"/>
          </a:xfrm>
          <a:prstGeom prst="bentConnector3">
            <a:avLst>
              <a:gd name="adj1" fmla="val 4967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06" name=""/>
          <p:cNvSpPr/>
          <p:nvPr/>
        </p:nvSpPr>
        <p:spPr>
          <a:xfrm>
            <a:off x="8231400" y="403848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267080" y="1295280"/>
            <a:ext cx="381240" cy="457200"/>
          </a:xfrm>
          <a:prstGeom prst="flowChartDecis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9400" y="6096240"/>
            <a:ext cx="1418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849760" y="6024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40680" y="6240600"/>
            <a:ext cx="188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stly Sh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62840" y="6096240"/>
            <a:ext cx="86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130480" y="3719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16284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9156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5760" y="5303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346480" y="5303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14840" y="5303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8120" y="5303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Un indenteur de document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3920" y="2666880"/>
            <a:ext cx="14475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77164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7280" y="5300640"/>
            <a:ext cx="9144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5300640"/>
            <a:ext cx="15238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311" idx="2"/>
            <a:endCxn id="314" idx="0"/>
          </p:cNvCxnSpPr>
          <p:nvPr/>
        </p:nvCxnSpPr>
        <p:spPr>
          <a:xfrm rot="5400000">
            <a:off x="1254240" y="5901480"/>
            <a:ext cx="335880" cy="48240"/>
          </a:xfrm>
          <a:prstGeom prst="bentConnector3">
            <a:avLst>
              <a:gd name="adj1" fmla="val 49678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15" name=""/>
          <p:cNvCxnSpPr>
            <a:stCxn id="310" idx="2"/>
            <a:endCxn id="316" idx="0"/>
          </p:cNvCxnSpPr>
          <p:nvPr/>
        </p:nvCxnSpPr>
        <p:spPr>
          <a:xfrm rot="5400000">
            <a:off x="2917800" y="5855400"/>
            <a:ext cx="264240" cy="69120"/>
          </a:xfrm>
          <a:prstGeom prst="bentConnector3">
            <a:avLst>
              <a:gd name="adj1" fmla="val 4993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17" name=""/>
          <p:cNvSpPr/>
          <p:nvPr/>
        </p:nvSpPr>
        <p:spPr>
          <a:xfrm>
            <a:off x="678168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8" idx="2"/>
            <a:endCxn id="309" idx="0"/>
          </p:cNvCxnSpPr>
          <p:nvPr/>
        </p:nvCxnSpPr>
        <p:spPr>
          <a:xfrm rot="5400000">
            <a:off x="3728520" y="2700000"/>
            <a:ext cx="305640" cy="1153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19" name=""/>
          <p:cNvCxnSpPr>
            <a:stCxn id="308" idx="2"/>
            <a:endCxn id="317" idx="0"/>
          </p:cNvCxnSpPr>
          <p:nvPr/>
        </p:nvCxnSpPr>
        <p:spPr>
          <a:xfrm flipH="1" rot="16200000">
            <a:off x="5733000" y="1847520"/>
            <a:ext cx="305640" cy="2858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09" idx="2"/>
            <a:endCxn id="311" idx="0"/>
          </p:cNvCxnSpPr>
          <p:nvPr/>
        </p:nvCxnSpPr>
        <p:spPr>
          <a:xfrm rot="5400000">
            <a:off x="1667880" y="3663720"/>
            <a:ext cx="1415160" cy="185976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309" idx="2"/>
            <a:endCxn id="310" idx="0"/>
          </p:cNvCxnSpPr>
          <p:nvPr/>
        </p:nvCxnSpPr>
        <p:spPr>
          <a:xfrm rot="5400000">
            <a:off x="2486880" y="4482720"/>
            <a:ext cx="1415160" cy="22140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323" idx="2"/>
            <a:endCxn id="308" idx="0"/>
          </p:cNvCxnSpPr>
          <p:nvPr/>
        </p:nvCxnSpPr>
        <p:spPr>
          <a:xfrm>
            <a:off x="4457520" y="17524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24" name=""/>
          <p:cNvSpPr/>
          <p:nvPr/>
        </p:nvSpPr>
        <p:spPr>
          <a:xfrm>
            <a:off x="22860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?xml...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5" name=""/>
          <p:cNvCxnSpPr>
            <a:stCxn id="323" idx="2"/>
            <a:endCxn id="324" idx="0"/>
          </p:cNvCxnSpPr>
          <p:nvPr/>
        </p:nvCxnSpPr>
        <p:spPr>
          <a:xfrm rot="5400000">
            <a:off x="2456640" y="132840"/>
            <a:ext cx="381960" cy="362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26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8108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!--...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2"/>
            <a:endCxn id="327" idx="0"/>
          </p:cNvCxnSpPr>
          <p:nvPr/>
        </p:nvCxnSpPr>
        <p:spPr>
          <a:xfrm rot="5400000">
            <a:off x="3333240" y="1009440"/>
            <a:ext cx="381960" cy="1867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308" idx="2"/>
          </p:cNvCxnSpPr>
          <p:nvPr/>
        </p:nvCxnSpPr>
        <p:spPr>
          <a:xfrm flipH="1" rot="16200000">
            <a:off x="6228360" y="1352520"/>
            <a:ext cx="153360" cy="3696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330" name=""/>
          <p:cNvSpPr/>
          <p:nvPr/>
        </p:nvSpPr>
        <p:spPr>
          <a:xfrm>
            <a:off x="8307360" y="304812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11640" y="5300640"/>
            <a:ext cx="7621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84720" y="530064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" name=""/>
          <p:cNvCxnSpPr>
            <a:stCxn id="309" idx="2"/>
            <a:endCxn id="331" idx="0"/>
          </p:cNvCxnSpPr>
          <p:nvPr/>
        </p:nvCxnSpPr>
        <p:spPr>
          <a:xfrm flipH="1" rot="16200000">
            <a:off x="3241440" y="3949200"/>
            <a:ext cx="1415160" cy="128808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309" idx="2"/>
            <a:endCxn id="332" idx="0"/>
          </p:cNvCxnSpPr>
          <p:nvPr/>
        </p:nvCxnSpPr>
        <p:spPr>
          <a:xfrm flipH="1" rot="16200000">
            <a:off x="4253400" y="2936520"/>
            <a:ext cx="1415160" cy="3313800"/>
          </a:xfrm>
          <a:prstGeom prst="bentConnector3">
            <a:avLst>
              <a:gd name="adj1" fmla="val 49923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6" name=""/>
          <p:cNvCxnSpPr>
            <a:stCxn id="331" idx="2"/>
            <a:endCxn id="337" idx="0"/>
          </p:cNvCxnSpPr>
          <p:nvPr/>
        </p:nvCxnSpPr>
        <p:spPr>
          <a:xfrm rot="5400000">
            <a:off x="4347360" y="5992920"/>
            <a:ext cx="480240" cy="1008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38" name=""/>
          <p:cNvCxnSpPr>
            <a:stCxn id="332" idx="2"/>
            <a:endCxn id="339" idx="0"/>
          </p:cNvCxnSpPr>
          <p:nvPr/>
        </p:nvCxnSpPr>
        <p:spPr>
          <a:xfrm rot="5400000">
            <a:off x="6438960" y="5914080"/>
            <a:ext cx="335880" cy="23040"/>
          </a:xfrm>
          <a:prstGeom prst="bentConnector3">
            <a:avLst>
              <a:gd name="adj1" fmla="val 49678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8231400" y="403848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67080" y="1295280"/>
            <a:ext cx="381240" cy="457200"/>
          </a:xfrm>
          <a:prstGeom prst="flowChartDecis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9400" y="6096240"/>
            <a:ext cx="1418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49760" y="6024960"/>
            <a:ext cx="333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640680" y="6240600"/>
            <a:ext cx="1884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stly Sh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62840" y="6096240"/>
            <a:ext cx="866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76400" y="1557360"/>
            <a:ext cx="292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vec &lt;xsl:strip-spa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</a:rPr>
              <a:t>Un indenteur de documents X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outpu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indent="yes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encoding="ISO-8859-1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strip-space elements="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node()|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 sur une page XHT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table border="0" width="45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t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td width="17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font color="#0000FF" size="5"&gt;Catalog&lt;/fo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b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t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228600"/>
            <a:ext cx="8353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r le traitement des espaces blancs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e copié à partir du docum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trip-space elements="...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 au même niveau que &lt;xsl:output&gt; et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noeuds textes blancs qui apparaissent directement dans les éléments concernés sont supprimés de l’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preserve-spac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ments="...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rt d'exception à xsl:strip-spac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strip-space elements='*'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preserve-space elements="codeSour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rbre du programme XS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936960" y="1393200"/>
            <a:ext cx="105552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7920" y="3434760"/>
            <a:ext cx="30888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3400" y="429840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3" name=""/>
          <p:cNvCxnSpPr>
            <a:stCxn id="349" idx="2"/>
            <a:endCxn id="350" idx="0"/>
          </p:cNvCxnSpPr>
          <p:nvPr/>
        </p:nvCxnSpPr>
        <p:spPr>
          <a:xfrm flipH="1" rot="16200000">
            <a:off x="4444920" y="1771200"/>
            <a:ext cx="1678680" cy="163728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54" name=""/>
          <p:cNvCxnSpPr>
            <a:stCxn id="350" idx="2"/>
            <a:endCxn id="351" idx="0"/>
          </p:cNvCxnSpPr>
          <p:nvPr/>
        </p:nvCxnSpPr>
        <p:spPr>
          <a:xfrm rot="5400000">
            <a:off x="4915080" y="3105720"/>
            <a:ext cx="500760" cy="187380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55" name=""/>
          <p:cNvCxnSpPr>
            <a:stCxn id="350" idx="2"/>
            <a:endCxn id="356" idx="0"/>
          </p:cNvCxnSpPr>
          <p:nvPr/>
        </p:nvCxnSpPr>
        <p:spPr>
          <a:xfrm rot="5400000">
            <a:off x="5495400" y="3686040"/>
            <a:ext cx="500760" cy="71352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7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49" idx="2"/>
            <a:endCxn id="361" idx="0"/>
          </p:cNvCxnSpPr>
          <p:nvPr/>
        </p:nvCxnSpPr>
        <p:spPr>
          <a:xfrm rot="5400000">
            <a:off x="2035440" y="999000"/>
            <a:ext cx="1678680" cy="318240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62" name=""/>
          <p:cNvCxnSpPr>
            <a:stCxn id="349" idx="2"/>
            <a:endCxn id="363" idx="0"/>
          </p:cNvCxnSpPr>
          <p:nvPr/>
        </p:nvCxnSpPr>
        <p:spPr>
          <a:xfrm flipH="1" rot="16200000">
            <a:off x="5708520" y="507600"/>
            <a:ext cx="1678680" cy="416448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64" name=""/>
          <p:cNvSpPr/>
          <p:nvPr/>
        </p:nvSpPr>
        <p:spPr>
          <a:xfrm>
            <a:off x="8002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5" name=""/>
          <p:cNvCxnSpPr>
            <a:stCxn id="350" idx="2"/>
            <a:endCxn id="366" idx="0"/>
          </p:cNvCxnSpPr>
          <p:nvPr/>
        </p:nvCxnSpPr>
        <p:spPr>
          <a:xfrm rot="5400000">
            <a:off x="4523400" y="2713680"/>
            <a:ext cx="500760" cy="265788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67" name=""/>
          <p:cNvSpPr/>
          <p:nvPr/>
        </p:nvSpPr>
        <p:spPr>
          <a:xfrm>
            <a:off x="632628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9" name=""/>
          <p:cNvCxnSpPr>
            <a:stCxn id="350" idx="2"/>
            <a:endCxn id="370" idx="0"/>
          </p:cNvCxnSpPr>
          <p:nvPr/>
        </p:nvCxnSpPr>
        <p:spPr>
          <a:xfrm flipH="1" rot="16200000">
            <a:off x="6934680" y="2958840"/>
            <a:ext cx="500760" cy="216756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1" name=""/>
          <p:cNvSpPr/>
          <p:nvPr/>
        </p:nvSpPr>
        <p:spPr>
          <a:xfrm>
            <a:off x="1332000" y="4292640"/>
            <a:ext cx="195408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="secti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"/>
          <p:cNvCxnSpPr>
            <a:stCxn id="350" idx="2"/>
            <a:endCxn id="371" idx="0"/>
          </p:cNvCxnSpPr>
          <p:nvPr/>
        </p:nvCxnSpPr>
        <p:spPr>
          <a:xfrm rot="5400000">
            <a:off x="3955320" y="2145960"/>
            <a:ext cx="500760" cy="379332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3" name=""/>
          <p:cNvSpPr/>
          <p:nvPr/>
        </p:nvSpPr>
        <p:spPr>
          <a:xfrm>
            <a:off x="1227600" y="1985760"/>
            <a:ext cx="279180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ch="PLA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49" idx="2"/>
            <a:endCxn id="373" idx="0"/>
          </p:cNvCxnSpPr>
          <p:nvPr/>
        </p:nvCxnSpPr>
        <p:spPr>
          <a:xfrm rot="5400000">
            <a:off x="3425400" y="948960"/>
            <a:ext cx="238680" cy="1842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5" name=""/>
          <p:cNvSpPr/>
          <p:nvPr/>
        </p:nvSpPr>
        <p:spPr>
          <a:xfrm>
            <a:off x="618120" y="3434760"/>
            <a:ext cx="39420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49" idx="2"/>
            <a:endCxn id="377" idx="0"/>
          </p:cNvCxnSpPr>
          <p:nvPr/>
        </p:nvCxnSpPr>
        <p:spPr>
          <a:xfrm rot="5400000">
            <a:off x="1567080" y="530640"/>
            <a:ext cx="1678680" cy="411876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49" idx="2"/>
            <a:endCxn id="375" idx="0"/>
          </p:cNvCxnSpPr>
          <p:nvPr/>
        </p:nvCxnSpPr>
        <p:spPr>
          <a:xfrm rot="5400000">
            <a:off x="1801440" y="765000"/>
            <a:ext cx="1678680" cy="365040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9" name=""/>
          <p:cNvSpPr/>
          <p:nvPr/>
        </p:nvSpPr>
        <p:spPr>
          <a:xfrm>
            <a:off x="468360" y="1989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49" idx="2"/>
            <a:endCxn id="379" idx="0"/>
          </p:cNvCxnSpPr>
          <p:nvPr/>
        </p:nvCxnSpPr>
        <p:spPr>
          <a:xfrm rot="5400000">
            <a:off x="2491920" y="15480"/>
            <a:ext cx="238680" cy="3709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81" name=""/>
          <p:cNvSpPr/>
          <p:nvPr/>
        </p:nvSpPr>
        <p:spPr>
          <a:xfrm>
            <a:off x="755640" y="5661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stCxn id="351" idx="2"/>
            <a:endCxn id="381" idx="0"/>
          </p:cNvCxnSpPr>
          <p:nvPr/>
        </p:nvCxnSpPr>
        <p:spPr>
          <a:xfrm rot="5400000">
            <a:off x="2134080" y="3566160"/>
            <a:ext cx="1005480" cy="3185280"/>
          </a:xfrm>
          <a:prstGeom prst="bentConnector3">
            <a:avLst>
              <a:gd name="adj1" fmla="val 4989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83" name=""/>
          <p:cNvSpPr/>
          <p:nvPr/>
        </p:nvSpPr>
        <p:spPr>
          <a:xfrm>
            <a:off x="6521760" y="429840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50" idx="2"/>
            <a:endCxn id="383" idx="0"/>
          </p:cNvCxnSpPr>
          <p:nvPr/>
        </p:nvCxnSpPr>
        <p:spPr>
          <a:xfrm flipH="1" rot="16200000">
            <a:off x="6318720" y="3574800"/>
            <a:ext cx="500760" cy="93564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85" name=""/>
          <p:cNvSpPr/>
          <p:nvPr/>
        </p:nvSpPr>
        <p:spPr>
          <a:xfrm>
            <a:off x="6227640" y="558972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stCxn id="383" idx="2"/>
            <a:endCxn id="385" idx="0"/>
          </p:cNvCxnSpPr>
          <p:nvPr/>
        </p:nvCxnSpPr>
        <p:spPr>
          <a:xfrm rot="5400000">
            <a:off x="6309720" y="4862520"/>
            <a:ext cx="934200" cy="52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77" name=""/>
          <p:cNvSpPr/>
          <p:nvPr/>
        </p:nvSpPr>
        <p:spPr>
          <a:xfrm>
            <a:off x="25740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9376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35448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817884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920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3040" y="5657760"/>
            <a:ext cx="322704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COMM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48360" y="5589720"/>
            <a:ext cx="193212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PRIC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>
            <a:stCxn id="351" idx="2"/>
            <a:endCxn id="387" idx="0"/>
          </p:cNvCxnSpPr>
          <p:nvPr/>
        </p:nvCxnSpPr>
        <p:spPr>
          <a:xfrm rot="5400000">
            <a:off x="3104640" y="4536720"/>
            <a:ext cx="1005480" cy="1243800"/>
          </a:xfrm>
          <a:prstGeom prst="bentConnector3">
            <a:avLst>
              <a:gd name="adj1" fmla="val 4989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83" idx="2"/>
            <a:endCxn id="388" idx="0"/>
          </p:cNvCxnSpPr>
          <p:nvPr/>
        </p:nvCxnSpPr>
        <p:spPr>
          <a:xfrm flipH="1" rot="16200000">
            <a:off x="7008480" y="4683600"/>
            <a:ext cx="934200" cy="878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356" name=""/>
          <p:cNvSpPr/>
          <p:nvPr/>
        </p:nvSpPr>
        <p:spPr>
          <a:xfrm>
            <a:off x="529920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364000" y="134136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spaces blancs ne s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s copiés dans le document 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9185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Edited with XML Spy v4.2 --&gt;&lt;CATALO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nam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nguinaria canadensis&lt;/BOTANIC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2.44&lt;/PR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téger un espace blan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36960" y="1393200"/>
            <a:ext cx="105552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947920" y="3434760"/>
            <a:ext cx="30888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48360" y="4292640"/>
            <a:ext cx="9144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713400" y="429840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8" name=""/>
          <p:cNvCxnSpPr>
            <a:stCxn id="393" idx="2"/>
            <a:endCxn id="394" idx="0"/>
          </p:cNvCxnSpPr>
          <p:nvPr/>
        </p:nvCxnSpPr>
        <p:spPr>
          <a:xfrm flipH="1" rot="16200000">
            <a:off x="4444920" y="1771200"/>
            <a:ext cx="1678680" cy="163728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399" name=""/>
          <p:cNvCxnSpPr>
            <a:stCxn id="394" idx="2"/>
            <a:endCxn id="396" idx="0"/>
          </p:cNvCxnSpPr>
          <p:nvPr/>
        </p:nvCxnSpPr>
        <p:spPr>
          <a:xfrm rot="5400000">
            <a:off x="4915080" y="3105720"/>
            <a:ext cx="500760" cy="187380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stCxn id="394" idx="2"/>
            <a:endCxn id="395" idx="0"/>
          </p:cNvCxnSpPr>
          <p:nvPr/>
        </p:nvCxnSpPr>
        <p:spPr>
          <a:xfrm rot="5400000">
            <a:off x="5603400" y="3794040"/>
            <a:ext cx="500760" cy="49752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01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393" idx="2"/>
            <a:endCxn id="405" idx="0"/>
          </p:cNvCxnSpPr>
          <p:nvPr/>
        </p:nvCxnSpPr>
        <p:spPr>
          <a:xfrm rot="5400000">
            <a:off x="2035440" y="999000"/>
            <a:ext cx="1678680" cy="318240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06" name=""/>
          <p:cNvCxnSpPr>
            <a:stCxn id="393" idx="2"/>
            <a:endCxn id="407" idx="0"/>
          </p:cNvCxnSpPr>
          <p:nvPr/>
        </p:nvCxnSpPr>
        <p:spPr>
          <a:xfrm flipH="1" rot="16200000">
            <a:off x="5708520" y="507600"/>
            <a:ext cx="1678680" cy="416448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08" name=""/>
          <p:cNvSpPr/>
          <p:nvPr/>
        </p:nvSpPr>
        <p:spPr>
          <a:xfrm>
            <a:off x="8002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4" idx="2"/>
            <a:endCxn id="410" idx="0"/>
          </p:cNvCxnSpPr>
          <p:nvPr/>
        </p:nvCxnSpPr>
        <p:spPr>
          <a:xfrm rot="5400000">
            <a:off x="4523400" y="2713680"/>
            <a:ext cx="500760" cy="265788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632628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394" idx="2"/>
            <a:endCxn id="414" idx="0"/>
          </p:cNvCxnSpPr>
          <p:nvPr/>
        </p:nvCxnSpPr>
        <p:spPr>
          <a:xfrm flipH="1" rot="16200000">
            <a:off x="6934680" y="2958840"/>
            <a:ext cx="500760" cy="216756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5" idx="2"/>
            <a:endCxn id="416" idx="0"/>
          </p:cNvCxnSpPr>
          <p:nvPr/>
        </p:nvCxnSpPr>
        <p:spPr>
          <a:xfrm flipH="1" rot="16200000">
            <a:off x="5060880" y="5293800"/>
            <a:ext cx="1127880" cy="38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17" name=""/>
          <p:cNvSpPr/>
          <p:nvPr/>
        </p:nvSpPr>
        <p:spPr>
          <a:xfrm>
            <a:off x="1332000" y="4292640"/>
            <a:ext cx="195408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lass="secti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8" name=""/>
          <p:cNvCxnSpPr>
            <a:stCxn id="394" idx="2"/>
            <a:endCxn id="417" idx="0"/>
          </p:cNvCxnSpPr>
          <p:nvPr/>
        </p:nvCxnSpPr>
        <p:spPr>
          <a:xfrm rot="5400000">
            <a:off x="3955320" y="2145960"/>
            <a:ext cx="500760" cy="379332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19" name=""/>
          <p:cNvSpPr/>
          <p:nvPr/>
        </p:nvSpPr>
        <p:spPr>
          <a:xfrm>
            <a:off x="1227600" y="1985760"/>
            <a:ext cx="279180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atch="PLAN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393" idx="2"/>
            <a:endCxn id="419" idx="0"/>
          </p:cNvCxnSpPr>
          <p:nvPr/>
        </p:nvCxnSpPr>
        <p:spPr>
          <a:xfrm rot="5400000">
            <a:off x="3425400" y="948960"/>
            <a:ext cx="238680" cy="18424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1" name=""/>
          <p:cNvSpPr/>
          <p:nvPr/>
        </p:nvSpPr>
        <p:spPr>
          <a:xfrm>
            <a:off x="618120" y="3434760"/>
            <a:ext cx="39420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2" name=""/>
          <p:cNvCxnSpPr>
            <a:stCxn id="393" idx="2"/>
            <a:endCxn id="423" idx="0"/>
          </p:cNvCxnSpPr>
          <p:nvPr/>
        </p:nvCxnSpPr>
        <p:spPr>
          <a:xfrm rot="5400000">
            <a:off x="1567080" y="530640"/>
            <a:ext cx="1678680" cy="411876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24" name=""/>
          <p:cNvCxnSpPr>
            <a:stCxn id="393" idx="2"/>
            <a:endCxn id="421" idx="0"/>
          </p:cNvCxnSpPr>
          <p:nvPr/>
        </p:nvCxnSpPr>
        <p:spPr>
          <a:xfrm rot="5400000">
            <a:off x="1801440" y="765000"/>
            <a:ext cx="1678680" cy="3650400"/>
          </a:xfrm>
          <a:prstGeom prst="bentConnector3">
            <a:avLst>
              <a:gd name="adj1" fmla="val 49935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5" name=""/>
          <p:cNvSpPr/>
          <p:nvPr/>
        </p:nvSpPr>
        <p:spPr>
          <a:xfrm>
            <a:off x="468360" y="1989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6" name=""/>
          <p:cNvCxnSpPr>
            <a:stCxn id="393" idx="2"/>
            <a:endCxn id="425" idx="0"/>
          </p:cNvCxnSpPr>
          <p:nvPr/>
        </p:nvCxnSpPr>
        <p:spPr>
          <a:xfrm rot="5400000">
            <a:off x="2491920" y="15480"/>
            <a:ext cx="238680" cy="3709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7" name=""/>
          <p:cNvSpPr/>
          <p:nvPr/>
        </p:nvSpPr>
        <p:spPr>
          <a:xfrm>
            <a:off x="755640" y="5661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396" idx="2"/>
            <a:endCxn id="427" idx="0"/>
          </p:cNvCxnSpPr>
          <p:nvPr/>
        </p:nvCxnSpPr>
        <p:spPr>
          <a:xfrm rot="5400000">
            <a:off x="2134080" y="3566160"/>
            <a:ext cx="1005480" cy="3185280"/>
          </a:xfrm>
          <a:prstGeom prst="bentConnector3">
            <a:avLst>
              <a:gd name="adj1" fmla="val 4989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9" name=""/>
          <p:cNvSpPr/>
          <p:nvPr/>
        </p:nvSpPr>
        <p:spPr>
          <a:xfrm>
            <a:off x="6521760" y="429840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394" idx="2"/>
            <a:endCxn id="429" idx="0"/>
          </p:cNvCxnSpPr>
          <p:nvPr/>
        </p:nvCxnSpPr>
        <p:spPr>
          <a:xfrm flipH="1" rot="16200000">
            <a:off x="6318720" y="3574800"/>
            <a:ext cx="500760" cy="93564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31" name=""/>
          <p:cNvSpPr/>
          <p:nvPr/>
        </p:nvSpPr>
        <p:spPr>
          <a:xfrm>
            <a:off x="6227640" y="558972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2" name=""/>
          <p:cNvCxnSpPr>
            <a:stCxn id="429" idx="2"/>
            <a:endCxn id="431" idx="0"/>
          </p:cNvCxnSpPr>
          <p:nvPr/>
        </p:nvCxnSpPr>
        <p:spPr>
          <a:xfrm rot="5400000">
            <a:off x="6309720" y="4862520"/>
            <a:ext cx="934200" cy="5212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23" name=""/>
          <p:cNvSpPr/>
          <p:nvPr/>
        </p:nvSpPr>
        <p:spPr>
          <a:xfrm>
            <a:off x="25740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19376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35448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17884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539200" y="343224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373040" y="5657760"/>
            <a:ext cx="322704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COMMON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48360" y="5589720"/>
            <a:ext cx="193212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PRIC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96" idx="2"/>
            <a:endCxn id="433" idx="0"/>
          </p:cNvCxnSpPr>
          <p:nvPr/>
        </p:nvCxnSpPr>
        <p:spPr>
          <a:xfrm rot="5400000">
            <a:off x="3104640" y="4536720"/>
            <a:ext cx="1005480" cy="1243800"/>
          </a:xfrm>
          <a:prstGeom prst="bentConnector3">
            <a:avLst>
              <a:gd name="adj1" fmla="val 4989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36" name=""/>
          <p:cNvCxnSpPr>
            <a:stCxn id="429" idx="2"/>
            <a:endCxn id="434" idx="0"/>
          </p:cNvCxnSpPr>
          <p:nvPr/>
        </p:nvCxnSpPr>
        <p:spPr>
          <a:xfrm flipH="1" rot="16200000">
            <a:off x="7008480" y="4683600"/>
            <a:ext cx="934200" cy="878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16" name=""/>
          <p:cNvSpPr/>
          <p:nvPr/>
        </p:nvSpPr>
        <p:spPr>
          <a:xfrm>
            <a:off x="5514840" y="5880240"/>
            <a:ext cx="257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86576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162840" y="429588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394" idx="2"/>
            <a:endCxn id="437" idx="0"/>
          </p:cNvCxnSpPr>
          <p:nvPr/>
        </p:nvCxnSpPr>
        <p:spPr>
          <a:xfrm rot="5400000">
            <a:off x="5278680" y="3469320"/>
            <a:ext cx="500760" cy="114696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40" name=""/>
          <p:cNvCxnSpPr>
            <a:stCxn id="394" idx="2"/>
            <a:endCxn id="438" idx="0"/>
          </p:cNvCxnSpPr>
          <p:nvPr/>
        </p:nvCxnSpPr>
        <p:spPr>
          <a:xfrm flipH="1" rot="16200000">
            <a:off x="5926680" y="3966840"/>
            <a:ext cx="500760" cy="151560"/>
          </a:xfrm>
          <a:prstGeom prst="bentConnector3">
            <a:avLst>
              <a:gd name="adj1" fmla="val 49784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41" name=""/>
          <p:cNvSpPr/>
          <p:nvPr/>
        </p:nvSpPr>
        <p:spPr>
          <a:xfrm>
            <a:off x="4643280" y="5877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2" name=""/>
          <p:cNvCxnSpPr>
            <a:stCxn id="395" idx="2"/>
            <a:endCxn id="441" idx="0"/>
          </p:cNvCxnSpPr>
          <p:nvPr/>
        </p:nvCxnSpPr>
        <p:spPr>
          <a:xfrm rot="5400000">
            <a:off x="4704840" y="4976640"/>
            <a:ext cx="1127880" cy="6739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43" name=""/>
          <p:cNvSpPr/>
          <p:nvPr/>
        </p:nvSpPr>
        <p:spPr>
          <a:xfrm>
            <a:off x="5364000" y="1341360"/>
            <a:ext cx="35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text&gt; protège un espace bla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téger un espace bla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mplate match="PLAN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 class="section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value-of select="COMM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text&gt; &lt;/xsl:tex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xsl:value-of select="PRIC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p class="section"&gt;Bloodroot $2.44&lt;/p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téger un caractère imprim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3440" y="1274040"/>
            <a:ext cx="32076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273400" y="350604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0" name=""/>
          <p:cNvCxnSpPr>
            <a:stCxn id="447" idx="2"/>
            <a:endCxn id="448" idx="0"/>
          </p:cNvCxnSpPr>
          <p:nvPr/>
        </p:nvCxnSpPr>
        <p:spPr>
          <a:xfrm rot="5400000">
            <a:off x="2826720" y="1593720"/>
            <a:ext cx="1869120" cy="194544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51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02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2628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47" idx="2"/>
            <a:endCxn id="458" idx="0"/>
          </p:cNvCxnSpPr>
          <p:nvPr/>
        </p:nvCxnSpPr>
        <p:spPr>
          <a:xfrm flipH="1" rot="16200000">
            <a:off x="5531760" y="833760"/>
            <a:ext cx="1869120" cy="346464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618120" y="3506040"/>
            <a:ext cx="39420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79280" y="5661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1" name=""/>
          <p:cNvCxnSpPr>
            <a:stCxn id="448" idx="2"/>
            <a:endCxn id="460" idx="0"/>
          </p:cNvCxnSpPr>
          <p:nvPr/>
        </p:nvCxnSpPr>
        <p:spPr>
          <a:xfrm rot="5400000">
            <a:off x="729360" y="3601800"/>
            <a:ext cx="1797840" cy="2321640"/>
          </a:xfrm>
          <a:prstGeom prst="bentConnector3">
            <a:avLst>
              <a:gd name="adj1" fmla="val 4998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6593040" y="350604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"/>
          <p:cNvCxnSpPr>
            <a:stCxn id="447" idx="2"/>
            <a:endCxn id="462" idx="0"/>
          </p:cNvCxnSpPr>
          <p:nvPr/>
        </p:nvCxnSpPr>
        <p:spPr>
          <a:xfrm flipH="1" rot="16200000">
            <a:off x="4986000" y="1378440"/>
            <a:ext cx="1869120" cy="237528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4716360" y="558972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2" idx="2"/>
            <a:endCxn id="464" idx="0"/>
          </p:cNvCxnSpPr>
          <p:nvPr/>
        </p:nvCxnSpPr>
        <p:spPr>
          <a:xfrm rot="5400000">
            <a:off x="5193360" y="3674880"/>
            <a:ext cx="1726560" cy="210420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66" name=""/>
          <p:cNvSpPr/>
          <p:nvPr/>
        </p:nvSpPr>
        <p:spPr>
          <a:xfrm>
            <a:off x="25740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19376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10756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88760" y="5657760"/>
            <a:ext cx="340380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substring(...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00800" y="5586120"/>
            <a:ext cx="340380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substring(...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0" name=""/>
          <p:cNvCxnSpPr>
            <a:stCxn id="448" idx="2"/>
            <a:endCxn id="468" idx="0"/>
          </p:cNvCxnSpPr>
          <p:nvPr/>
        </p:nvCxnSpPr>
        <p:spPr>
          <a:xfrm rot="5400000">
            <a:off x="1740600" y="4613040"/>
            <a:ext cx="1797840" cy="299160"/>
          </a:xfrm>
          <a:prstGeom prst="bentConnector3">
            <a:avLst>
              <a:gd name="adj1" fmla="val 4998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62" idx="2"/>
            <a:endCxn id="469" idx="0"/>
          </p:cNvCxnSpPr>
          <p:nvPr/>
        </p:nvCxnSpPr>
        <p:spPr>
          <a:xfrm flipH="1" rot="16200000">
            <a:off x="6292800" y="4679640"/>
            <a:ext cx="1726560" cy="9432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4506480" y="3503160"/>
            <a:ext cx="26604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47" idx="2"/>
            <a:endCxn id="472" idx="0"/>
          </p:cNvCxnSpPr>
          <p:nvPr/>
        </p:nvCxnSpPr>
        <p:spPr>
          <a:xfrm rot="5400000">
            <a:off x="3752280" y="2519280"/>
            <a:ext cx="1869120" cy="9432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47" idx="2"/>
            <a:endCxn id="459" idx="0"/>
          </p:cNvCxnSpPr>
          <p:nvPr/>
        </p:nvCxnSpPr>
        <p:spPr>
          <a:xfrm rot="5400000">
            <a:off x="1839960" y="606960"/>
            <a:ext cx="1869120" cy="391860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47" idx="2"/>
          </p:cNvCxnSpPr>
          <p:nvPr/>
        </p:nvCxnSpPr>
        <p:spPr>
          <a:xfrm rot="5400000">
            <a:off x="2025000" y="-143280"/>
            <a:ext cx="934200" cy="4483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47" idx="2"/>
            <a:endCxn id="466" idx="0"/>
          </p:cNvCxnSpPr>
          <p:nvPr/>
        </p:nvCxnSpPr>
        <p:spPr>
          <a:xfrm rot="5400000">
            <a:off x="1606320" y="372960"/>
            <a:ext cx="1869120" cy="438660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47" idx="2"/>
            <a:endCxn id="467" idx="0"/>
          </p:cNvCxnSpPr>
          <p:nvPr/>
        </p:nvCxnSpPr>
        <p:spPr>
          <a:xfrm rot="5400000">
            <a:off x="2073960" y="840960"/>
            <a:ext cx="1869120" cy="345060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203640" y="27082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noeud texte entre les deux value-of n’est pas bla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rotéger un caractère imprim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73440" y="1274040"/>
            <a:ext cx="32076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40360" y="3500280"/>
            <a:ext cx="9144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73400" y="350604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0" idx="2"/>
            <a:endCxn id="482" idx="0"/>
          </p:cNvCxnSpPr>
          <p:nvPr/>
        </p:nvCxnSpPr>
        <p:spPr>
          <a:xfrm rot="5400000">
            <a:off x="2826720" y="1593720"/>
            <a:ext cx="1869120" cy="194544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85" name=""/>
          <p:cNvCxnSpPr>
            <a:stCxn id="480" idx="2"/>
            <a:endCxn id="481" idx="0"/>
          </p:cNvCxnSpPr>
          <p:nvPr/>
        </p:nvCxnSpPr>
        <p:spPr>
          <a:xfrm rot="5400000">
            <a:off x="3730680" y="2497680"/>
            <a:ext cx="1869120" cy="13716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86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002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2628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0" idx="2"/>
            <a:endCxn id="493" idx="0"/>
          </p:cNvCxnSpPr>
          <p:nvPr/>
        </p:nvCxnSpPr>
        <p:spPr>
          <a:xfrm flipH="1" rot="16200000">
            <a:off x="5531760" y="833760"/>
            <a:ext cx="1869120" cy="346464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1" idx="2"/>
            <a:endCxn id="495" idx="0"/>
          </p:cNvCxnSpPr>
          <p:nvPr/>
        </p:nvCxnSpPr>
        <p:spPr>
          <a:xfrm flipH="1" rot="16200000">
            <a:off x="4125960" y="4428000"/>
            <a:ext cx="984960" cy="4356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96" name=""/>
          <p:cNvSpPr/>
          <p:nvPr/>
        </p:nvSpPr>
        <p:spPr>
          <a:xfrm>
            <a:off x="618120" y="3506040"/>
            <a:ext cx="39420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79280" y="566100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8" name=""/>
          <p:cNvCxnSpPr>
            <a:stCxn id="482" idx="2"/>
            <a:endCxn id="497" idx="0"/>
          </p:cNvCxnSpPr>
          <p:nvPr/>
        </p:nvCxnSpPr>
        <p:spPr>
          <a:xfrm rot="5400000">
            <a:off x="729360" y="3601800"/>
            <a:ext cx="1797840" cy="2321640"/>
          </a:xfrm>
          <a:prstGeom prst="bentConnector3">
            <a:avLst>
              <a:gd name="adj1" fmla="val 49989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99" name=""/>
          <p:cNvSpPr/>
          <p:nvPr/>
        </p:nvSpPr>
        <p:spPr>
          <a:xfrm>
            <a:off x="6593040" y="350604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lue-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80" idx="2"/>
            <a:endCxn id="499" idx="0"/>
          </p:cNvCxnSpPr>
          <p:nvPr/>
        </p:nvCxnSpPr>
        <p:spPr>
          <a:xfrm flipH="1" rot="16200000">
            <a:off x="4986000" y="1378440"/>
            <a:ext cx="1869120" cy="237528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01" name=""/>
          <p:cNvSpPr/>
          <p:nvPr/>
        </p:nvSpPr>
        <p:spPr>
          <a:xfrm>
            <a:off x="4716360" y="5589720"/>
            <a:ext cx="57636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"/>
          <p:cNvCxnSpPr>
            <a:stCxn id="499" idx="2"/>
            <a:endCxn id="501" idx="0"/>
          </p:cNvCxnSpPr>
          <p:nvPr/>
        </p:nvCxnSpPr>
        <p:spPr>
          <a:xfrm rot="5400000">
            <a:off x="5193360" y="3674880"/>
            <a:ext cx="1726560" cy="210420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03" name=""/>
          <p:cNvSpPr/>
          <p:nvPr/>
        </p:nvSpPr>
        <p:spPr>
          <a:xfrm>
            <a:off x="25740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19376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10756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8760" y="5657760"/>
            <a:ext cx="340380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substring(...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500800" y="5586120"/>
            <a:ext cx="340380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substring(...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7" name=""/>
          <p:cNvCxnSpPr>
            <a:stCxn id="482" idx="2"/>
            <a:endCxn id="505" idx="0"/>
          </p:cNvCxnSpPr>
          <p:nvPr/>
        </p:nvCxnSpPr>
        <p:spPr>
          <a:xfrm rot="5400000">
            <a:off x="1740600" y="4613040"/>
            <a:ext cx="1797840" cy="299160"/>
          </a:xfrm>
          <a:prstGeom prst="bentConnector3">
            <a:avLst>
              <a:gd name="adj1" fmla="val 49989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99" idx="2"/>
            <a:endCxn id="506" idx="0"/>
          </p:cNvCxnSpPr>
          <p:nvPr/>
        </p:nvCxnSpPr>
        <p:spPr>
          <a:xfrm flipH="1" rot="16200000">
            <a:off x="6292800" y="4679640"/>
            <a:ext cx="1726560" cy="94320"/>
          </a:xfrm>
          <a:prstGeom prst="bentConnector3">
            <a:avLst>
              <a:gd name="adj1" fmla="val 49947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495" name=""/>
          <p:cNvSpPr/>
          <p:nvPr/>
        </p:nvSpPr>
        <p:spPr>
          <a:xfrm>
            <a:off x="4506480" y="4945320"/>
            <a:ext cx="2660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49884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091200" y="3503520"/>
            <a:ext cx="1807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1" name=""/>
          <p:cNvCxnSpPr>
            <a:stCxn id="480" idx="2"/>
            <a:endCxn id="509" idx="0"/>
          </p:cNvCxnSpPr>
          <p:nvPr/>
        </p:nvCxnSpPr>
        <p:spPr>
          <a:xfrm rot="5400000">
            <a:off x="3226680" y="1993680"/>
            <a:ext cx="1869120" cy="114552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12" name=""/>
          <p:cNvCxnSpPr>
            <a:stCxn id="480" idx="2"/>
            <a:endCxn id="510" idx="0"/>
          </p:cNvCxnSpPr>
          <p:nvPr/>
        </p:nvCxnSpPr>
        <p:spPr>
          <a:xfrm flipH="1" rot="16200000">
            <a:off x="4522680" y="1842120"/>
            <a:ext cx="1869120" cy="144828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13" name=""/>
          <p:cNvSpPr/>
          <p:nvPr/>
        </p:nvSpPr>
        <p:spPr>
          <a:xfrm>
            <a:off x="3780000" y="4941720"/>
            <a:ext cx="576000" cy="4572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481" idx="2"/>
            <a:endCxn id="513" idx="0"/>
          </p:cNvCxnSpPr>
          <p:nvPr/>
        </p:nvCxnSpPr>
        <p:spPr>
          <a:xfrm rot="5400000">
            <a:off x="3840120" y="4185360"/>
            <a:ext cx="984960" cy="529200"/>
          </a:xfrm>
          <a:prstGeom prst="bentConnector3">
            <a:avLst>
              <a:gd name="adj1" fmla="val 4998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480" idx="2"/>
            <a:endCxn id="496" idx="0"/>
          </p:cNvCxnSpPr>
          <p:nvPr/>
        </p:nvCxnSpPr>
        <p:spPr>
          <a:xfrm rot="5400000">
            <a:off x="1839960" y="606960"/>
            <a:ext cx="1869120" cy="391860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16" name=""/>
          <p:cNvCxnSpPr>
            <a:stCxn id="480" idx="2"/>
          </p:cNvCxnSpPr>
          <p:nvPr/>
        </p:nvCxnSpPr>
        <p:spPr>
          <a:xfrm rot="5400000">
            <a:off x="2025000" y="-143280"/>
            <a:ext cx="934200" cy="448380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80" idx="2"/>
            <a:endCxn id="503" idx="0"/>
          </p:cNvCxnSpPr>
          <p:nvPr/>
        </p:nvCxnSpPr>
        <p:spPr>
          <a:xfrm rot="5400000">
            <a:off x="1606320" y="372960"/>
            <a:ext cx="1869120" cy="438660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18" name=""/>
          <p:cNvCxnSpPr>
            <a:stCxn id="480" idx="2"/>
            <a:endCxn id="504" idx="0"/>
          </p:cNvCxnSpPr>
          <p:nvPr/>
        </p:nvCxnSpPr>
        <p:spPr>
          <a:xfrm rot="5400000">
            <a:off x="2073960" y="840960"/>
            <a:ext cx="1869120" cy="3450600"/>
          </a:xfrm>
          <a:prstGeom prst="bentConnector3">
            <a:avLst>
              <a:gd name="adj1" fmla="val 49951"/>
            </a:avLst>
          </a:prstGeom>
          <a:ln w="1260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téger un caractère imprim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value-of select="substring(AVAILABILITY,1,2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text&gt;/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value-of select="substring(AVAILABILITY,3,2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text&gt;/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xsl:value-of select="substring(AVAILABILITY,5,2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&lt;br/&gt;03/15/99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s XPath sur les chaînes de caractère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(str, indexDebut, longueu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l’évaluation de str ne donne pas une chaîne de caractères, le processeur convertit le résultat en chaîne de caractères (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valeur textuell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, non sérialis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Si le résultat est un  ensemble de plusieurs noeuds,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seul le premier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est converti en chaîne de caractè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s XPath sur les chaînes de caractères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w3.org/TR/xpath-function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(str, indexDebut, longu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(obj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-length(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at(str1, str2,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ize-space(st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late(str, entrees, sort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(str, par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s-with(str, prefix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-after(str, par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-before(str, part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mbiner deux documents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733920" y="2666880"/>
            <a:ext cx="14475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743200" y="342900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267080"/>
            <a:ext cx="9144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480" y="4267080"/>
            <a:ext cx="15242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86160" y="5181480"/>
            <a:ext cx="141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2" name=""/>
          <p:cNvCxnSpPr>
            <a:stCxn id="529" idx="2"/>
            <a:endCxn id="531" idx="0"/>
          </p:cNvCxnSpPr>
          <p:nvPr/>
        </p:nvCxnSpPr>
        <p:spPr>
          <a:xfrm flipH="1" rot="16200000">
            <a:off x="1154880" y="4940640"/>
            <a:ext cx="457920" cy="2448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33" name=""/>
          <p:cNvSpPr/>
          <p:nvPr/>
        </p:nvSpPr>
        <p:spPr>
          <a:xfrm>
            <a:off x="2821320" y="5181480"/>
            <a:ext cx="333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8" idx="2"/>
            <a:endCxn id="533" idx="0"/>
          </p:cNvCxnSpPr>
          <p:nvPr/>
        </p:nvCxnSpPr>
        <p:spPr>
          <a:xfrm rot="5400000">
            <a:off x="2788560" y="4922640"/>
            <a:ext cx="457920" cy="6120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35" name=""/>
          <p:cNvSpPr/>
          <p:nvPr/>
        </p:nvSpPr>
        <p:spPr>
          <a:xfrm>
            <a:off x="678168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6" idx="2"/>
            <a:endCxn id="527" idx="0"/>
          </p:cNvCxnSpPr>
          <p:nvPr/>
        </p:nvCxnSpPr>
        <p:spPr>
          <a:xfrm rot="5400000">
            <a:off x="3714120" y="2685600"/>
            <a:ext cx="305640" cy="1181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6" idx="2"/>
            <a:endCxn id="535" idx="0"/>
          </p:cNvCxnSpPr>
          <p:nvPr/>
        </p:nvCxnSpPr>
        <p:spPr>
          <a:xfrm flipH="1" rot="16200000">
            <a:off x="5733000" y="1847520"/>
            <a:ext cx="305640" cy="2858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8" name=""/>
          <p:cNvCxnSpPr>
            <a:stCxn id="527" idx="2"/>
            <a:endCxn id="529" idx="0"/>
          </p:cNvCxnSpPr>
          <p:nvPr/>
        </p:nvCxnSpPr>
        <p:spPr>
          <a:xfrm rot="5400000">
            <a:off x="2133000" y="3124080"/>
            <a:ext cx="381600" cy="190584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27" idx="2"/>
            <a:endCxn id="528" idx="0"/>
          </p:cNvCxnSpPr>
          <p:nvPr/>
        </p:nvCxnSpPr>
        <p:spPr>
          <a:xfrm rot="5400000">
            <a:off x="2971080" y="3962160"/>
            <a:ext cx="381600" cy="2293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41" idx="2"/>
            <a:endCxn id="526" idx="0"/>
          </p:cNvCxnSpPr>
          <p:nvPr/>
        </p:nvCxnSpPr>
        <p:spPr>
          <a:xfrm flipH="1">
            <a:off x="4457520" y="2157120"/>
            <a:ext cx="18000" cy="510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42" name=""/>
          <p:cNvSpPr/>
          <p:nvPr/>
        </p:nvSpPr>
        <p:spPr>
          <a:xfrm>
            <a:off x="250920" y="2637000"/>
            <a:ext cx="121896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?xml...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41" idx="2"/>
            <a:endCxn id="542" idx="0"/>
          </p:cNvCxnSpPr>
          <p:nvPr/>
        </p:nvCxnSpPr>
        <p:spPr>
          <a:xfrm rot="5400000">
            <a:off x="2427120" y="589680"/>
            <a:ext cx="480240" cy="361548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908000" y="263700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!--...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rot="5400000">
            <a:off x="3255840" y="1418400"/>
            <a:ext cx="480240" cy="195804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47" name=""/>
          <p:cNvCxnSpPr>
            <a:stCxn id="541" idx="2"/>
            <a:endCxn id="548" idx="0"/>
          </p:cNvCxnSpPr>
          <p:nvPr/>
        </p:nvCxnSpPr>
        <p:spPr>
          <a:xfrm rot="5400000">
            <a:off x="2800440" y="963000"/>
            <a:ext cx="480240" cy="286920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48" name=""/>
          <p:cNvSpPr/>
          <p:nvPr/>
        </p:nvSpPr>
        <p:spPr>
          <a:xfrm>
            <a:off x="1477800" y="2637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278160" y="2637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734160" y="2637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1" name=""/>
          <p:cNvCxnSpPr>
            <a:stCxn id="541" idx="2"/>
            <a:endCxn id="549" idx="0"/>
          </p:cNvCxnSpPr>
          <p:nvPr/>
        </p:nvCxnSpPr>
        <p:spPr>
          <a:xfrm rot="5400000">
            <a:off x="3700440" y="1863000"/>
            <a:ext cx="480240" cy="106920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2" name=""/>
          <p:cNvCxnSpPr>
            <a:stCxn id="541" idx="2"/>
            <a:endCxn id="550" idx="0"/>
          </p:cNvCxnSpPr>
          <p:nvPr/>
        </p:nvCxnSpPr>
        <p:spPr>
          <a:xfrm flipH="1" rot="16200000">
            <a:off x="5429160" y="1203120"/>
            <a:ext cx="480240" cy="2388240"/>
          </a:xfrm>
          <a:prstGeom prst="bentConnector3">
            <a:avLst>
              <a:gd name="adj1" fmla="val 4996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stCxn id="526" idx="2"/>
            <a:endCxn id="554" idx="0"/>
          </p:cNvCxnSpPr>
          <p:nvPr/>
        </p:nvCxnSpPr>
        <p:spPr>
          <a:xfrm rot="5400000">
            <a:off x="3170160" y="2141280"/>
            <a:ext cx="305640" cy="227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54" name=""/>
          <p:cNvSpPr/>
          <p:nvPr/>
        </p:nvSpPr>
        <p:spPr>
          <a:xfrm>
            <a:off x="205884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768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85016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7" name=""/>
          <p:cNvCxnSpPr>
            <a:stCxn id="526" idx="2"/>
            <a:endCxn id="555" idx="0"/>
          </p:cNvCxnSpPr>
          <p:nvPr/>
        </p:nvCxnSpPr>
        <p:spPr>
          <a:xfrm flipH="1" rot="16200000">
            <a:off x="5189400" y="2391840"/>
            <a:ext cx="305640" cy="1769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26" idx="2"/>
            <a:endCxn id="556" idx="0"/>
          </p:cNvCxnSpPr>
          <p:nvPr/>
        </p:nvCxnSpPr>
        <p:spPr>
          <a:xfrm flipH="1" rot="16200000">
            <a:off x="6065640" y="1515600"/>
            <a:ext cx="305640" cy="3521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26" idx="2"/>
          </p:cNvCxnSpPr>
          <p:nvPr/>
        </p:nvCxnSpPr>
        <p:spPr>
          <a:xfrm flipH="1" rot="16200000">
            <a:off x="6228360" y="1352520"/>
            <a:ext cx="153360" cy="3696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560" name=""/>
          <p:cNvSpPr/>
          <p:nvPr/>
        </p:nvSpPr>
        <p:spPr>
          <a:xfrm>
            <a:off x="8307360" y="304812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27" idx="2"/>
            <a:endCxn id="562" idx="0"/>
          </p:cNvCxnSpPr>
          <p:nvPr/>
        </p:nvCxnSpPr>
        <p:spPr>
          <a:xfrm rot="5400000">
            <a:off x="1664640" y="2655720"/>
            <a:ext cx="381600" cy="284256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62" name=""/>
          <p:cNvSpPr/>
          <p:nvPr/>
        </p:nvSpPr>
        <p:spPr>
          <a:xfrm>
            <a:off x="30636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7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590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5" name=""/>
          <p:cNvCxnSpPr>
            <a:stCxn id="527" idx="2"/>
            <a:endCxn id="563" idx="0"/>
          </p:cNvCxnSpPr>
          <p:nvPr/>
        </p:nvCxnSpPr>
        <p:spPr>
          <a:xfrm rot="5400000">
            <a:off x="2655360" y="3646440"/>
            <a:ext cx="381600" cy="8611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66" name=""/>
          <p:cNvCxnSpPr>
            <a:stCxn id="527" idx="2"/>
            <a:endCxn id="564" idx="0"/>
          </p:cNvCxnSpPr>
          <p:nvPr/>
        </p:nvCxnSpPr>
        <p:spPr>
          <a:xfrm flipH="1" rot="16200000">
            <a:off x="3341880" y="3820680"/>
            <a:ext cx="381600" cy="5119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67" name=""/>
          <p:cNvSpPr/>
          <p:nvPr/>
        </p:nvSpPr>
        <p:spPr>
          <a:xfrm>
            <a:off x="4267080" y="4267080"/>
            <a:ext cx="7621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6248520" y="426708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505680" y="5105520"/>
            <a:ext cx="188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stly Sh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373800" y="5373720"/>
            <a:ext cx="866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56416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3" name=""/>
          <p:cNvCxnSpPr>
            <a:stCxn id="527" idx="2"/>
            <a:endCxn id="567" idx="0"/>
          </p:cNvCxnSpPr>
          <p:nvPr/>
        </p:nvCxnSpPr>
        <p:spPr>
          <a:xfrm flipH="1" rot="16200000">
            <a:off x="3772080" y="3390480"/>
            <a:ext cx="381600" cy="13723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74" name=""/>
          <p:cNvCxnSpPr>
            <a:stCxn id="527" idx="2"/>
            <a:endCxn id="571" idx="0"/>
          </p:cNvCxnSpPr>
          <p:nvPr/>
        </p:nvCxnSpPr>
        <p:spPr>
          <a:xfrm flipH="1" rot="16200000">
            <a:off x="4293360" y="2868480"/>
            <a:ext cx="381600" cy="241668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75" name=""/>
          <p:cNvCxnSpPr>
            <a:stCxn id="527" idx="2"/>
            <a:endCxn id="568" idx="0"/>
          </p:cNvCxnSpPr>
          <p:nvPr/>
        </p:nvCxnSpPr>
        <p:spPr>
          <a:xfrm flipH="1" rot="16200000">
            <a:off x="4838760" y="2323800"/>
            <a:ext cx="381600" cy="350568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67" idx="2"/>
            <a:endCxn id="569" idx="0"/>
          </p:cNvCxnSpPr>
          <p:nvPr/>
        </p:nvCxnSpPr>
        <p:spPr>
          <a:xfrm rot="5400000">
            <a:off x="4357080" y="4814640"/>
            <a:ext cx="381960" cy="200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577" name=""/>
          <p:cNvCxnSpPr>
            <a:stCxn id="568" idx="2"/>
            <a:endCxn id="570" idx="0"/>
          </p:cNvCxnSpPr>
          <p:nvPr/>
        </p:nvCxnSpPr>
        <p:spPr>
          <a:xfrm flipH="1" rot="16200000">
            <a:off x="6468840" y="5036040"/>
            <a:ext cx="650160" cy="26280"/>
          </a:xfrm>
          <a:prstGeom prst="bentConnector3">
            <a:avLst>
              <a:gd name="adj1" fmla="val 4986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578" name=""/>
          <p:cNvSpPr/>
          <p:nvPr/>
        </p:nvSpPr>
        <p:spPr>
          <a:xfrm>
            <a:off x="8231400" y="403848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84720" y="1700280"/>
            <a:ext cx="380880" cy="457200"/>
          </a:xfrm>
          <a:prstGeom prst="flowChartDecis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24000" y="112536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premier fichier pour l’en-tê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88000" y="148428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autre pour le cont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biner deux documents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!-- modeleCatalogue.xml --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&gt;   (...)   &lt;/hea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iv id="titr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table border="0" width="45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t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td width="170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nt color="#0000FF" size="5"&gt;Catalog&lt;/fon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b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cen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t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t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t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tab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inserer-plan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mbiner deux documents X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!-- on copie l’en-tête --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node()|@*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inserer-plante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elect="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document('plant_catalog.xml')/CATALOG/PLANT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avec modifications : ajouter un noe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node()|@*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COMMON|BOTANICA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NA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ZONE|LIGHT|PRICE|AVAILABILITY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document(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920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ression Xpath permettant d’accéder à la racine d’un document XML extérieur au document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nom du document source est entre guillemets ou entre apostrop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lect="document('plant_catalog.xml')/CATALOG/PLAN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lect='document("plant_catalog.xml")/CATALOG/PLANT'/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duire plusieurs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0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result-document href="index.htm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 mode ="index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result-docu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result-document href="plant_catalog.htm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 mode="contenu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result-docume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node()|@*" mode ="index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 mode ="index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duire plusieurs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0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template match="PLANT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l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 href="plant_catalog.html#{COMMON}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value-of select="COMMON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l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template match="PLANT" mode ="contenu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 name="{COMMON}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p class="section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value-of select="COMMON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iv id="soustitr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li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value-of select="BOTANICAL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TD et espace de noms X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55640" y="1412640"/>
            <a:ext cx="770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DOCTYPE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BLIC "-//W3C//DTD XHTML 1.0 Strict//EN" "http://www.w3.org/TR/xhtml1/DTD/xhtml1-strict.dtd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html xmlns="http://www.w3.org/1999/xhtm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yntaxe XHTML stric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de la DTD (DOCTYPE) avant l'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ation de l'espace de noms X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ngendrer le Doctype en XHT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1484280"/>
            <a:ext cx="769608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creerPageDTD.xsl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rsion="1.1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="http://www.w3.org/1999/xhtml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output method="xml" indent="yes" encoding="ISO-8859-1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ype-system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http://www.w3.org/TR/xhtml1/DTD/xhtml1-strict.dt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type-public="-//W3C//DTD XHTML 1.0 Strict//E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paces de noms (1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Un programme XSLT qui produit un document XHTML ou XSL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programme contient des instructions XSLT à exécuter (éléments) et des balises XHTML ou XSLFO à écrire (éléme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s éléments appartiennent à des espaces de noms distin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pace de noms : ensemble de noms garanti sans conflits inter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gramme XSLT produisant du XSLF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yleshe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xsl="http://www.w3.org/1999/XSL/Transfor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mlns:fo="http://www.w3.org/1999/XSL/Format" version="1.0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method="xml" indent="yes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p-space elements="page content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rule for the whole document: root element is page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 match="pag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o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-master-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Definition of a single master page. It is simple (no headers etc.)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-page-master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ster-name="fir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-left="2cm"  margin-right="2c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gin-bottom="0.5cm" margin-top="0.75c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-width="21cm" page-height="29.7c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required element body 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-body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-page-mas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</a:t>
            </a:r>
            <a:r>
              <a:rPr b="1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: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out-master-se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paces de noms (2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haque espace de noms a un identificateur garanti unique (URI : universal resource identifi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xemples :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'espace de noms d'XS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6600"/>
                </a:solidFill>
                <a:latin typeface="Arial"/>
              </a:rPr>
              <a:t>http://www.w3.org/1999/XSL/Trans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'espace de noms d'XSLFO</a:t>
            </a:r>
            <a:r>
              <a:rPr b="0" lang="fr-FR" sz="2400" spc="-1" strike="noStrike">
                <a:solidFill>
                  <a:srgbClr val="006600"/>
                </a:solidFill>
                <a:latin typeface="Arial Unicode MS"/>
              </a:rPr>
              <a:t> </a:t>
            </a:r>
            <a:r>
              <a:rPr b="0" lang="fr-FR" sz="2400" spc="-1" strike="noStrike">
                <a:solidFill>
                  <a:srgbClr val="006600"/>
                </a:solidFill>
                <a:latin typeface="Arial Unicode MS"/>
              </a:rPr>
              <a:t>	</a:t>
            </a:r>
            <a:r>
              <a:rPr b="0" lang="en-GB" sz="2400" spc="-1" strike="noStrike">
                <a:solidFill>
                  <a:srgbClr val="006600"/>
                </a:solidFill>
                <a:latin typeface="Arial Unicode MS"/>
              </a:rPr>
              <a:t>http://www.w3.org/1999/XSL/Format</a:t>
            </a:r>
            <a:r>
              <a:rPr b="0" lang="en-GB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s noms étendus (URI + nom appartenant à l’espace de noms) sont garantis sans confl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paces de noms (3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brév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espace de noms par défaut à l’intérieur d’un 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xmlns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&lt;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strip-space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réfixe remplaçant l’URI à l’intérieur d’un 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&lt;xsl:</a:t>
            </a:r>
            <a:r>
              <a:rPr b="0" lang="fr-FR" sz="2000" spc="-1" strike="noStrike">
                <a:solidFill>
                  <a:srgbClr val="800000"/>
                </a:solidFill>
                <a:latin typeface="Arial"/>
              </a:rPr>
              <a:t>strip-space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fixe + nom = nom qualifi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s déclarations sont héritées et éclipsées par d’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xmlns="" 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lipse sans décla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spaces de noms (4/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206064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s noeuds de type espace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jours attachés à un 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iennent les espaces de noms dont une déclaration est valable en cet 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déclaration peut être avec un préfixe ou par dé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déclaration peut être dans l'élément ou héri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copy&gt; les copie automatiquement avec l'élément auquel ils sont attach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Edited with XML Spy v4.2 --&gt;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2.44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ifier les données en XSLT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55640" y="1125360"/>
            <a:ext cx="7704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template match="CATALOG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apply-templates select="PLANT[AVAILABILITY&amp;lt;040099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template match="PLANT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apply-templates select="COMMON|ZONE|LIGHT|PRICE|AVAILABILITY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template match="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... et appeler une feuille de style XS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755640" y="1267920"/>
            <a:ext cx="770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processing-instruction name="xml-styleshee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text&gt;type="text/xsl" href="XMLtoHTML.xsl"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/xsl:processing-instructi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om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xt&gt; This document is generated by an XSLT program 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om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?xml-stylesheet type="text/xsl" href="XMLtoHTML.xsl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This document is generated by an XSLT program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CATAL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COMMON&gt;Bloodroot&lt;/COMM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ZONE&gt;4&lt;/ZO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LIGHT&gt;Mostly Shady&lt;/LIGH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PRICE&gt;$2.44&lt;/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AVAILABILITY&gt;031599&lt;/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dicat dans une expressio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lect="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ression relative : les éléments PLANT fils de l'élément courant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lect="PLANT[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VAILABILITY&amp;lt;040099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]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l'intérieur des crochets : prédi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dicat = expression booléenne qui filtre une partie des noeuds obtenus en évaluant l'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 prédicat peut contenir des expressions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elles sont relatives, elles sont évaluées à partir de chaque noeud obtenu en évaluant l'expression 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eud contex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dicat dans une expressio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Noeud courant et noeud con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eud courant : change quand on appelle 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eud contexte : change quand on évalue une expressio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template match="CATALOG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apply-templates select="PLANT[AVAILABILITY&amp;lt;040099]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eud courant : CATALOG dans toute la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eud con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au début de l'évaluation de l'expression, 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pendant l'évaluation du prédicat,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33520" y="2276640"/>
            <a:ext cx="79023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gerBarre.xsl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string(AVAILABILITY,1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Donnees.xsl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LANT[AVAILABILITY&amp;lt;040099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comparer un ensemble de noeuds à un nombre, on convertit les noeuds en chaîne puis en nombre et on regarde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n des nombr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atisfait l'inéga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réer un commentaire dans le doc. 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e programme XSL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com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text&gt; This document is generated by an XSLT program &lt;/xsl:tex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/xsl:comme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le document résultat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This document is generated by an XSLT program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Ajouter un attrib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33920" y="2666880"/>
            <a:ext cx="144756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342900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90920" y="4267080"/>
            <a:ext cx="91440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267080"/>
            <a:ext cx="15242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6160" y="5181480"/>
            <a:ext cx="1418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loo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6" idx="2"/>
            <a:endCxn id="58" idx="0"/>
          </p:cNvCxnSpPr>
          <p:nvPr/>
        </p:nvCxnSpPr>
        <p:spPr>
          <a:xfrm flipH="1" rot="16200000">
            <a:off x="1154880" y="4940640"/>
            <a:ext cx="457920" cy="2448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821320" y="5181480"/>
            <a:ext cx="333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5" idx="2"/>
            <a:endCxn id="60" idx="0"/>
          </p:cNvCxnSpPr>
          <p:nvPr/>
        </p:nvCxnSpPr>
        <p:spPr>
          <a:xfrm rot="5400000">
            <a:off x="2788560" y="4922640"/>
            <a:ext cx="457920" cy="61200"/>
          </a:xfrm>
          <a:prstGeom prst="bentConnector3">
            <a:avLst>
              <a:gd name="adj1" fmla="val 4996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62" name=""/>
          <p:cNvSpPr/>
          <p:nvPr/>
        </p:nvSpPr>
        <p:spPr>
          <a:xfrm>
            <a:off x="6781680" y="3429000"/>
            <a:ext cx="106704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3" idx="2"/>
            <a:endCxn id="54" idx="0"/>
          </p:cNvCxnSpPr>
          <p:nvPr/>
        </p:nvCxnSpPr>
        <p:spPr>
          <a:xfrm rot="5400000">
            <a:off x="3714120" y="2685600"/>
            <a:ext cx="305640" cy="1181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53" idx="2"/>
            <a:endCxn id="62" idx="0"/>
          </p:cNvCxnSpPr>
          <p:nvPr/>
        </p:nvCxnSpPr>
        <p:spPr>
          <a:xfrm flipH="1" rot="16200000">
            <a:off x="5733000" y="1847520"/>
            <a:ext cx="305640" cy="2858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54" idx="2"/>
            <a:endCxn id="56" idx="0"/>
          </p:cNvCxnSpPr>
          <p:nvPr/>
        </p:nvCxnSpPr>
        <p:spPr>
          <a:xfrm rot="5400000">
            <a:off x="2133000" y="3124080"/>
            <a:ext cx="381600" cy="190584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 rot="5400000">
            <a:off x="2971080" y="3962160"/>
            <a:ext cx="381600" cy="2293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67" name=""/>
          <p:cNvCxnSpPr>
            <a:stCxn id="68" idx="2"/>
            <a:endCxn id="53" idx="0"/>
          </p:cNvCxnSpPr>
          <p:nvPr/>
        </p:nvCxnSpPr>
        <p:spPr>
          <a:xfrm>
            <a:off x="4457520" y="1752480"/>
            <a:ext cx="108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9" name=""/>
          <p:cNvSpPr/>
          <p:nvPr/>
        </p:nvSpPr>
        <p:spPr>
          <a:xfrm>
            <a:off x="22860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?xml...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68" idx="2"/>
            <a:endCxn id="69" idx="0"/>
          </p:cNvCxnSpPr>
          <p:nvPr/>
        </p:nvCxnSpPr>
        <p:spPr>
          <a:xfrm rot="5400000">
            <a:off x="2456640" y="132840"/>
            <a:ext cx="381960" cy="362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81080" y="2133720"/>
            <a:ext cx="1219320" cy="4572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&lt;!--...-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8" idx="2"/>
            <a:endCxn id="72" idx="0"/>
          </p:cNvCxnSpPr>
          <p:nvPr/>
        </p:nvCxnSpPr>
        <p:spPr>
          <a:xfrm rot="5400000">
            <a:off x="3333240" y="1009440"/>
            <a:ext cx="381960" cy="18676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7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354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53" idx="2"/>
            <a:endCxn id="78" idx="0"/>
          </p:cNvCxnSpPr>
          <p:nvPr/>
        </p:nvCxnSpPr>
        <p:spPr>
          <a:xfrm rot="5400000">
            <a:off x="3170160" y="2141280"/>
            <a:ext cx="305640" cy="2270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205884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768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850160" y="34290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3" idx="2"/>
            <a:endCxn id="79" idx="0"/>
          </p:cNvCxnSpPr>
          <p:nvPr/>
        </p:nvCxnSpPr>
        <p:spPr>
          <a:xfrm flipH="1" rot="16200000">
            <a:off x="5189400" y="2391840"/>
            <a:ext cx="305640" cy="17690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53" idx="2"/>
            <a:endCxn id="80" idx="0"/>
          </p:cNvCxnSpPr>
          <p:nvPr/>
        </p:nvCxnSpPr>
        <p:spPr>
          <a:xfrm flipH="1" rot="16200000">
            <a:off x="6065640" y="1515600"/>
            <a:ext cx="305640" cy="352152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53" idx="2"/>
          </p:cNvCxnSpPr>
          <p:nvPr/>
        </p:nvCxnSpPr>
        <p:spPr>
          <a:xfrm flipH="1" rot="16200000">
            <a:off x="6228360" y="1352520"/>
            <a:ext cx="153360" cy="36961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8307360" y="304812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54" idx="2"/>
            <a:endCxn id="86" idx="0"/>
          </p:cNvCxnSpPr>
          <p:nvPr/>
        </p:nvCxnSpPr>
        <p:spPr>
          <a:xfrm rot="5400000">
            <a:off x="1664640" y="2655720"/>
            <a:ext cx="381600" cy="284256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86" name=""/>
          <p:cNvSpPr/>
          <p:nvPr/>
        </p:nvSpPr>
        <p:spPr>
          <a:xfrm>
            <a:off x="30636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7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90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54" idx="2"/>
            <a:endCxn id="87" idx="0"/>
          </p:cNvCxnSpPr>
          <p:nvPr/>
        </p:nvCxnSpPr>
        <p:spPr>
          <a:xfrm rot="5400000">
            <a:off x="2655360" y="3646440"/>
            <a:ext cx="381600" cy="8611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0" name=""/>
          <p:cNvCxnSpPr>
            <a:stCxn id="54" idx="2"/>
            <a:endCxn id="88" idx="0"/>
          </p:cNvCxnSpPr>
          <p:nvPr/>
        </p:nvCxnSpPr>
        <p:spPr>
          <a:xfrm flipH="1" rot="16200000">
            <a:off x="3341880" y="3820680"/>
            <a:ext cx="381600" cy="5119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4267080" y="4267080"/>
            <a:ext cx="76212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48520" y="4267080"/>
            <a:ext cx="1066680" cy="4572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680" y="5105520"/>
            <a:ext cx="18846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stly Sh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73800" y="5373720"/>
            <a:ext cx="8665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$2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416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54" idx="2"/>
            <a:endCxn id="91" idx="0"/>
          </p:cNvCxnSpPr>
          <p:nvPr/>
        </p:nvCxnSpPr>
        <p:spPr>
          <a:xfrm flipH="1" rot="16200000">
            <a:off x="3772080" y="3390480"/>
            <a:ext cx="381600" cy="137232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8" name=""/>
          <p:cNvCxnSpPr>
            <a:stCxn id="54" idx="2"/>
            <a:endCxn id="95" idx="0"/>
          </p:cNvCxnSpPr>
          <p:nvPr/>
        </p:nvCxnSpPr>
        <p:spPr>
          <a:xfrm flipH="1" rot="16200000">
            <a:off x="4293360" y="2868480"/>
            <a:ext cx="381600" cy="241668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54" idx="2"/>
            <a:endCxn id="92" idx="0"/>
          </p:cNvCxnSpPr>
          <p:nvPr/>
        </p:nvCxnSpPr>
        <p:spPr>
          <a:xfrm flipH="1" rot="16200000">
            <a:off x="4838760" y="2323800"/>
            <a:ext cx="381600" cy="3505680"/>
          </a:xfrm>
          <a:prstGeom prst="bentConnector3">
            <a:avLst>
              <a:gd name="adj1" fmla="val 49952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91" idx="2"/>
            <a:endCxn id="93" idx="0"/>
          </p:cNvCxnSpPr>
          <p:nvPr/>
        </p:nvCxnSpPr>
        <p:spPr>
          <a:xfrm rot="5400000">
            <a:off x="4357080" y="4814640"/>
            <a:ext cx="381960" cy="20088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92" idx="2"/>
            <a:endCxn id="94" idx="0"/>
          </p:cNvCxnSpPr>
          <p:nvPr/>
        </p:nvCxnSpPr>
        <p:spPr>
          <a:xfrm flipH="1" rot="16200000">
            <a:off x="6468840" y="5036040"/>
            <a:ext cx="650160" cy="26280"/>
          </a:xfrm>
          <a:prstGeom prst="bentConnector3">
            <a:avLst>
              <a:gd name="adj1" fmla="val 49861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8231400" y="4038480"/>
            <a:ext cx="4093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1295280"/>
            <a:ext cx="381240" cy="457200"/>
          </a:xfrm>
          <a:prstGeom prst="flowChartDecision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jouter un attri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node()|@*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PRIC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ttribute name="unit"&gt;dollar&lt;/xsl:attribu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!-- Edited with XML Spy v4.2 --&gt;&lt;CATALOG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COMMON&gt;Bloodroot&lt;/COMMO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BOTANICAL&gt;Sanguinaria canadensis&lt;/BOTANICA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ZONE&gt;4&lt;/ZON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GHT&gt;Mostly Shady&lt;/LIGH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RICE unit="dollar"&gt;$2.44&lt;/PRIC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AVAILABILITY&gt;031599&lt;/AVAILABILIT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PLAN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7:05:44Z</dcterms:created>
  <dc:creator>laporte</dc:creator>
  <dc:description/>
  <dc:language>en-US</dc:language>
  <cp:lastModifiedBy>laporte</cp:lastModifiedBy>
  <dcterms:modified xsi:type="dcterms:W3CDTF">2008-02-07T12:43:51Z</dcterms:modified>
  <cp:revision>494</cp:revision>
  <dc:subject/>
  <dc:title>Situer son travail de recherche</dc:title>
</cp:coreProperties>
</file>