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1710-77DC-4C8D-81DD-4ADFC40C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5E2C-3E78-4053-9197-3AB20FB9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F0DC-064F-401C-A1C8-D48A91E0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5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6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85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6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60E9-6266-4C31-BE0E-6C4CB2C0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EC6C-B051-4742-B58C-DBB66D2E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A08F-D953-4B8C-8172-0A675EC0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7935-7557-4D44-9350-46AF7A9B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4803-00DD-4DD2-8EED-A3A124A8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1220-EE59-4FCE-8BD2-BA18F26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22093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8C8C-E4B5-41C7-8ED0-E43BAD84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9B31-9AB7-446D-BD2D-D8E507AB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6220-AAF7-4A37-A982-970B9DB1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BBB5-504F-4DBD-AD16-91F4AEE3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0E6-B6B3-4374-81FF-E64D201B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0CCB-D205-426F-8E05-DFD0EB09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ECAD-4890-45BE-9989-2A6F44BE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85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66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85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66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B26C-8141-4BF4-90F6-39E1EF08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615E-2E6D-4E20-9EC4-D292784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3A28-DD34-41B4-9332-4FFA9968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BEE1-9D91-478E-A99E-7583AD9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093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9817-3EDD-469E-92D4-E53E6AA4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A765-248E-4198-8FB2-46EE4524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396B5-171A-48AD-9460-ADE7004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BC0E-C2CC-47E7-AB23-AFF2446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4475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541E-314A-4068-8375-1783FFC0AB6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762120"/>
            <a:ext cx="6858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5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nd2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458200" cy="396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5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DAB6-E6D9-4792-A6BC-8401901CFB9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5120" y="2743200"/>
            <a:ext cx="7238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56386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brice AGU - IR2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002-200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6002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Serveurs d’application web pour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BE5E-E79C-4C48-A56E-981D21E6B7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Java Server Page (JSP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élange de code HTML et de Ja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é en HTML par le serveur d’appl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3429000"/>
          <a:ext cx="805788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80578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DF94-1CAB-48D6-BCC2-93E27EFD90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Java Server Page (JSP) - Exe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exempleCodeJSP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631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15F0-A9F0-4FC6-AF54-5B0442E15EC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odules Jav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514600"/>
          <a:ext cx="533412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533412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Génériques, réutilisables, maintenance fac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’ajoutent simplement au sein d’un si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3BBE-7BFF-4F9C-95E0-7D3DF3E6D7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odule Java – Exemple : Casto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But : supprimer toutes requêtes SQ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ooling de connexions (groupes de connexion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2438280"/>
          <a:ext cx="5662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5662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579132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Mapping de la BDD (format X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1B77-DB12-4FEB-81F0-C71A5A3D36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norama de quelque AS pour Jav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322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86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06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C81B-97C6-4B77-9EC5-03CFE64335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des principaux A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S testés : WebLogic, WebSphere, JRun, JBos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ints soulevés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mpatibili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érennité / Référ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ichesse fonctionnel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û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D4E0-4283-4DCA-847C-C8C018E9CE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–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Compatibilit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447920"/>
          <a:ext cx="749628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4962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ystème d’exploit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670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BDD reconnue par 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800600"/>
            <a:ext cx="7696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rme JSP 1.0 et 1.1 / Jav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B5C1-3AB9-4D02-9BA7-CBD913902F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– Pérennité / référenc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Outils 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oit représenter l'offre leader de l'éditeur.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diteur 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aille importante et ne pas être en position de se faire racheter / DCP / RJ / LJ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6553440" cy="36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990A-8E74-415E-A00C-2ACFBF88DF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-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ichesse fonctionnel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nctions supplémentaires, monté en charge, facilité d’utilisation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2286000"/>
          <a:ext cx="6933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6933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3A06-124A-49B7-A2BB-50768F8CA9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 - Coû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371600"/>
          <a:ext cx="7872480" cy="36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72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4A22-3F4E-40DD-98E0-1CB06FB74F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lan de la présent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 quoi ça sert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Qu’est-ce que c’est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urquoi Java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Java Server Pag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anorama de quelques Serveurs d’applic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ABEA-91D6-41B7-B06E-09FDC369B6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émonstration…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8" name="Concole%20Was%20PPT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1F3B-BF29-41AA-988A-CFBAAF0F1E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 dédié Java : site Internet de grande envergure (rapidité, coût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s logiciels libres et/ou gratuits n’ont pas encore leur place dans ce domain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02EE-C0BA-4DB9-BF0C-30FAB00611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057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Ques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38E-C9DC-4F3C-8B3B-A733E041EE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A quoi ça sert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Besoins sur Internet / Intranet / Extranet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mmuniquer avec des bases de donné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nsulter des web servic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ffectuer des recherch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olution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ite dynamique (Google, leMonde.fr, Météo France, SNCF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tilisation d’un serveur d’application we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0263-CC24-4745-94E1-9C95749CCF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Qu’est-ce qu’un Serveur d’application web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ogici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itué entre le navigateur web et le back-office (scripts, bases de données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Définition :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Un environnement de l'architecture qui fournit les briques techniques nécessaires à l'exécution d'applications web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TTENTION : APACHE N’EST PAS UN SERVEUR D’APPL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D2ED-68C1-4D98-B818-736FAA648D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Structure d’un serveur Interne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914400"/>
          <a:ext cx="8381880" cy="54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3818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2514-42E2-43E6-9E16-8DC6046575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nctionnalités attendu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e support des plates-form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Unix, Windows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répartition de charg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multiprocess, clustering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reprise sur incident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watchdog, redirection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e pooling de connexion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montée en charge, Cast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'ouverture vers l'existant, le respect des standard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Serveur HTTP, BDD, ERP, XML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gestion de contexte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sessions internaut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sécurité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'administration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(interfaces, facilité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productivité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time-to-market, outils supplémentair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5DCF-DB2E-48DD-B51D-13A9C1CE5A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rchitectur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archi%20-%209iAS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3886200" cy="2949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utes ces fonctionnalités impliquent une architecture !!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us les Serveurs d’application (AS) ont une architect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archi%20-%20jboss4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5" name="archi%20-%20general" descr=""/>
          <p:cNvPicPr/>
          <p:nvPr/>
        </p:nvPicPr>
        <p:blipFill>
          <a:blip r:embed="rId3"/>
          <a:stretch/>
        </p:blipFill>
        <p:spPr>
          <a:xfrm>
            <a:off x="2590920" y="2666880"/>
            <a:ext cx="335268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DA61-7870-4B82-A78E-DAAC42D379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harges - Nombre de Connexion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websphere%20workload%20example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15364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C1A7-68D9-4FF4-8B4D-811DCAE6CF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ourquoi Java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rogrammation orienté obje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éutilisation des composants, répartition mod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éveloppement simple, rap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Multiplatefor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nix, Linux, Windows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Rapidité d’exécu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Forte pérennité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=&gt; JS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2710-3AA7-4415-BDCA-AE09329416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6:31:28Z</dcterms:created>
  <dc:creator>Fabrice AGU</dc:creator>
  <dc:description/>
  <dc:language>en-US</dc:language>
  <cp:lastModifiedBy>fagu</cp:lastModifiedBy>
  <dcterms:modified xsi:type="dcterms:W3CDTF">2002-10-23T21:18:24Z</dcterms:modified>
  <cp:revision>317</cp:revision>
  <dc:subject>Serveurs d'application web pour java</dc:subject>
  <dc:title>Serveurs d'application web pour java</dc:title>
</cp:coreProperties>
</file>