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71FF-232E-4B03-A775-B515B6D1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EBEC-DD09-496D-BCAD-0162809F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AB7-75E0-4D25-9606-A2D469D8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139-E2A1-474D-85AE-2874F192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C867-CE21-4AA5-88B9-5A9B9738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D1D1-FCA2-4E59-B91E-62EDB1FD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B761-5BF5-4B9B-B338-DBD771A4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D4B6-C217-4D3A-8337-D291FB2E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5C50-207F-4D08-8061-7CB94CC3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1B7C-498C-4AA8-9140-1CA61E52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3809-9AD9-47D1-990D-B41952F8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C97-F077-4388-A13E-5ACEB27D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A60B-9F62-4B92-91DB-FD2A70BA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302F-67AC-44CE-B016-323F70C2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1C64-A02C-4BCE-B2B8-FD07FEED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57AB-DDFD-4E7B-B09B-DADD4625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05EC-A627-4986-BE7A-B31C97CE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11C-9045-4354-905F-3E803E9D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141-17FD-4CDA-AB09-D16951A3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204D-E603-453A-88D4-73DF3177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853-FF7A-422C-B153-6A72CB79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37C-ACCC-45A6-98A3-B88B37F1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122-0BAD-4322-87AD-499E9F66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286-46B0-467B-B19D-AF0B2A6F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0407-6780-4F56-ADFE-3903B38613FB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6308-9037-46C4-8950-C600B0B59AC4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87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Impact"/>
              </a:rPr>
              <a:t>LA SURETE DE FONCTIONNEMENT ( S D F )</a:t>
            </a:r>
            <a:endParaRPr b="0" lang="en-US" sz="3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23920" y="1676160"/>
            <a:ext cx="5715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Bookman Old Style"/>
              </a:rPr>
              <a:t>Nicolas DAUJEAR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Bookman Old Style"/>
              </a:rPr>
              <a:t>IR3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4038480"/>
            <a:ext cx="2874960" cy="2224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29200" y="3429000"/>
            <a:ext cx="2819520" cy="1981080"/>
          </a:xfrm>
          <a:prstGeom prst="cloudCallout">
            <a:avLst>
              <a:gd name="adj1" fmla="val -96620"/>
              <a:gd name="adj2" fmla="val -111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395928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CURITE, ANALYSE DES RISQUES, PLANS DE PREVENTION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23880" y="2590920"/>
            <a:ext cx="24289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'EST PARTI 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05720" y="5327640"/>
            <a:ext cx="208584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484360" y="3068640"/>
            <a:ext cx="3962520" cy="175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39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'EST TERMINE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2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LA SURETE  DE FONCTIONNEMENT  ( S D F )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2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DEFINITION DE LA SDF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3200400"/>
            <a:ext cx="4038480" cy="2514600"/>
          </a:xfrm>
          <a:custGeom>
            <a:avLst/>
            <a:gdLst>
              <a:gd name="textAreaLeft" fmla="*/ 1009440 w 4038480"/>
              <a:gd name="textAreaRight" fmla="*/ 3029040 w 4038480"/>
              <a:gd name="textAreaTop" fmla="*/ 628560 h 2514600"/>
              <a:gd name="textAreaBottom" fmla="*/ 1886040 h 251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2133720"/>
            <a:ext cx="1752480" cy="10666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FIABI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34320" y="2971800"/>
            <a:ext cx="1066680" cy="289548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5715000"/>
            <a:ext cx="2362320" cy="914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1932"/>
                </a:solidFill>
                <a:latin typeface="Times New Roman"/>
              </a:rPr>
              <a:t>MAINTENABIL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048120"/>
            <a:ext cx="1143000" cy="2895480"/>
          </a:xfrm>
          <a:prstGeom prst="flowChartAlternateProcess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42000" y="4098960"/>
            <a:ext cx="209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URE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FONCTIONN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373000">
            <a:off x="1255680" y="4226040"/>
            <a:ext cx="25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1932"/>
                </a:solidFill>
                <a:latin typeface="Times New Roman"/>
              </a:rPr>
              <a:t>DISPONIBI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373000">
            <a:off x="6287400" y="43063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1932"/>
                </a:solidFill>
                <a:latin typeface="Times New Roman"/>
              </a:rPr>
              <a:t>SECU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057400"/>
            <a:ext cx="2057400" cy="609480"/>
          </a:xfrm>
          <a:prstGeom prst="wedgeRectCallout">
            <a:avLst>
              <a:gd name="adj1" fmla="val -3935"/>
              <a:gd name="adj2" fmla="val 201300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s d ’arrêts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roduction!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2057400"/>
            <a:ext cx="1676520" cy="685800"/>
          </a:xfrm>
          <a:prstGeom prst="wedgeRectCallout">
            <a:avLst>
              <a:gd name="adj1" fmla="val -107953"/>
              <a:gd name="adj2" fmla="val 5949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s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Pann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6095880"/>
            <a:ext cx="2362320" cy="609840"/>
          </a:xfrm>
          <a:prstGeom prst="wedgeRectCallout">
            <a:avLst>
              <a:gd name="adj1" fmla="val 76611"/>
              <a:gd name="adj2" fmla="val 2760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Remise en Serv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1932"/>
                </a:solidFill>
                <a:latin typeface="Times New Roman"/>
              </a:rPr>
              <a:t>immédiat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6019920"/>
            <a:ext cx="2209680" cy="761760"/>
          </a:xfrm>
          <a:prstGeom prst="wedgeRectCallout">
            <a:avLst>
              <a:gd name="adj1" fmla="val -5388"/>
              <a:gd name="adj2" fmla="val -88958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Pas d ’évén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Critique o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Times New Roman"/>
              </a:rPr>
              <a:t>Catastrophiqu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21337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FIABILITE , MAINTENABILITE , DISPONIBILITE , SECUR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819520"/>
            <a:ext cx="1371600" cy="114300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289548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MAITRISE  DES RISQUES PREVISIONNELS EVALUES SUR UN SYSTEME EN CON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581280"/>
            <a:ext cx="609840" cy="838440"/>
          </a:xfrm>
          <a:prstGeom prst="downArrow">
            <a:avLst>
              <a:gd name="adj1" fmla="val 50000"/>
              <a:gd name="adj2" fmla="val 34371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4343400"/>
            <a:ext cx="3352680" cy="990720"/>
          </a:xfrm>
          <a:prstGeom prst="flowChartAlternateProcess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ENSE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STEMA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RIS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4267080"/>
            <a:ext cx="3505320" cy="1067040"/>
          </a:xfrm>
          <a:prstGeom prst="flowChartAlternateProcess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VALUATION 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ISQUES 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URS DE CON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0120" y="5562720"/>
            <a:ext cx="1295280" cy="12952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851440"/>
            <a:ext cx="609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MAITRISE  DES RISQUES RESIDUELS SUR UN SYSTEME EN EXPLOITATION OPERATIONN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7772400" cy="7239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PRINCIPES DE LA SDF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Impact"/>
              </a:rPr>
              <a:t>TECHNIQUES ET OUTILS DE LA SÛRETE DE FONCTIONNEMENT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2057400"/>
            <a:ext cx="2590920" cy="9144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QUANTIT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3886200"/>
            <a:ext cx="1904760" cy="1143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IAGRAMME 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ABI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3886200"/>
            <a:ext cx="1600200" cy="1143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MD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3886200"/>
            <a:ext cx="1904760" cy="1143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INTENABI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3962520"/>
            <a:ext cx="1828800" cy="1143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BR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FAILLA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9718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01000" y="51055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2057400"/>
            <a:ext cx="2514600" cy="9144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FONCTIONN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2057400"/>
            <a:ext cx="2590560" cy="9144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PRELIMINAI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ES RISQU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486400"/>
            <a:ext cx="2743200" cy="60948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Optim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de la Fiabilit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5486400"/>
            <a:ext cx="2743200" cy="60948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Optim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de la Maintenabilit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5638680"/>
            <a:ext cx="1828800" cy="106704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Optim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de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1932"/>
                </a:solidFill>
                <a:latin typeface="Times New Roman"/>
              </a:rPr>
              <a:t>Sécurit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5105520"/>
            <a:ext cx="3812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50292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29718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297180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3429000"/>
            <a:ext cx="6324480" cy="152280"/>
          </a:xfrm>
          <a:prstGeom prst="rect">
            <a:avLst/>
          </a:prstGeom>
          <a:solidFill>
            <a:srgbClr val="001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4290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4290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34290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34290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3300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6172200"/>
            <a:ext cx="2971800" cy="60948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Optim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e la Disponibilit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6172200"/>
            <a:ext cx="685800" cy="457200"/>
          </a:xfrm>
          <a:custGeom>
            <a:avLst/>
            <a:gdLst>
              <a:gd name="textAreaLeft" fmla="*/ 91800 w 685800"/>
              <a:gd name="textAreaRight" fmla="*/ 594000 w 6858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6172200"/>
            <a:ext cx="733680" cy="533520"/>
          </a:xfrm>
          <a:custGeom>
            <a:avLst/>
            <a:gdLst>
              <a:gd name="textAreaLeft" fmla="*/ 98280 w 733680"/>
              <a:gd name="textAreaRight" fmla="*/ 635400 w 73368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5029200"/>
            <a:ext cx="396252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14400" y="1411200"/>
            <a:ext cx="8229600" cy="5370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772400" cy="6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Impact"/>
              </a:rPr>
              <a:t>EXEMPLE DE DECOUPAGE FONCTIONNEL D ’UN SYSTEME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434960"/>
            <a:ext cx="8153280" cy="54230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333360"/>
            <a:ext cx="777240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Impact"/>
              </a:rPr>
              <a:t>EXEMPLE D ’ANALYSE FONCTIONNELLE DES ETATS D ’UN SYSTEME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ANALYSE QUANTITATIVE ET DIAGRAMME DE FIABILIT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362320"/>
            <a:ext cx="716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 partir de l ’analyse fonctionnelle, on dresse une schématisation du système sous forme de diagrammes  afin de montrer les équipements en série et en redonda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4191120"/>
            <a:ext cx="914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505320"/>
            <a:ext cx="800100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4343400"/>
            <a:ext cx="380880" cy="380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4272120"/>
            <a:ext cx="7621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3952800"/>
            <a:ext cx="838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B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4791240"/>
            <a:ext cx="838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B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733920"/>
            <a:ext cx="762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C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4419720"/>
            <a:ext cx="762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C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5079960"/>
            <a:ext cx="762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C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10280" y="4343400"/>
            <a:ext cx="381240" cy="380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Times New Roman"/>
              </a:rPr>
              <a:t>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67480" y="4495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4572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41911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029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191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38862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5334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4572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3886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96252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4572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477120" y="4647960"/>
            <a:ext cx="53316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572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50292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41911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4120" y="4572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5622840"/>
            <a:ext cx="716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Times New Roman"/>
              </a:rPr>
              <a:t>En introduisant les données quantitatives (MTBF, MTTR..), il est possible de tracer les courbes de fiabilité, maintenabilité et disponibilité en fonction du tem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1554120"/>
            <a:ext cx="8153280" cy="53038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19280" y="404640"/>
            <a:ext cx="6665760" cy="84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EXEMPLE DE COURBE DE FIABILIT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p:transition spd="med">
    <p:wipe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Impact"/>
              </a:rPr>
              <a:t>ANALYSE PRELIMINAIRE DES RISQUES ET ARBRES DE DEFAILLANC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2057400"/>
            <a:ext cx="716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L ’objectif est de mettre en évidence les combinaisons possibles d ’événements qui entraînent la réalisation d ’événements redoutés et de représenter ces combinaisons sous la forme d ’une structure arboresc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7086600" cy="39621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534520" y="2057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1T12:52:44Z</dcterms:created>
  <dc:creator>M.L. DAUJEARD</dc:creator>
  <dc:description/>
  <dc:language>en-US</dc:language>
  <cp:lastModifiedBy>Djino</cp:lastModifiedBy>
  <cp:lastPrinted>1998-09-15T11:37:22Z</cp:lastPrinted>
  <dcterms:modified xsi:type="dcterms:W3CDTF">2002-11-09T15:22:47Z</dcterms:modified>
  <cp:revision>176</cp:revision>
  <dc:subject/>
  <dc:title>PROFIL ET AVENIR DE L ’HOMME DE MAINTENANCE DE DEMAIN……...</dc:title>
</cp:coreProperties>
</file>