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CC63-5950-435E-9167-8EF4FEF69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E0FF-AC94-4409-BEC1-245870B26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86E6-8A7E-44A7-9EED-C86DE4795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CFD6-FBDC-41C1-9476-7BEBD617A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D035-6F41-4F13-9690-5ADCE7CF0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8501-6B6A-4660-8E1D-83187710D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1627-A574-4629-B0DF-B7E51B5EE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0BC6-0A59-4F75-A1C6-6FE18705E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3186-C49F-438A-A7E0-128A49919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A0F0-14C7-452E-A307-DEF31110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AAEF-5825-4530-9EF6-F93F0006C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8B31-2B27-4414-8F4A-846689FE3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2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86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4DB33-2ADE-4578-BAFD-224265796CF7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24080" y="425520"/>
            <a:ext cx="29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000099"/>
                </a:solidFill>
                <a:latin typeface="Times New Roman"/>
              </a:rPr>
              <a:t>Renaud Vayss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505320" y="6248520"/>
            <a:ext cx="216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29 novembre 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21800" y="2362320"/>
            <a:ext cx="5900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Times New Roman"/>
              </a:rPr>
              <a:t>CLUSTERING SOUS LINU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29528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FAI Ingénieurs 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4120" y="6248520"/>
            <a:ext cx="27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Filière Informatique &amp; Résea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logo_acc" descr=""/>
          <p:cNvPicPr/>
          <p:nvPr/>
        </p:nvPicPr>
        <p:blipFill>
          <a:blip r:embed="rId1"/>
          <a:stretch/>
        </p:blipFill>
        <p:spPr>
          <a:xfrm>
            <a:off x="533520" y="152280"/>
            <a:ext cx="1066680" cy="10670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020000" y="6248520"/>
            <a:ext cx="21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3ème année – Groupe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ngouin3" descr=""/>
          <p:cNvPicPr/>
          <p:nvPr/>
        </p:nvPicPr>
        <p:blipFill>
          <a:blip r:embed="rId2"/>
          <a:stretch/>
        </p:blipFill>
        <p:spPr>
          <a:xfrm>
            <a:off x="3195720" y="3276720"/>
            <a:ext cx="2751120" cy="2751120"/>
          </a:xfrm>
          <a:prstGeom prst="rect">
            <a:avLst/>
          </a:prstGeom>
          <a:ln w="0">
            <a:noFill/>
          </a:ln>
        </p:spPr>
      </p:pic>
      <p:pic>
        <p:nvPicPr>
          <p:cNvPr id="49" name="logo-umlv" descr=""/>
          <p:cNvPicPr/>
          <p:nvPr/>
        </p:nvPicPr>
        <p:blipFill>
          <a:blip r:embed="rId3"/>
          <a:stretch/>
        </p:blipFill>
        <p:spPr>
          <a:xfrm>
            <a:off x="7023240" y="285840"/>
            <a:ext cx="1496880" cy="7999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400800" y="127944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Université de Marne-La-Vallé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869760" y="106200"/>
            <a:ext cx="7290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buClr>
                <a:srgbClr val="000099"/>
              </a:buClr>
              <a:buFont typeface="Times New Roman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ARCHITECTURE RECOMMAND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1523880"/>
            <a:ext cx="787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Un matériel homogène dans une topologie « saine »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2514600"/>
            <a:ext cx="8686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éférer des Stations de travail homogènes (même architecture, mêmes composant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éférer des liaisons 100 Mb/s interconnectées par des switchs (suivant vos moyens bien entendu !!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mensionner et séparer les applications soit par tranche horaire soit par sous réseaux (par l’intermédiaire d’une passerel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AC56-8C0F-4F56-83FE-07A8B23EDB26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53360" y="425520"/>
            <a:ext cx="335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La question Logicie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160020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isir une distribution commune à l’ensemble des nod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isir une API (Application Program Interface) dédier à rendre le calcul collectif (PVM, MPI, BSP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9568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IEN CHOISIR LE PROJET QUE VOUS UTILISEREZ EN FONCTION DE VOS ATTEN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F819-3429-4EAB-AD24-683427FB8F4B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51920" y="106200"/>
            <a:ext cx="88387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buClr>
                <a:srgbClr val="000099"/>
              </a:buClr>
              <a:buFont typeface="Times New Roman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L</a:t>
            </a:r>
            <a:r>
              <a:rPr b="1" i="1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ES PROJETS DE CLUSTERS SOUS LINUX</a:t>
            </a: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5160" y="1295280"/>
            <a:ext cx="430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LVS (Linux Virtual Server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2280" y="2286000"/>
            <a:ext cx="8839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uster à répartition de charg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six, Resonate Dispatch series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et le fonctionnement d’applications réseaux sur un système supportant un plus grand nombre d’utilisat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oir l’exposé de Fred   ;0 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resses utiles : </a:t>
            </a:r>
            <a:r>
              <a:rPr b="0" i="1" lang="fr-FR" sz="24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http://lvs.fred-shwien.qqp, http://www.linuxvirtualserver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27C1-AC08-4ADE-A514-2457E618CB82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800" y="0"/>
            <a:ext cx="149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Beowulf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69960" y="18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4800" y="838080"/>
            <a:ext cx="84744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Cluster le plus connu du monde Linux, (parrainé par la NASA depuis 1994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usters scientifiques (tous comme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gion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i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ssica2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us les plus populaires APIs pour Linux (PVM et MPI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projet le plus documenté et le plus vastement répand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éveloppement d’</a:t>
            </a:r>
            <a:r>
              <a:rPr b="0" i="1" lang="fr-FR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xtreme Linux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dérivé de Beowulf, la première distribution de Linux en clus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resses utiles : </a:t>
            </a:r>
            <a:r>
              <a:rPr b="0" i="1" lang="fr-FR" sz="24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http://www.beowulf.org </a:t>
            </a:r>
            <a:r>
              <a:rPr b="0" lang="fr-FR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, </a:t>
            </a:r>
            <a:r>
              <a:rPr b="0" i="1" lang="fr-FR" sz="24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http://beowulf-underground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A766-5A3B-414F-A54D-B278B7E6AECB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800" y="0"/>
            <a:ext cx="566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PVFS (Parallel Virtual File System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4800" y="685800"/>
            <a:ext cx="8474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éveloppé par le laboratoire de recherche de l’université de Clemson, soutenu par la N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usters dits de « stockages combinés »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et de travailler avec des fichiers de très grandes tailles tout en minimisant les transfe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se une API native libpvfs et fonctionne sous Linux depuis le noyau 2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ilité d’utiliser conjointement à PVFS, ReiserFS, ext2fs ou même un dispositif RAI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resse utile : </a:t>
            </a:r>
            <a:r>
              <a:rPr b="0" lang="fr-FR" sz="24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http://parlweb.parl.clemson.edu/pvfs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F7DE-86FE-4480-8B4B-6730A8BC2D73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31120" y="166680"/>
            <a:ext cx="292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Linux-HA Projec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4800" y="914400"/>
            <a:ext cx="8474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 u="sng">
                <a:solidFill>
                  <a:srgbClr val="000099"/>
                </a:solidFill>
                <a:uFillTx/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èmes à hautes disponibilités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et de maintenir un heartbeat entre les nodes d’un serveu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et à un node de prendre l’identité réseau d’un node défectueu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resse utile :</a:t>
            </a:r>
            <a:r>
              <a:rPr b="0" i="1" lang="fr-FR" sz="24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 http://linux-ha.or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457200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e tout n’est pas de monter le cluster !!!! Il faut aussi l’administrer ! Pour cela penser à ALINKA (Raisin ou Orange suivant votre cluster) 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http://www.alinka.f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7784-BB18-41AA-B828-F495AFE69C64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395360" y="2178000"/>
            <a:ext cx="6383520" cy="210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99"/>
                </a:solidFill>
                <a:latin typeface="Futura XBlkIt BT"/>
              </a:rPr>
              <a:t>C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99"/>
                </a:solidFill>
                <a:latin typeface="Futura XBlkIt BT"/>
              </a:rPr>
              <a:t>MOSIX: LE CLUSTER DE T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Futura XBlkIt BT"/>
                <a:ea typeface="Times New Roman"/>
              </a:rPr>
              <a:t>(http://www.mosix.org)</a:t>
            </a:r>
            <a:r>
              <a:rPr b="0" lang="fr-FR" sz="2400" spc="-1" strike="noStrike">
                <a:solidFill>
                  <a:srgbClr val="000099"/>
                </a:solidFill>
                <a:latin typeface="Futura XBlkIt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C1C5-EB2E-4BA2-A119-C89069FB989E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475360" y="106200"/>
            <a:ext cx="41932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buClr>
                <a:srgbClr val="000099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WHAT IS MOSIX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98440" y="1447920"/>
            <a:ext cx="625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uster à répartition de charge entre process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21337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 et enrichissement du noyau Linux (patchs + quelques binaires) afin de supporter le cluster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2760" y="3124080"/>
            <a:ext cx="81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que Nodes est équivalent et tourne sous un noyau MOSI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97000" y="3809880"/>
            <a:ext cx="70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sation d’un algorithme dit de « fork and forget »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97360" y="4495680"/>
            <a:ext cx="543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misation constante de la réparti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1680" y="5181480"/>
            <a:ext cx="430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ès simple à mettre en œuv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446C-304E-45BA-9B6D-F2EB528F969B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034280" y="106200"/>
            <a:ext cx="70628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buClr>
                <a:srgbClr val="000099"/>
              </a:buClr>
              <a:buFont typeface="Times New Roman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INSTALLER UN CLUSTER MOS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-360" y="990720"/>
            <a:ext cx="197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Install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65240" y="3165480"/>
            <a:ext cx="4664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1676520"/>
            <a:ext cx="91440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élécharger et « détarrer » la version de MOSIX, suivant la version de votre noyau à l’adresse : </a:t>
            </a:r>
            <a:r>
              <a:rPr b="0" lang="fr-FR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http://www.mosix.org/</a:t>
            </a:r>
            <a:r>
              <a:rPr b="0" lang="fr-FR" sz="2000" spc="-1" strike="noStrike" u="sng">
                <a:solidFill>
                  <a:srgbClr val="3333cc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3333cc"/>
                </a:solidFill>
                <a:uFillTx/>
                <a:latin typeface="Courier New"/>
                <a:ea typeface="Courier New"/>
              </a:rPr>
              <a:t>MOSIX 1.5.2 for Linux 2.4.13 [407KB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3333cc"/>
                </a:solidFill>
                <a:uFillTx/>
                <a:latin typeface="Courier New"/>
                <a:ea typeface="Courier New"/>
              </a:rPr>
              <a:t>MOSIX 0.98.0 for Linux 2.2.19 [700KB]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327672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ilité d’avoir d’autre format d’installation pour d’autre distribution (Debian, Slackware, RPM…)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42670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isir son type d’installation : manuelle ou automatiq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50292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ilité d’utiliser des assistants de distribution, comme LTSP (</a:t>
            </a:r>
            <a:r>
              <a:rPr b="0" lang="fr-FR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www.LTSP.org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dans une architecture homogène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D491-C8F6-4BE9-8F04-920A8E2BF691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914400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installation de MOSIX vient modifier les fichiers :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etc/initt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etc/inetd.conf and/or /etc/xinetd.d/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etc/lilo.con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etc/rc.d/init.d/at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etc/cron.daily/slocate.c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 renomme les versions originales en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pre_mosi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24382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re le manuel d’installation pour les procédures communes ; il est très explicite   ;0) !!!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60" y="3657600"/>
            <a:ext cx="236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Configur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60360" y="4572000"/>
            <a:ext cx="662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3300"/>
                </a:solidFill>
                <a:uFillTx/>
                <a:latin typeface="Times New Roman"/>
                <a:ea typeface="Times New Roman"/>
              </a:rPr>
              <a:t>Point fort de MOSIX 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le script d’installation s’est chargé tout seul de la configuration du node du clust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6717-C757-4039-B7B7-BD3ECB1D8BC8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314880" y="152280"/>
            <a:ext cx="2514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SOMMA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-307800" y="2082960"/>
            <a:ext cx="70768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Généralités sur les clus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éfinition, terminologie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-307440" y="3378240"/>
            <a:ext cx="78998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lustering sous Linu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tivations, projets, solution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-43920" y="4597560"/>
            <a:ext cx="65937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xemple de clusters Linux : MOS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llation, gestion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CEAF-B856-462D-B113-FFFD3ACE752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40760" y="289080"/>
            <a:ext cx="663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Topologie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: par l’intermédiaire du fichier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etc/mosix.map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4080" y="838080"/>
            <a:ext cx="84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</a:rPr>
              <a:t>Syntaxe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OSIX-node-number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P-address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ange-size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4080" y="1371600"/>
            <a:ext cx="46004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xempl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#fichier /etc/mosix.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92.168.0.1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7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92.168.0.100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7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92.168.1.100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L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8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92.168.1.1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9760" y="3809880"/>
            <a:ext cx="354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mmande utile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: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n mosix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14400" y="472428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N’OUBLIEZ PAS DE CONFIGURER L’ACTIVATION / DESACTIVATION DE MOSIX AU SEIN DU SYSTEME.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1AA3-EE94-4D21-9C73-3F23EB4464DB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-360" y="166680"/>
            <a:ext cx="24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Administr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" y="914400"/>
            <a:ext cx="8686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ivi et configuration du cluster grâce aux entrées ajoutées dans 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proc/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ilités de collecter des informations relatives aux échanges  mais aussi aux process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ser les applications d’administration comme 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tpe, mon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cela facilite drôlement la vie !!!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ilité de migrer manuellement les processus les plus récalcitra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à encore les besoins d’administration évolue en fonction de vos attentes donc : 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n mosix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EF73-38E6-436B-BAC5-B607B3245408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373400" y="106200"/>
            <a:ext cx="6395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buClr>
                <a:srgbClr val="000099"/>
              </a:buClr>
              <a:buFont typeface="Times New Roman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COMMENTAIRES SUR MOS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0666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ilité d’extension jusqu’à 65535 Nod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16765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nctionne sur des combinaisons de machines comme les workstation, les multiprocesseurs, les serveurs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2590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écialement conçu pour la famille des processeurs Intel-x86 et compatib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581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quilibrage de manière transparen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4267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écute plus d’applications en instantané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49528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in de performance significatif qu’avec des processus bien distribué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5562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migration de processus est une opération coûteu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A5DA-D787-487C-8060-10A22ACF0048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43080" y="380880"/>
            <a:ext cx="8458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OSIX S’AFFICHE TOUTEFOIS COMME UNE SOLUTION IDEALE DANS LE CADRE D’UN SERVEUR D’APPLICATION 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RÂCE A LUI CHAQUE UTILISATEUR CONNECTE A DISTANCE DISPOSERA DE PERFORMANCES CONST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lord" descr=""/>
          <p:cNvPicPr/>
          <p:nvPr/>
        </p:nvPicPr>
        <p:blipFill>
          <a:blip r:embed="rId2"/>
          <a:stretch/>
        </p:blipFill>
        <p:spPr>
          <a:xfrm>
            <a:off x="3103560" y="3352680"/>
            <a:ext cx="2935440" cy="2935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D916-17B1-47EA-8AB0-9C40FB62BF63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224720" y="2178000"/>
            <a:ext cx="669132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99"/>
                </a:solidFill>
                <a:latin typeface="Futura XBlkIt BT"/>
              </a:rPr>
              <a:t>A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99"/>
                </a:solidFill>
                <a:latin typeface="Futura XBlkIt BT"/>
              </a:rPr>
              <a:t>GENERALITES SUR LES CLUST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0293-F69C-4C40-BF47-5D85CE671E80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6000" y="1263600"/>
            <a:ext cx="168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Défin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1828800"/>
            <a:ext cx="7924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cluster est un ensemble d’ordinateurs connectés les uns aux autres en réseau dans le but de partager des ressourc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terme clair, il s’agit d’une batterie d’ordinateurs, tous interconnectés et capables de traiter de concert un même trav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5640" y="4311720"/>
            <a:ext cx="162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Distingu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971080" y="4952880"/>
            <a:ext cx="320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ème en clust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iciel en clust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88080" y="85680"/>
            <a:ext cx="65570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buClr>
                <a:srgbClr val="000099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QU’EST CE QU’UN CLUSTER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5B35-D018-4069-944E-BF2CB7038A27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493080" y="152280"/>
            <a:ext cx="215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Terminolog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80880" y="2038320"/>
          <a:ext cx="1524240" cy="3543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2038320"/>
                    <a:ext cx="1524240" cy="35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6819840" y="3117960"/>
          <a:ext cx="1943280" cy="13827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19840" y="3117960"/>
                    <a:ext cx="194328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3646440" y="3478320"/>
          <a:ext cx="1849320" cy="662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646440" y="3478320"/>
                    <a:ext cx="1849320" cy="6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1676520" y="2971800"/>
            <a:ext cx="23619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1676520" y="3733920"/>
            <a:ext cx="236196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105520" y="37339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43080" y="1828800"/>
            <a:ext cx="8458200" cy="39625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925040" y="190188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8160" y="289404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âch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16760" y="449424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âch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305920" y="3809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86560" y="5791320"/>
            <a:ext cx="13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412600" y="3352680"/>
            <a:ext cx="17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âch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âche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305920" y="3429000"/>
            <a:ext cx="9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âch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6706-37AB-448C-88D2-CD23FC1B0710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809280" y="152280"/>
            <a:ext cx="75157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buClr>
                <a:srgbClr val="000099"/>
              </a:buClr>
              <a:buFont typeface="Times New Roman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LES MOTIVATIONS D’UN CLUS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84320" y="1600200"/>
            <a:ext cx="6973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Cluster scientifiqu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(déchiffrement des clés de cryptage de plus en plus longues, simulation nucléaire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Cluster de stockag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(stockage d’énormes fichiers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Cluster haute disponibilité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(architecture firewall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FR" sz="2400" spc="-1" strike="noStrike" u="sng">
                <a:solidFill>
                  <a:srgbClr val="000000"/>
                </a:solidFill>
                <a:uFillTx/>
                <a:latin typeface="Times New Roman"/>
              </a:rPr>
              <a:t>Cluster à répartition de charg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(architecture serveur web, architecture système utilisateur…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8BDC-7147-4441-BA9E-AC77E0CC004C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067040" y="152280"/>
            <a:ext cx="70099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 algn="ctr">
              <a:buClr>
                <a:srgbClr val="000099"/>
              </a:buClr>
              <a:buFont typeface="Times New Roman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« CLUSTERING EVERYWHERE 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120" y="167652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 clusters « propriétaires » : architecture et prestation chère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IBM, HP, SUN 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62120" y="266688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es solutions commerciales de clustering : architecture peu chère mais prestation ch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(CheckPoint, Epsilan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3581280"/>
            <a:ext cx="7619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es clusters « bizarres »: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a l’impression que c’est pas chère mais a force de cumuler on se dit que le super calculateur aurait pu être bien en fin de compt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(Windows 2000 datacenter server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5181480"/>
            <a:ext cx="761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 solutions de clustering Linux : c’est le chapitre suivant ;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3B98-1828-48D8-9BDA-607C0FF2B7A9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647360" y="2178000"/>
            <a:ext cx="586368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99"/>
                </a:solidFill>
                <a:latin typeface="Futura XBlkIt BT"/>
              </a:rPr>
              <a:t>B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99"/>
                </a:solidFill>
                <a:latin typeface="Futura XBlkIt BT"/>
              </a:rPr>
              <a:t>LE CLUSTERING SOUS LINU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C7BD-784C-4D8B-B370-B960F89226DE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518120" y="106200"/>
            <a:ext cx="61059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buClr>
                <a:srgbClr val="000099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OURQUOI CHOISIR LIN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96360" y="1219320"/>
            <a:ext cx="2951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Times New Roman"/>
              </a:rPr>
              <a:t>LE PRIX !!!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17240" y="1981080"/>
            <a:ext cx="6706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 sur la plupart des distributions gratuites du march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se de simple PC pour les Nodes du cluster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ilise des logiciels sous licence GPL (PVM, MPI …)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23760" y="3809880"/>
            <a:ext cx="72961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Times New Roman"/>
              </a:rPr>
              <a:t>L’OUVERTURE « D’ESPRIT » !!!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31200" y="4572000"/>
            <a:ext cx="8480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e communauté Linuxienne présente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 projets Open Source éprouvés et fiables (beowulf, Mosix, Legion, LVS…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 projets répondants aux attentes de tous les types de clus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naud Vayssade - IR 99 - Groupe 1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7850-0C2A-410C-8CA0-696D4F775977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9 novemb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4T13:25:32Z</dcterms:created>
  <dc:creator>Renaud Vayssade</dc:creator>
  <dc:description/>
  <dc:language>en-US</dc:language>
  <cp:lastModifiedBy>Renaud</cp:lastModifiedBy>
  <dcterms:modified xsi:type="dcterms:W3CDTF">2002-01-20T20:10:09Z</dcterms:modified>
  <cp:revision>33</cp:revision>
  <dc:subject>comment réaliser un cluster à moindre cout</dc:subject>
  <dc:title>Le clustering sous Linux</dc:title>
</cp:coreProperties>
</file>