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392-3FFD-4A2D-9714-24297C9C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858-AB50-483E-9253-CA75DF5F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9C2-97DE-4847-9209-D0331C59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8989-7877-4CCE-9824-F2B2D0EA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FB4-E2F1-45FD-AA83-793ADC84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D50-78C0-4E4B-BCC9-1C5C836D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32F-43BB-482E-AEDA-52C8EB11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F111-4ADB-49E4-BD9C-418448C2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483A-E619-47C5-BC92-08FC992F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8F1-CD2F-4EBA-9A1A-13BCAD34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1E8-1816-4754-955A-9F5C5C6E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338D-8738-4C02-8C44-C0A8E21D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28EE-2808-45FD-9BCE-A0FC4706607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42552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99"/>
                </a:solidFill>
                <a:latin typeface="Times New Roman"/>
              </a:rPr>
              <a:t>Renaud Vayss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6248520"/>
            <a:ext cx="21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9 novembre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21800" y="2362320"/>
            <a:ext cx="5900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CLUSTERING SOUS LIN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FAI Ingénieurs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120" y="6248520"/>
            <a:ext cx="27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lière Informatique &amp; Rése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_acc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020000" y="6248520"/>
            <a:ext cx="21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ème année – Group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ngouin3" descr=""/>
          <p:cNvPicPr/>
          <p:nvPr/>
        </p:nvPicPr>
        <p:blipFill>
          <a:blip r:embed="rId2"/>
          <a:stretch/>
        </p:blipFill>
        <p:spPr>
          <a:xfrm>
            <a:off x="3195720" y="3276720"/>
            <a:ext cx="2751120" cy="2751120"/>
          </a:xfrm>
          <a:prstGeom prst="rect">
            <a:avLst/>
          </a:prstGeom>
          <a:ln w="0">
            <a:noFill/>
          </a:ln>
        </p:spPr>
      </p:pic>
      <p:pic>
        <p:nvPicPr>
          <p:cNvPr id="49" name="logo-umlv" descr=""/>
          <p:cNvPicPr/>
          <p:nvPr/>
        </p:nvPicPr>
        <p:blipFill>
          <a:blip r:embed="rId3"/>
          <a:stretch/>
        </p:blipFill>
        <p:spPr>
          <a:xfrm>
            <a:off x="7023240" y="285840"/>
            <a:ext cx="1496880" cy="799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00800" y="127944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iversité de Marne-La-Vall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69760" y="106200"/>
            <a:ext cx="7290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ARCHITECTURE RECOMMAND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3880"/>
            <a:ext cx="78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Un matériel homogène dans une topologie « saine »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5146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férer des Stations de travail homogènes (même architecture, mêmes composant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férer des liaisons 100 Mb/s interconnectées par des switchs (suivant vos moyens bien entendu !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onner et séparer les applications soit par tranche horaire soit par sous réseaux (par l’intermédiaire d’une passere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4D9C-A0AE-43C3-8235-0869F003E14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3360" y="42552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a question Logici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6002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e distribution commune à l’ensemble des no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e API (Application Program Interface) dédier à rendre le calcul collectif (PVM, MPI, BSP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956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EN CHOISIR LE PROJET QUE VOUS UTILISEREZ EN FONCTION DE VOS AT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ABC-1521-476A-9076-C45E7B4E6B0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1920" y="106200"/>
            <a:ext cx="883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 PROJETS DE CLUSTERS SOUS LINUX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5160" y="1295280"/>
            <a:ext cx="43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VS (Linux Virtual Serv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286000"/>
            <a:ext cx="883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 à répartition de char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six, Resonate Dispatch serie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le fonctionnement d’applications réseaux sur un système supportant un plus grand nombre d’utilisa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oir l’exposé de Fred   ;0 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s utiles :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lvs.fred-shwien.qqp, http://www.linuxvirtualserver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42F-6661-48E3-95A1-E544A609E1C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00" y="0"/>
            <a:ext cx="14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Beowulf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9960" y="18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" y="838080"/>
            <a:ext cx="8474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luster le plus connu du monde Linux, (parrainé par la NASA depuis 1994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s scientifiques (tous comm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sica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s les plus populaires APIs pour Linux (PVM et MP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rojet le plus documenté et le plus vastement répan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d’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reme Linu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érivé de Beowulf, la première distribution de Linux en clu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s utiles :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www.beowulf.org 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beowulf-underground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4A20-0436-4F66-B523-AC9FBA288DE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00" y="0"/>
            <a:ext cx="56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VFS (Parallel Virtual File System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" y="685800"/>
            <a:ext cx="8474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é par le laboratoire de recherche de l’université de Clemson, soutenu par la 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s dits de « stockages combinés 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de travailler avec des fichiers de très grandes tailles tout en minimisant les transfe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une API native libpvfs et fonctionne sous Linux depuis le noyau 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utiliser conjointement à PVFS, ReiserFS, ext2fs ou même un dispositif RA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 utile : </a:t>
            </a:r>
            <a:r>
              <a:rPr b="0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parlweb.parl.clemson.edu/pvfs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45A-AFC9-4639-890B-3B42E44E9D2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31120" y="16668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inux-HA 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" y="914400"/>
            <a:ext cx="8474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èmes à hautes disponibilité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de maintenir un heartbeat entre les nodes d’un serv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à un node de prendre l’identité réseau d’un node défectue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 utile :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http://linux-ha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5720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tout n’est pas de monter le cluster !!!! Il faut aussi l’administrer ! Pour cela penser à ALINKA (Raisin ou Orange suivant votre cluster) 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ttp://www.alinka.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0CB-4155-41F2-9160-44BE4481831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95360" y="2178000"/>
            <a:ext cx="6383520" cy="21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99"/>
                </a:solidFill>
                <a:latin typeface="Futura XBlkIt BT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99"/>
                </a:solidFill>
                <a:latin typeface="Futura XBlkIt BT"/>
              </a:rPr>
              <a:t>MOSIX: LE CLUSTER DE T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Futura XBlkIt BT"/>
                <a:ea typeface="Times New Roman"/>
              </a:rPr>
              <a:t>(http://www.mosix.org)</a:t>
            </a:r>
            <a:r>
              <a:rPr b="0" lang="fr-FR" sz="2400" spc="-1" strike="noStrike">
                <a:solidFill>
                  <a:srgbClr val="000099"/>
                </a:solidFill>
                <a:latin typeface="Futura XBlkIt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81EC-5EAD-4D53-966B-07F9718656A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475360" y="106200"/>
            <a:ext cx="4193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WHAT IS MOSIX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8440" y="1447920"/>
            <a:ext cx="62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 à répartition de charge entre process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1337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 et enrichissement du noyau Linux (patchs + quelques binaires) afin de supporter le clust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760" y="3124080"/>
            <a:ext cx="81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que Nodes est équivalent et tourne sous un noyau MOS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000" y="380988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algorithme dit de « fork and forget 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360" y="4495680"/>
            <a:ext cx="54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sation constante de la répart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1680" y="5181480"/>
            <a:ext cx="43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ès simple à mettre en œuv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A42-E2C0-4AEA-A2C8-E1DB6A119A0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34280" y="106200"/>
            <a:ext cx="706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INSTALLER UN CLUSTER MOS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360" y="99072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Instal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65240" y="3165480"/>
            <a:ext cx="466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676520"/>
            <a:ext cx="914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lécharger et « détarrer » la version de MOSIX, suivant la version de votre noyau à l’adresse : 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http://www.mosix.org/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cc"/>
                </a:solidFill>
                <a:uFillTx/>
                <a:latin typeface="Courier New"/>
                <a:ea typeface="Courier New"/>
              </a:rPr>
              <a:t>MOSIX 1.5.2 for Linux 2.4.13 [407KB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cc"/>
                </a:solidFill>
                <a:uFillTx/>
                <a:latin typeface="Courier New"/>
                <a:ea typeface="Courier New"/>
              </a:rPr>
              <a:t>MOSIX 0.98.0 for Linux 2.2.19 [700KB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76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avoir d’autre format d’installation pour d’autre distribution (Debian, Slackware, RPM…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267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son type d’installation : manuelle ou automati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02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utiliser des assistants de distribution, comme LTSP (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www.LTSP.org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ans une architecture homogèn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162-32D9-4F91-AE8C-867D36EC2AB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stallation de MOSIX vient modifier les fichiers 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init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inetd.conf and/or /etc/xinetd.d/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lilo.con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rc.d/init.d/a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cron.daily/slocate.c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renomme les versions originales en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pre_mos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438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re le manuel d’installation pour les procédures communes ; il est très explicite   ;0) !!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0" y="3657600"/>
            <a:ext cx="23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onfigu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60360" y="4572000"/>
            <a:ext cx="662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Point fort de MOSIX 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 script d’installation s’est chargé tout seul de la configuration du node du clu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CAF5-EF21-4175-B7FD-68DD0FD24442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14880" y="152280"/>
            <a:ext cx="2514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SOMM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07800" y="2082960"/>
            <a:ext cx="7076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énéralités sur les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nition, terminologi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307440" y="3378240"/>
            <a:ext cx="7899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ustering sous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s, projets, solution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43920" y="4597560"/>
            <a:ext cx="659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emple de clusters Linux : MO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llation, ges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8AEB-58D7-41A0-8729-E6B95AAA61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0760" y="289080"/>
            <a:ext cx="66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pologi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: par l’intermédiaire du fichier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etc/mosix.map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4080" y="83808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Syntax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SIX-node-numb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-address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nge-siz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4080" y="1371600"/>
            <a:ext cx="4600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e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fichier /etc/mosix.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0.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0.100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1.100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1.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9760" y="3809880"/>
            <a:ext cx="35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ande util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: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n mosix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’OUBLIEZ PAS DE CONFIGURER L’ACTIVATION / DESACTIVATION DE MOSIX AU SEIN DU SYSTEME.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FFC-D314-443D-B9A5-3738B2955E4F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-360" y="166680"/>
            <a:ext cx="24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Administ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9144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 et configuration du cluster grâce aux entrées ajoutées dans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proc/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s de collecter des informations relatives aux échanges  mais aussi aux proces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r les applications d’administration comm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e, m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cela facilite drôlement la vie !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e migrer manuellement les processus les plus récalcitra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à encore les besoins d’administration évolue en fonction de vos attentes donc :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n mosi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E2C-5139-4519-BBE6-22F185298E99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3400" y="106200"/>
            <a:ext cx="639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COMMENTAIRES SUR MOS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extension jusqu’à 65535 No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676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ctionne sur des combinaisons de machines comme les workstation, les multiprocesseurs, les serveur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590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écialement conçu pour la famille des processeurs Intel-x86 et compati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8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quilibrage de manière transpar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267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écute plus d’applications en instantané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952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 de performance significatif qu’avec des processus bien distribu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562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gration de processus est une opération coûte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C5E-64CE-4615-87C4-A69DF1B71AAF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43080" y="38088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SIX S’AFFICHE TOUTEFOIS COMME UNE SOLUTION IDEALE DANS LE CADRE D’UN SERVEUR D’APPLICATION 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ÂCE A LUI CHAQUE UTILISATEUR CONNECTE A DISTANCE DISPOSERA DE PERFORMANCES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lord" descr=""/>
          <p:cNvPicPr/>
          <p:nvPr/>
        </p:nvPicPr>
        <p:blipFill>
          <a:blip r:embed="rId2"/>
          <a:stretch/>
        </p:blipFill>
        <p:spPr>
          <a:xfrm>
            <a:off x="3103560" y="3352680"/>
            <a:ext cx="2935440" cy="293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4071-889C-4A71-9D90-4CA3686FB7A9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24720" y="2178000"/>
            <a:ext cx="66913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GENERALITES SUR LES CLUS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2030-CCBE-4884-BF9A-0D5653A162D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6000" y="126360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Dé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8288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luster est un ensemble d’ordinateurs connectés les uns aux autres en réseau dans le but de partager des ressour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erme clair, il s’agit d’une batterie d’ordinateurs, tous interconnectés et capables de traiter de concert un même trav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5640" y="431172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Disting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080" y="4952880"/>
            <a:ext cx="32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ème en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iel en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88080" y="85680"/>
            <a:ext cx="6557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QU’EST CE QU’UN CLUST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6956-6A9A-4D24-A75B-97F7A6F7C72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493080" y="15228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038320"/>
          <a:ext cx="1524240" cy="354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038320"/>
                    <a:ext cx="152424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819840" y="3117960"/>
          <a:ext cx="1943280" cy="13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19840" y="3117960"/>
                    <a:ext cx="19432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646440" y="3478320"/>
          <a:ext cx="1849320" cy="662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46440" y="3478320"/>
                    <a:ext cx="18493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76520" y="2971800"/>
            <a:ext cx="2361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676520" y="3733920"/>
            <a:ext cx="23619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3733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3080" y="1828800"/>
            <a:ext cx="8458200" cy="396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25040" y="19018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8160" y="2894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6760" y="4494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560" y="57913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2600" y="335268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059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241-74DD-4AB9-8A25-E036B5495AE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09280" y="152280"/>
            <a:ext cx="7515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LES MOTIVATIONS D’UN 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84320" y="1600200"/>
            <a:ext cx="697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scientif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déchiffrement des clés de cryptage de plus en plus longues, simulation nucléaire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de stocka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stockage d’énormes fichiers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haute disponibilité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architecture firewall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à répartition de char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architecture serveur web, architecture système utilisateur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DAE-9C2C-4E43-ABE8-9E8B914FA2F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7040" y="152280"/>
            <a:ext cx="7009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« CLUSTERING EVERYWHERE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6765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lusters « propriétaires » : architecture et prestation chè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BM, HP, SUN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666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solutions commerciales de clustering : architecture peu chère mais prestation ch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CheckPoint, Epsilan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3581280"/>
            <a:ext cx="761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clusters « bizarres »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l’impression que c’est pas chère mais a force de cumuler on se dit que le super calculateur aurait pu être bien en fin de comp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Windows 2000 datacenter server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5181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solutions de clustering Linux : c’est le chapitre suivant ;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3D1-FCA0-48B2-86F8-3695F248EC7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47360" y="2178000"/>
            <a:ext cx="58636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LE CLUSTERING SOUS LIN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CBE0-21A7-4D3A-A1AF-75508647E2E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18120" y="106200"/>
            <a:ext cx="610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OURQUOI CHOISI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6360" y="1219320"/>
            <a:ext cx="29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LE PRIX 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7240" y="1981080"/>
            <a:ext cx="670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 sur la plupart des distributions gratuites du mar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de simple PC pour les Nodes du cluste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des logiciels sous licence GPL (PVM, MPI …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3760" y="3809880"/>
            <a:ext cx="7296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L’OUVERTURE « D’ESPRIT » 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200" y="4572000"/>
            <a:ext cx="848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communauté Linuxienne présen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projets Open Source éprouvés et fiables (beowulf, Mosix, Legion, LVS…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projets répondants aux attentes de tous les types de clus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DD41-35B8-434B-B290-8F9EEC0B84F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13:25:32Z</dcterms:created>
  <dc:creator>Renaud Vayssade</dc:creator>
  <dc:description/>
  <dc:language>en-US</dc:language>
  <cp:lastModifiedBy>Renaud</cp:lastModifiedBy>
  <dcterms:modified xsi:type="dcterms:W3CDTF">2002-01-20T20:10:09Z</dcterms:modified>
  <cp:revision>33</cp:revision>
  <dc:subject>comment réaliser un cluster à moindre cout</dc:subject>
  <dc:title>Le clustering sous Linux</dc:title>
</cp:coreProperties>
</file>