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1D43-D66A-4449-9C2A-1811FBCE0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B467-E40A-431F-BAF4-1FB66B387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7124-10A0-40D5-B4BD-356646E92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C865-0F37-4092-918E-94C9EFB2B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491F-05E0-49F1-8AA6-AAA107385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5E66-AA6D-44BC-B975-7D457E134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A7F7-6B7C-4E5B-9800-BB72CE7CC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E814-0E4D-4F91-85E1-1EE57EF7F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3C7B-9238-4E54-A59F-7C3889FC6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C275-9E8C-4D46-AF38-DEB89509E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E5E9-BE48-4F9C-8FF5-55A3727DF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8818-8A85-4398-BA77-A09615C6F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C6DA2-737E-4A3D-A044-C2C69374EF80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La programmation générique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avec la ST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716000" y="6308640"/>
            <a:ext cx="419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EIUMLV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- Informatique et Réseaux 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59920" y="6313320"/>
            <a:ext cx="195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Benoît RO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STL – petits exemples (2)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e t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327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#include &lt;iostream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#include &lt;lis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#include&lt;algorithm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ist&lt;char&gt; initC(char*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ist&lt;char&gt; majax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while (*c != ‘\0’= majax.push_back(*c++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return majax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void main(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ist&lt;char&gt; gerard = initC("le plus grand et le plus fort des magiciens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gerard.sor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gerard.unique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for (List&lt;char&gt;::iterator i = gerard.begin() ; i != gerard.end() ; i++) cout &lt;&lt; *i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STL – Autre notion : l’adaptateur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daptateur de contai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our résumer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daptateur &lt; Conteneur &lt; Truc &gt; 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tack ( la pile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eut être implémentée avec Vector, List, De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rincipe LIFO : push et pop à la même extrémi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Queue ( la file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eut être implémentée avec List, De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rincipe FIF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riority_queue ( la file par priorité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épend d’une fonction de comparais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riority_queue&lt; Conteneur &lt; Truc &gt; , fcomp &lt; Truc &gt; 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STL – Autre notion : l’adaptateur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95280" y="3499920"/>
            <a:ext cx="8229600" cy="2449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void main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int arr[] = {1,4,9,16,25}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ist&lt;int&gt; liste(arr, arr+5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ist&lt;int&gt;::reverse_iterator revi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revit = liste.rbegin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while (revit != liste.rend()) cout &lt;&lt; *revit++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39640" y="1700280"/>
            <a:ext cx="7724880" cy="15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daptateurs d’itérate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’itérateur inver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STL – Autre notion : l’adaptateur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95280" y="3499920"/>
            <a:ext cx="8229600" cy="2808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void main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int t1[] = { 1, 3, 5, 7, 9}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deque&lt;int&gt; dq1(t1,t1+5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int t2[] = { 2, 4, 6}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deque&lt;int&gt; dq2(t2,t2+3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opy(dq1.begin(), dq1.end(), back_inserter(dq2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for (int i=0 ; i&lt;dq2.size() ; i++) cout &lt;&lt; dq2[i] &lt;&lt; ‘ ‘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39640" y="1700280"/>
            <a:ext cx="7724880" cy="14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’itérateur d’inser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STL – pour finir : les foncte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bstraction de la notion de fon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Foncteur = Objet dont la classe définit l’opérateur () , appelé opérateur de fo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ermettent d’appliquer des fonctions sur les objets manipul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8360" y="3068640"/>
            <a:ext cx="8229600" cy="3600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#include &lt;iostream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#include &lt;functional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template &lt;class T, class F&gt; T applique(T i, T j, F foncteu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return foncteur(i, j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void main(vo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lus&lt;int&gt; foncteur_plu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out &lt;&lt; applique(2, 3, foncteur_plus) &lt;&lt; endl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a suite sur le site Web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Parlons voir de Ookc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1 : les 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Arial"/>
              </a:rPr>
              <a:t>concepts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de généricité ne s’appliquent pas seulement au c++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2 : on a le droit de les appliqu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3 : le joli schéma de Stepanov peut être généralisé : on sait à quoi 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Arial"/>
              </a:rPr>
              <a:t>ressemble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l’objet avec lequel on veut discuter et ce qu’il doit faire, mais on ne sait pas comment il fait ce qu’il fait ( et on plus ce n’est pas notre problème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n gros, si l’objet cible change, on lui demande simplement de garder la 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Arial"/>
              </a:rPr>
              <a:t>même apparence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. Comme ça, on n’a pas besoin de recommencer tout notre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4 : c’est très chiant au début, mais ça facilite la vie aprè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e dont on va parl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es concepts de généricité : re-encore à nouveau un autre rappel, mais ça finira par rentrer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a Standard Template Libr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vec les concepts, des exemples, et tout ce qui va bi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nfin:les trucs qu’il faut comprendre ( ou en tout cas retenir ) pour le proj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Programmation générique: les motiv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a principale: la flem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a réutilisation du code ( cf. premier point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a facilité d’écri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a lisibilité du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he schéma, par Stepanov et L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4794120"/>
            <a:ext cx="822960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es algorithmes sont indépendants du type de données stocké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Il s’agit ainsi de connecter des algorithmes à des structures de données, par le biais de connecteu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1547640" y="2133720"/>
            <a:ext cx="6407280" cy="2016000"/>
            <a:chOff x="1547640" y="2133720"/>
            <a:chExt cx="6407280" cy="2016000"/>
          </a:xfrm>
        </p:grpSpPr>
        <p:sp>
          <p:nvSpPr>
            <p:cNvPr id="51" name=""/>
            <p:cNvSpPr/>
            <p:nvPr/>
          </p:nvSpPr>
          <p:spPr>
            <a:xfrm>
              <a:off x="1547640" y="2133720"/>
              <a:ext cx="1871640" cy="201600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Algorithm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83280" y="2133720"/>
              <a:ext cx="1871640" cy="201600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Contain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3419280" y="3141360"/>
              <a:ext cx="2664000" cy="0"/>
            </a:xfrm>
            <a:prstGeom prst="line">
              <a:avLst/>
            </a:prstGeom>
            <a:ln w="114480">
              <a:solidFill>
                <a:srgbClr val="000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141800" y="2709720"/>
              <a:ext cx="114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Itérateu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a ST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pplication directe des concepts développés par Stepan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Il s’agit d’une bibliothèque d’algorithmes généraux et de structures de donné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es contai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- de séqu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- associatif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es algorith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- sort, find, search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- copy, swap, for_each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es itérate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daptés aux types de contai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STL - Les containers de sé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V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- extensible et relocalis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- accès aléatoire par index en 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O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insertions et retraits à la fin en 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O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- insertions et retraits lents au milie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ist ( liste circulaire doublement chaînée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- insertions et retraits n’importe où en 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O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- accès au début et à la fin en 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O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- accès lent aux autres élé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eque ( Double Ended Queue = tampon circulaire dynamique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- exactement pareil que Vector pour la complexi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- pas d’insertion au milie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- bon compromis vitesse d’accès / souplesse du rempliss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STL - Les containers associatif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et ( liste triée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- Chaque élément doit être unique ( pas de doublons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- accès aléatoire par clé ( l’objet lui-même est la clé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ultis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- Un ‘set’ qui permet les doubl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ap ( association clé / élément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- une clé pour un élément ( pas de doublons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- accès aléatoire par clé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ulim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- Un ‘map’ ou les éléments peuvent être multiples pour une cl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STL – Les itérate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'itérateur est une généralisation des pointeurs.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Il permet de parcourir en séquence les éléments d'un conteneu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Hiérarchie des itérateu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859280" y="2924280"/>
            <a:ext cx="1800360" cy="576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cri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619280" y="2924280"/>
            <a:ext cx="1800360" cy="576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276720" y="3860640"/>
            <a:ext cx="1800000" cy="576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orw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4797360"/>
            <a:ext cx="1800000" cy="576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Bidirection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276720" y="5734080"/>
            <a:ext cx="1800000" cy="576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ccè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léato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4140360" y="5373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4140360" y="443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2484000" y="414972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484360" y="3500280"/>
            <a:ext cx="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076720" y="414972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5724360" y="3500280"/>
            <a:ext cx="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48360" y="5877000"/>
            <a:ext cx="102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+n, It-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48000" y="4941720"/>
            <a:ext cx="98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++, It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148720" y="4149720"/>
            <a:ext cx="5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STL – petits exemples (1)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a cop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789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void main(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ist&lt;int&gt; l(4,0);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// l vaut 0::0::0::0::[]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vector&lt;int&gt; v(10,1);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// v vaut [1,1,1,1,1,1,1,1,1,1,1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vector&lt;int&gt;::iterator i = copy(l.begin(),l.end(),v.begin(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opy(v.begin(),i, ostream_iterator&lt;int&gt;(cout," ")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opy(i,v.end(), ostream_iterator&lt;int&gt;(cout," ")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7T14:06:20Z</dcterms:created>
  <dc:creator>POPI</dc:creator>
  <dc:description/>
  <dc:language>en-US</dc:language>
  <cp:lastModifiedBy>POPI</cp:lastModifiedBy>
  <dcterms:modified xsi:type="dcterms:W3CDTF">2002-02-07T15:13:13Z</dcterms:modified>
  <cp:revision>26</cp:revision>
  <dc:subject/>
  <dc:title>La programmation génériqu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