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0E08-59BD-4F82-8411-86360821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5BD-2521-4897-8212-4C660B86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89D-CE63-49BB-BFA1-A1194721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444C-87C0-43AB-8534-B73B74C6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96F2-D646-40DB-898A-B6E1F329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92C4-5A21-44C6-828C-E4DBF982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CE69-AF26-4F2F-9EF6-4E6BA8E9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FD24-D235-40C5-8B05-B056981C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E528-5A67-41BE-B0B4-5D8D7C0B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E88D-85DD-42CC-9F0F-F0D413E3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FB1C-733C-4ECA-9A3F-2319064A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9CE-EDAF-47EF-A731-54944035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9213-9D36-41B6-821A-0869727B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DDF9-D0CD-4333-A334-B1614DE5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C7B9-1F5D-453E-8BB1-05629A44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4390-0122-400A-B764-03FE713E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0FBD-36F8-49D3-90A3-1DCA34D6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688-A317-4FA1-976B-9F105570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E55A-ABA9-4DE5-87B0-0D396317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3341-5F73-4AF7-A33B-37FE6AC0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F9D-37A2-4309-9D98-6FED4A98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3D1-0483-4029-8C4E-41DF2E2B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5088-3756-4ABD-A37D-18F5DE55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AC4-C0DD-4729-9412-9760A692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651F-5309-4C7A-9D75-14E184218B4A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7991-E795-4B1B-9C54-326A625DC501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iyun@free.fr" TargetMode="External"/><Relationship Id="rId2" Type="http://schemas.openxmlformats.org/officeDocument/2006/relationships/hyperlink" Target="mailto:liyun@free.fr" TargetMode="External"/><Relationship Id="rId3" Type="http://schemas.openxmlformats.org/officeDocument/2006/relationships/hyperlink" Target="mailto:liyun@free.fr" TargetMode="External"/><Relationship Id="rId4" Type="http://schemas.openxmlformats.org/officeDocument/2006/relationships/image" Target="../media/image1.wmf"/><Relationship Id="rId5" Type="http://schemas.openxmlformats.org/officeDocument/2006/relationships/hyperlink" Target="http://www.univ-mlv.fr/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snort.org/" TargetMode="External"/><Relationship Id="rId2" Type="http://schemas.openxmlformats.org/officeDocument/2006/relationships/hyperlink" Target="http://www.snort.org/" TargetMode="External"/><Relationship Id="rId3" Type="http://schemas.openxmlformats.org/officeDocument/2006/relationships/hyperlink" Target="http://www.snort.org/" TargetMode="External"/><Relationship Id="rId4" Type="http://schemas.openxmlformats.org/officeDocument/2006/relationships/hyperlink" Target="http://www.snort.org/" TargetMode="External"/><Relationship Id="rId5" Type="http://schemas.openxmlformats.org/officeDocument/2006/relationships/hyperlink" Target="http://www.snort.org/" TargetMode="External"/><Relationship Id="rId6" Type="http://schemas.openxmlformats.org/officeDocument/2006/relationships/hyperlink" Target="http://www.linuxsecurity.com/" TargetMode="External"/><Relationship Id="rId7" Type="http://schemas.openxmlformats.org/officeDocument/2006/relationships/hyperlink" Target="http://www.linuxsecurity.com/" TargetMode="External"/><Relationship Id="rId8" Type="http://schemas.openxmlformats.org/officeDocument/2006/relationships/hyperlink" Target="http://www.linuxsecurity.com/" TargetMode="External"/><Relationship Id="rId9" Type="http://schemas.openxmlformats.org/officeDocument/2006/relationships/hyperlink" Target="http://www.linuxsecurity.com/" TargetMode="External"/><Relationship Id="rId10" Type="http://schemas.openxmlformats.org/officeDocument/2006/relationships/hyperlink" Target="http://www.linuxsecurity.com/" TargetMode="External"/><Relationship Id="rId11" Type="http://schemas.openxmlformats.org/officeDocument/2006/relationships/hyperlink" Target="http://www.securityfocus.com/" TargetMode="External"/><Relationship Id="rId12" Type="http://schemas.openxmlformats.org/officeDocument/2006/relationships/hyperlink" Target="http://www.securityfocus.com/" TargetMode="External"/><Relationship Id="rId13" Type="http://schemas.openxmlformats.org/officeDocument/2006/relationships/hyperlink" Target="http://www.securityfocus.com/" TargetMode="External"/><Relationship Id="rId14" Type="http://schemas.openxmlformats.org/officeDocument/2006/relationships/hyperlink" Target="http://www.securityfocus.com/" TargetMode="External"/><Relationship Id="rId15" Type="http://schemas.openxmlformats.org/officeDocument/2006/relationships/hyperlink" Target="http://www.securityfocus.com/" TargetMode="External"/><Relationship Id="rId16" Type="http://schemas.openxmlformats.org/officeDocument/2006/relationships/hyperlink" Target="http://www.robertgraham.com/pubs" TargetMode="External"/><Relationship Id="rId17" Type="http://schemas.openxmlformats.org/officeDocument/2006/relationships/hyperlink" Target="http://www.hsc.fr/ressources" TargetMode="External"/><Relationship Id="rId18" Type="http://schemas.openxmlformats.org/officeDocument/2006/relationships/hyperlink" Target="http://www.hsc.fr/ressources" TargetMode="External"/><Relationship Id="rId1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771200"/>
            <a:ext cx="746748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ystème de Détection d’Intrusions</a:t>
            </a:r>
            <a:br>
              <a:rPr sz="4400"/>
            </a:b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( IDS 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76520" y="5638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iyun LI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IR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iyun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@free.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f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553080" y="2895480"/>
            <a:ext cx="1890720" cy="2590920"/>
          </a:xfrm>
          <a:prstGeom prst="rect">
            <a:avLst/>
          </a:prstGeom>
          <a:ln w="0">
            <a:noFill/>
          </a:ln>
        </p:spPr>
      </p:pic>
      <p:pic>
        <p:nvPicPr>
          <p:cNvPr id="102" name="logo-umlv" descr="Université de Marne La Vallé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533520"/>
            <a:ext cx="14968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’est un Internet Detection System (IDS)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’est un système qui  détecte (tente de détecter) les intru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’est un processus de découverte et d’analyse de comportements hostiles dirigé contre un rése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ourquoi un IDS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sécurité active n’est pas suffisa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 pare-feux ne contrent pas toutes les mena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nnovation constante des techniques de h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aille potentielle selon les fonctionnalités des systè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ailles inhérentes de certains OS ;-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ourquoi un ID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emonter la source de l’atta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tecte les techniques employ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n cas d’intrusion, les traces sont preuves tang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Complémentarit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NIDS : détecte les (tentatives) d’intrusions grâce à une base de sign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is il n’ARRETE pas l’intrusion 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apture les infos et les techniques de l’attaqu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ide indispensable pour se prémunir des intrusions en prenant les mesures de sécurité adéqu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architecture" descr=""/>
          <p:cNvPicPr/>
          <p:nvPr/>
        </p:nvPicPr>
        <p:blipFill>
          <a:blip r:embed="rId1"/>
          <a:stretch/>
        </p:blipFill>
        <p:spPr>
          <a:xfrm>
            <a:off x="-795240" y="-376200"/>
            <a:ext cx="10734480" cy="76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lusieurs types d’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NIDS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: Network Internet Detection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HIDS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: Host Internet Detection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systèmes hybrides :mélange de HIDS et N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Honeypots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: « pots de miel », leur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NIDS et HIDS: généralité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NIDS analysent des flux réseau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HIDS se basent sur la surveillance des hôtes par l’analyse des logs de l’hô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2 sont complémenta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Un NIDS de base : Tcpdum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util de base indispensable pour l’analyse résea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isponible sur toutes les plateformes UN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ermet l’écriture de filtres simples pour surveiller des types de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xemple de mise en situation dans le scan suivan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simple de sc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¦Starting nmap V. 2.53 by fyodor@insecure.org ( www.insecure.org/nmap/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¦Interesting ports on  (192.168.1.30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¦Port       State      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¦53/udp     open       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¦Nmap run completed -- 1 IP address (1 host up) scanned in 1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Exemple comma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cpdump host 192.168.1.30 and ip[9]=17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qui signif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« Affiche moi sur la sortie standard tous les datagrammes dont le 9ème octet est à 17, protocole UDP  (cf Datagramme IP) 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la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elques chiffres sur le pirat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But de la sécur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finition d’une attaque et d’une intr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2 types de sécurité: active et pas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Datagramme 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IP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62012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de sortie tcpdum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88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ourier New"/>
              </a:rPr>
              <a:t>Si sur la machine 192.168.1.30 ,root ta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tcpdump host 192.168.1.30 and ip[9]=17 -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tcpdump: listening on eth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05:06:08.294790 192.168.1.1.43976 &gt; 192.168.1.30.53: 0 [20484q] [43012n] (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05:06:08.624790 192.168.1.1.43977 &gt; 192.168.1.30.53: 0 [20484q] [43012n] (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r cette sortie, la cible verra que tous les datagrammes UDP sur le port domaine (53). Ici en 192.168.1.1 essaie de communiquer avec le port 53 de 192.168.1.1</a:t>
            </a:r>
            <a:r>
              <a:rPr b="1" i="1" lang="fr-F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ourier New"/>
              </a:rPr>
              <a:t>Tcpdump est l ’outil de base   pour le traffic résesa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nort : NIDS puissa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ogiciel open source,modulaire et de petite tai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uteur : Martin Roe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ersion actuelle 1.8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tection en temps ré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Gigantesqu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bibliothèque de signatures d’attaques constamment mise à j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snort" descr=""/>
          <p:cNvPicPr/>
          <p:nvPr/>
        </p:nvPicPr>
        <p:blipFill>
          <a:blip r:embed="rId1"/>
          <a:stretch/>
        </p:blipFill>
        <p:spPr>
          <a:xfrm>
            <a:off x="6781680" y="609480"/>
            <a:ext cx="20574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n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ichier de configuration 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ngage de description simple et facile à utili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artie en-tê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pécifie les filtrages sur les adresses, les ports sources et destinations, ainsi que la direction et l'action (alert, pass, lo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artie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Fonctionnalité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tecte la l’attaque par fragmentation 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tecte de nombreux protocoles ( IP, TCP, UDP, ICMP,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tecte les scans de ports initié par nm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trait d’un exe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stem"/>
              </a:rPr>
              <a:t>alert tcp $EXTERNAL_NET any -&gt; $HTTP_SERVERS 80 (msg:"WEB-ATTACKS chown command attempt"; flags:A+; content:"/usr/sbin/chown";nocase; sid:1338; rev:1; classtype:web-application-attack;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System"/>
              </a:rPr>
              <a:t>Explicatio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stem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System"/>
              </a:rPr>
              <a:t>Si Snort voit un paquet à destination du serveur Web port 80 avec un le drapeau </a:t>
            </a:r>
            <a:r>
              <a:rPr b="1" i="1" lang="fr-FR" sz="2400" spc="-1" strike="noStrike">
                <a:solidFill>
                  <a:srgbClr val="000000"/>
                </a:solidFill>
                <a:latin typeface="System"/>
              </a:rPr>
              <a:t>ack</a:t>
            </a:r>
            <a:r>
              <a:rPr b="0" lang="fr-FR" sz="2400" spc="-1" strike="noStrike">
                <a:solidFill>
                  <a:srgbClr val="000000"/>
                </a:solidFill>
                <a:latin typeface="System"/>
              </a:rPr>
              <a:t> positionné à 1 et contenant comme données « </a:t>
            </a:r>
            <a:r>
              <a:rPr b="1" i="1" lang="fr-FR" sz="2400" spc="-1" strike="noStrike">
                <a:solidFill>
                  <a:srgbClr val="000000"/>
                </a:solidFill>
                <a:latin typeface="System"/>
              </a:rPr>
              <a:t>/usr/sbin/chown</a:t>
            </a:r>
            <a:r>
              <a:rPr b="0" lang="fr-FR" sz="2400" spc="-1" strike="noStrike">
                <a:solidFill>
                  <a:srgbClr val="000000"/>
                </a:solidFill>
                <a:latin typeface="System"/>
              </a:rPr>
              <a:t> », alors une alerte est envoyé vers l’administrate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Host 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’installe sur un serve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vertit l’administrateur en cas de compromission de l’hô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st basé sur l’intégrité du systè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Un HIDS : Tripw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ripwire compare les résultats avec la base de référence générée préalablement (md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Parce que l'empreinte générée sur un fichier ne peut être reproduite deux fois à l'identiqu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ripwi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Tripwire en schém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(source redhat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tripwire_schema" descr=""/>
          <p:cNvPicPr/>
          <p:nvPr/>
        </p:nvPicPr>
        <p:blipFill>
          <a:blip r:embed="rId1"/>
          <a:stretch/>
        </p:blipFill>
        <p:spPr>
          <a:xfrm>
            <a:off x="4344840" y="380880"/>
            <a:ext cx="5180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ripwire :cas d’utilisation optim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tocker les exécutables sur support amovible protégé en écriture  (disquette, lecteur zip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érifier quotidiennement (via cron ) l’intégrité des fichiers systèmes critiques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lan (partie 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Tahoma"/>
              </a:rPr>
              <a:t>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’est ce qu’un IDS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’utilité d’un 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ypes d’IDS: NIDS et H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mplémentarité des 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ude d’un NIDS basic: TCPDU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ude des fonctionnalités de Snort (NI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tude d’un HIDS : Trip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Exemple si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fichier /etc/tripwire/twpol.txt liste la l’ensemble des fichiers à protéger pour lesquels il génère un checks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xemple : supposons qu ’on ai réussit à modifier la commande « cat » en « cata 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nvoie d’un mail à root lors de la prochaine vérification de l’intégr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Faiblesse des N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u performants sur les réseaux Ethernet 100 M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Ne détecte pas tout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echniques pour contrer les NIDS évolu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u d'années d'expé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emande du personnel paranoïaque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ypes d’atta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ttaque Mitni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ttaque Teardr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ttaque L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ttaque 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oneypots (Pots de mie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’est un système pour leurrer le pi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inci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ise en place de faux serveurs avec peu de prot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imulation de l’activité d’un résea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But: récolter les traces et les techniques de l’attaqu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37080" y="3405240"/>
            <a:ext cx="68400" cy="57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689360" y="3557520"/>
            <a:ext cx="68400" cy="57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791320" y="5257800"/>
            <a:ext cx="14824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ortsentry: un IDS act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ogiciel lib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étection des scans de ports furtifs ou n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ant Portsentry détecte les scans de ports spécifiés dans /etc/portsentry/portsentry.conf, alors il agi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3 méthodes de </a:t>
            </a:r>
            <a:r>
              <a:rPr b="1" lang="fr-FR" sz="4400" spc="-1" strike="noStrike">
                <a:solidFill>
                  <a:srgbClr val="333399"/>
                </a:solidFill>
                <a:latin typeface="Tahoma"/>
              </a:rPr>
              <a:t>réaction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fr-FR" sz="4400" spc="-1" strike="noStrike">
                <a:solidFill>
                  <a:srgbClr val="333399"/>
                </a:solidFill>
                <a:latin typeface="Tahoma"/>
              </a:rPr>
              <a:t>dynam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e4a8"/>
                </a:solidFill>
                <a:latin typeface="Tahoma"/>
              </a:rPr>
              <a:t>Méthod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Si TCPWrapper est installé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95360" indent="-2667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Ajout dynamique dans /etc/hosts.deny de l’adresse IP de l’attaquant et lui interdit tous les services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fr-FR" sz="2600" spc="-1" strike="noStrike">
                <a:solidFill>
                  <a:srgbClr val="000000"/>
                </a:solidFill>
                <a:latin typeface="Tahoma"/>
              </a:rPr>
              <a:t>ALL: $TARGET : DENY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4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Méthode 2 et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e4a8"/>
                </a:solidFill>
                <a:latin typeface="Tahoma"/>
              </a:rPr>
              <a:t>Méthode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jout d’une règle dynamique dans les règles du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# 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iptables -I INPUT -s $TARGET -j DE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e4a8"/>
                </a:solidFill>
                <a:latin typeface="Tahoma"/>
              </a:rPr>
              <a:t>Méthode 3 :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efus de routage explicite vers l’agresseur qui se fait aussi dynamiqu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#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</a:rPr>
              <a:t>route add -host $TARGET rejec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CPWrapp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CPWrapper travaille main dans la main avec ine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n fonction des services demandés, TCPWrapper peut les refuser ou les accept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’idée est la suivant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fuser tous les hosts par défaut à exploiter les services du serv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Puis d’autoriser explicitement l’ip des hosts à accéder à aux services demand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lques bonnes habitudes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Lors de l’installation d’un nouveau programme, tester la valeur de retour md5sum sur un programme pour vérifier son intégrité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Banissez les rhost, rlogin, rexec, rsh rlogin, telnet ..!!!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car les mots de passe circulent en clair sur le réseau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Utiliser ssh à partir des versions 2.9.x, (pensez à dsniff et l’attaque man-in-the-middle par Dug Song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venir des I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IDS ( Linux IDS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volution de Sn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ortsentry, Shad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lan (partie 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types d’atta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Honeypots: les leur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elques bonnes habitu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venir des 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s HIDS et les NIDS sont des éléments qui contribuent à améliorer la sécurité des réseau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ettre à jour aussi souvent que possible les bases de signatures d’attaques (cf www.snort.or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emps de réaction rapide pour rester effic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Conclusion: le cocktail gagna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lus les données sont vitales, plus les mesures de précautions doivent être paranoïaques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ussi, utilisez une package de logiciels libres composés 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{ Iptables, TCPWrapper, Snort, Portsenty 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t ……. 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LIR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les logs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e mot de la f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sécurité : c’est comme une partie d’échecs contre les pirates 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629400" y="1143000"/>
            <a:ext cx="15811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lus d’inf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Shadowconf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, Shadow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étection des intrusions réseau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ephen Nortcutt, Judy Novak, Donald MacLahan editions Campus P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lques si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.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snort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.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www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.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linuxsecurity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.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www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.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securityfocus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.</a:t>
            </a:r>
            <a:r>
              <a:rPr b="0" lang="fr-FR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http://www.robertgraham.com/pub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7"/>
              </a:rPr>
              <a:t>http://www.hsc.fr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8"/>
              </a:rPr>
              <a:t>res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144756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lques chiffres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4317840" cy="263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</p:pic>
      <p:sp>
        <p:nvSpPr>
          <p:cNvPr id="111" name=""/>
          <p:cNvSpPr/>
          <p:nvPr/>
        </p:nvSpPr>
        <p:spPr>
          <a:xfrm>
            <a:off x="4343400" y="2438280"/>
            <a:ext cx="48006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 of Intrus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$ Losses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------------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-------------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formation Thef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42,496,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inancial frau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39,706,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use of net acce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7,576,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us attacks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5,274,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bota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4,421,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ider misu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3,567,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sider Penet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2,885,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------------------------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--------------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c1c1c"/>
              </a:buClr>
              <a:buSzPct val="65000"/>
              <a:buFont typeface="Wingdings" charset="2"/>
              <a:buChar char=""/>
              <a:tabLst>
                <a:tab algn="l" pos="1260360"/>
                <a:tab algn="l" pos="2521080"/>
                <a:tab algn="l" pos="3781440"/>
                <a:tab algn="l" pos="5041800"/>
                <a:tab algn="l" pos="6302520"/>
                <a:tab algn="l" pos="7562880"/>
                <a:tab algn="l" pos="8823240"/>
                <a:tab algn="l" pos="10083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105,925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5867280"/>
            <a:ext cx="7467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 “1999 CSI/FBI Computer Crime and Security Survey” Computer Security Institute - www.gocsi.com/losses.htm</a:t>
            </a:r>
            <a:br>
              <a:rPr sz="22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But la sécurité informat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otéger un réseau qui est connecté à d’autres réseaux non sécurisés (ex: Interne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utoriser l’accès à certains services 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uniquement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. (Web, mail, ftp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e prémunir contre des attaques et intru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’est ce qu’une attaque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couverte systématique d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’informations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 du réseau par des 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scans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de port et </a:t>
            </a:r>
            <a:r>
              <a:rPr b="1" lang="fr-FR" sz="3200" spc="-1" strike="noStrike">
                <a:solidFill>
                  <a:srgbClr val="000000"/>
                </a:solidFill>
                <a:latin typeface="Tahoma"/>
              </a:rPr>
              <a:t>balayage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du résea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entative réelle d’intrusion dans un rése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’est ce qu’une intrusion ?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ise de contrôle à distance (totale ou partielle) d’un ou de plusieurs serveurs ou hô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ans 9 cas sur 10, une intrusion est précédée d’une atta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ype de sécurit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chématiquement il existe 2 types de sécurité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 sécurité activ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ction sur sur les flux (autorisation , interdiction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are-feux, relais applicatifs, relayeur de messageri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 sécurité pas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N’agit pas sur les flux entr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ente de reconnaître des flux hos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21:07:19Z</dcterms:created>
  <dc:creator>3k</dc:creator>
  <dc:description/>
  <dc:language>en-US</dc:language>
  <cp:lastModifiedBy>3k</cp:lastModifiedBy>
  <dcterms:modified xsi:type="dcterms:W3CDTF">2002-02-08T18:15:03Z</dcterms:modified>
  <cp:revision>32</cp:revision>
  <dc:subject/>
  <dc:title>Détection d’intrusion</dc:title>
</cp:coreProperties>
</file>