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393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9A47B69-FE28-496B-A6B6-28A00041EA5D}" type="slidenum"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cute() plus rarement utilisé (procédure stocké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 d’un chargement dynamique, un constructeur statique est appelé. C’est à travers celui-ci que s’effectue le référencement des pilotes auprès du Driver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DriverManager.registerDriver (new oracle.jdbc.driver.OracleDriver());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46680" y="63658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400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©2000 A. DELEUSIÈ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de041a"/>
                </a:solidFill>
                <a:latin typeface="Times New Roman"/>
              </a:rPr>
              <a:t>JDBC™ 2.1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uke" descr=""/>
          <p:cNvPicPr/>
          <p:nvPr/>
        </p:nvPicPr>
        <p:blipFill>
          <a:blip r:embed="rId2"/>
          <a:stretch/>
        </p:blipFill>
        <p:spPr>
          <a:xfrm>
            <a:off x="152280" y="6108840"/>
            <a:ext cx="121932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java.sun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perso.wanadoo.fr/aureliend" TargetMode="External"/><Relationship Id="rId3" Type="http://schemas.openxmlformats.org/officeDocument/2006/relationships/hyperlink" Target="http://perso.wanadoo.fr/aureliend" TargetMode="External"/><Relationship Id="rId4" Type="http://schemas.openxmlformats.org/officeDocument/2006/relationships/hyperlink" Target="http://perso.wanadoo.fr/aureliend" TargetMode="External"/><Relationship Id="rId5" Type="http://schemas.openxmlformats.org/officeDocument/2006/relationships/hyperlink" Target="http://perso.wanadoo.fr/aureliend" TargetMode="External"/><Relationship Id="rId6" Type="http://schemas.openxmlformats.org/officeDocument/2006/relationships/hyperlink" Target="http://perso.wanadoo.fr/aureliend" TargetMode="External"/><Relationship Id="rId7" Type="http://schemas.openxmlformats.org/officeDocument/2006/relationships/hyperlink" Target="http://perso.wanadoo.fr/aureliend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JDBC™ 2.1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ccéder aux bases de données</a:t>
            </a:r>
            <a:br>
              <a:rPr sz="3200"/>
            </a:b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vec Java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dbc_ds_duke.sm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2000520" cy="949320"/>
          </a:xfrm>
          <a:prstGeom prst="rect">
            <a:avLst/>
          </a:prstGeom>
          <a:ln w="0">
            <a:noFill/>
          </a:ln>
        </p:spPr>
      </p:pic>
      <p:pic>
        <p:nvPicPr>
          <p:cNvPr id="53" name="javalogo52x88" descr=""/>
          <p:cNvPicPr/>
          <p:nvPr/>
        </p:nvPicPr>
        <p:blipFill>
          <a:blip r:embed="rId2"/>
          <a:stretch/>
        </p:blipFill>
        <p:spPr>
          <a:xfrm>
            <a:off x="4282920" y="4038480"/>
            <a:ext cx="594000" cy="100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64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élien Deleusière – 09/11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s d’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racle:thin:@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DESCRIPTION=(ADDRESS=(HOST=10.31.68.110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PROTOCOL=tcp)(PORT=1521)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CONNECT_DATA=(SID=ORCL)))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Oracle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hin metho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4648320"/>
            <a:ext cx="7772400" cy="3808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FR" sz="1600" spc="-1" strike="noStrike">
                <a:solidFill>
                  <a:srgbClr val="46b438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 dataSourc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e ODBC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 à une B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nt = DriverManager.getConnection(url, userNam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QL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QL State : 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e.getSQLStat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nnection(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ermet d’établir la connexion décrite par l’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aramètr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userNa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ont op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338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341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344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quête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348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359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371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377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380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383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386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387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390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393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96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99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03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35268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343400" y="3809880"/>
            <a:ext cx="4648320" cy="1219320"/>
            <a:chOff x="4343400" y="3809880"/>
            <a:chExt cx="4648320" cy="1219320"/>
          </a:xfrm>
        </p:grpSpPr>
        <p:sp>
          <p:nvSpPr>
            <p:cNvPr id="414" name=""/>
            <p:cNvSpPr/>
            <p:nvPr/>
          </p:nvSpPr>
          <p:spPr>
            <a:xfrm>
              <a:off x="6553080" y="43434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43400" y="3809880"/>
              <a:ext cx="2209680" cy="83844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4343400" y="1752480"/>
            <a:ext cx="2438280" cy="18288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réa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rée un obj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âce à 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reateStatemen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’un objet de typ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t objet permet d’exécuter une requête SQL et d’en récupérer le résul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écu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s = stt.executeQuery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ELECT * FROM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ount = stt.executeUpdat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DROP TABLE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Query() : exécute une requête et retourne un objet résultat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Update() : exécute une requête qui ne nécessite pas de retour (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P TABLE, CREATE TABLE, INSERT, UPDATE, DELET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et retourne le nombre de lignes concernées ou 0 le cas éché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ecture du résul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3048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next() positionne le </a:t>
            </a:r>
            <a:r>
              <a:rPr b="0" lang="fr-FR" sz="2800" spc="-1" strike="noStrike">
                <a:solidFill>
                  <a:srgbClr val="4638b4"/>
                </a:solidFill>
                <a:latin typeface="Times New Roman"/>
              </a:rPr>
              <a:t>curs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ur la ligne suivante et retourn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n’y en a 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champs sont typés et accéder grâce aux méthod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XXX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ssibilité de lire un résultat avec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i = rs.getIn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s = rs.getString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byte[]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b = rs.getBytes(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ROW =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i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s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b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ibération des res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32004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objets Connection et Statement permettent une libération explic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ressources ainsi libérées augmentent la fiabilité de l’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 com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87656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estJDB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[]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args)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sun.jdbc.odbc.JdbcOdbcDriver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url =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Biblio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cnt = DriverManager.getConnection(ur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rs = stt.executeQuery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SELECT * FROM books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itle = rs.getString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title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id = rs.getString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ystem.out.println(title + 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: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+ 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432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435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438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Méta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442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447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453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461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48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48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48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48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49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49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9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18288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8006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sultSet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ResultSetMetaData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smd = rs.getMetaDat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n = rsmd.getColumn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bre d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Cou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Nam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Typ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es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xion à une base de données (BD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éation et exécution d’une requêt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des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a-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énéfices de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DatabaseMetaData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bmd = cnt.getGetMeta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[]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ypes = {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atalog = dbmd.getTables(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usr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typ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e connexion ainsi que sur la BDD connectée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e BDD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DatabaseProductNam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talogue (tables)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Tables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cture seule : isReadOnly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Bénéfices de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90720" y="5210280"/>
            <a:ext cx="7848360" cy="812520"/>
            <a:chOff x="990720" y="5210280"/>
            <a:chExt cx="7848360" cy="812520"/>
          </a:xfrm>
        </p:grpSpPr>
        <p:sp>
          <p:nvSpPr>
            <p:cNvPr id="518" name=""/>
            <p:cNvSpPr/>
            <p:nvPr/>
          </p:nvSpPr>
          <p:spPr>
            <a:xfrm>
              <a:off x="4915080" y="5210280"/>
              <a:ext cx="39240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erformances, permet d’éviter 1 transaction par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5210280"/>
              <a:ext cx="3924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Batch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990720" y="4397400"/>
            <a:ext cx="7848360" cy="812880"/>
            <a:chOff x="990720" y="4397400"/>
            <a:chExt cx="7848360" cy="812880"/>
          </a:xfrm>
        </p:grpSpPr>
        <p:sp>
          <p:nvSpPr>
            <p:cNvPr id="521" name=""/>
            <p:cNvSpPr/>
            <p:nvPr/>
          </p:nvSpPr>
          <p:spPr>
            <a:xfrm>
              <a:off x="4915080" y="4397400"/>
              <a:ext cx="39240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rformances, objets larges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LOB / CLOB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manipulés sur serv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4397400"/>
              <a:ext cx="39243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ort des nouveaux types SQL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QL99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90720" y="3681360"/>
            <a:ext cx="7848360" cy="716040"/>
            <a:chOff x="990720" y="3681360"/>
            <a:chExt cx="7848360" cy="716040"/>
          </a:xfrm>
        </p:grpSpPr>
        <p:sp>
          <p:nvSpPr>
            <p:cNvPr id="524" name=""/>
            <p:cNvSpPr/>
            <p:nvPr/>
          </p:nvSpPr>
          <p:spPr>
            <a:xfrm>
              <a:off x="4915080" y="3681360"/>
              <a:ext cx="3924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ssibilité d’utiliser Java plutôt que SQL pour les mod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3681360"/>
              <a:ext cx="3924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990720" y="2492280"/>
            <a:ext cx="7848360" cy="1189080"/>
            <a:chOff x="990720" y="2492280"/>
            <a:chExt cx="7848360" cy="1189080"/>
          </a:xfrm>
        </p:grpSpPr>
        <p:sp>
          <p:nvSpPr>
            <p:cNvPr id="527" name=""/>
            <p:cNvSpPr/>
            <p:nvPr/>
          </p:nvSpPr>
          <p:spPr>
            <a:xfrm>
              <a:off x="4915080" y="2492280"/>
              <a:ext cx="3924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ossibilité de se déplacer grâce à des curseurs dans des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, facilite les GUI et les mises à jour programmat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0720" y="2492280"/>
              <a:ext cx="392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Scroll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1397160"/>
            <a:ext cx="7848360" cy="1095120"/>
            <a:chOff x="990720" y="1397160"/>
            <a:chExt cx="7848360" cy="1095120"/>
          </a:xfrm>
        </p:grpSpPr>
        <p:sp>
          <p:nvSpPr>
            <p:cNvPr id="530" name=""/>
            <p:cNvSpPr/>
            <p:nvPr/>
          </p:nvSpPr>
          <p:spPr>
            <a:xfrm>
              <a:off x="4915080" y="1397160"/>
              <a:ext cx="392400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énéf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0720" y="1397160"/>
              <a:ext cx="392436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15080" y="1852560"/>
              <a:ext cx="3924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é de développement en offrant une présentation unique de résult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90720" y="1852560"/>
              <a:ext cx="3924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2492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36813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43974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5210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602280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072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15080" y="1397160"/>
            <a:ext cx="0" cy="46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08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18525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et JAVA - Guide du programmeu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orge Reese - Ed. O’Rei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™ 2.1 AP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thWhite &amp; Mark Hapn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n Microsystems Inc. – 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doc du JD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steam" descr=""/>
          <p:cNvPicPr/>
          <p:nvPr/>
        </p:nvPicPr>
        <p:blipFill>
          <a:blip r:embed="rId1"/>
          <a:stretch/>
        </p:blipFill>
        <p:spPr>
          <a:xfrm>
            <a:off x="3811680" y="2133720"/>
            <a:ext cx="1520640" cy="2286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990720" y="5029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rso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anadoo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urel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: Java DataBase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ès aux SGBD (Oracle, mSQL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bstraction et homogénéité grâce à une interface standardisée avec la BDD c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appuie sur le langag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mplicité de la mise en 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60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63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66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aquetage java.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70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81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89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94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10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17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20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123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127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137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140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143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ilotes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147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152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158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166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171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87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91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94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97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200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204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2860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Taxinomie des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0720" y="1397160"/>
            <a:ext cx="7848360" cy="607680"/>
            <a:chOff x="990720" y="1397160"/>
            <a:chExt cx="7848360" cy="607680"/>
          </a:xfrm>
        </p:grpSpPr>
        <p:sp>
          <p:nvSpPr>
            <p:cNvPr id="216" name=""/>
            <p:cNvSpPr/>
            <p:nvPr/>
          </p:nvSpPr>
          <p:spPr>
            <a:xfrm>
              <a:off x="3124080" y="1397160"/>
              <a:ext cx="571500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1397160"/>
              <a:ext cx="213336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90720" y="4995720"/>
            <a:ext cx="7848360" cy="970200"/>
            <a:chOff x="990720" y="4995720"/>
            <a:chExt cx="7848360" cy="970200"/>
          </a:xfrm>
        </p:grpSpPr>
        <p:sp>
          <p:nvSpPr>
            <p:cNvPr id="219" name=""/>
            <p:cNvSpPr/>
            <p:nvPr/>
          </p:nvSpPr>
          <p:spPr>
            <a:xfrm>
              <a:off x="3124080" y="4995720"/>
              <a:ext cx="571500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% Java - </a:t>
              </a:r>
              <a:r>
                <a:rPr b="1" i="1" lang="en-US" sz="1800" spc="-1" strike="noStrike">
                  <a:solidFill>
                    <a:srgbClr val="4638b4"/>
                  </a:solidFill>
                  <a:latin typeface="Times New Roman"/>
                </a:rPr>
                <a:t>pure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unication en direct à travers un réseau avec l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gestionnaire de base de donné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0720" y="4995720"/>
              <a:ext cx="213336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90720" y="4038480"/>
            <a:ext cx="7848360" cy="957240"/>
            <a:chOff x="990720" y="4038480"/>
            <a:chExt cx="7848360" cy="957240"/>
          </a:xfrm>
        </p:grpSpPr>
        <p:sp>
          <p:nvSpPr>
            <p:cNvPr id="222" name=""/>
            <p:cNvSpPr/>
            <p:nvPr/>
          </p:nvSpPr>
          <p:spPr>
            <a:xfrm>
              <a:off x="3124080" y="4038480"/>
              <a:ext cx="5715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Java s’appuyant sur une couche rés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quêtes interprétées au niveau du serveur B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0720" y="4038480"/>
              <a:ext cx="2133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2992320"/>
            <a:ext cx="7848360" cy="1046160"/>
            <a:chOff x="990720" y="2992320"/>
            <a:chExt cx="7848360" cy="1046160"/>
          </a:xfrm>
        </p:grpSpPr>
        <p:sp>
          <p:nvSpPr>
            <p:cNvPr id="225" name=""/>
            <p:cNvSpPr/>
            <p:nvPr/>
          </p:nvSpPr>
          <p:spPr>
            <a:xfrm>
              <a:off x="3124080" y="2992320"/>
              <a:ext cx="57150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d’API C/C++ na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écessairement installés sur les postes cli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720" y="2992320"/>
              <a:ext cx="21333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90720" y="2004840"/>
            <a:ext cx="7848360" cy="987480"/>
            <a:chOff x="990720" y="2004840"/>
            <a:chExt cx="7848360" cy="987480"/>
          </a:xfrm>
        </p:grpSpPr>
        <p:sp>
          <p:nvSpPr>
            <p:cNvPr id="228" name=""/>
            <p:cNvSpPr/>
            <p:nvPr/>
          </p:nvSpPr>
          <p:spPr>
            <a:xfrm>
              <a:off x="3124080" y="2004840"/>
              <a:ext cx="57150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echnologie de p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xemple typique :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JdbcOdbcDriver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livré avec le JD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2004840"/>
              <a:ext cx="2133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992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40384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9957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96592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397160"/>
            <a:ext cx="0" cy="45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3908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200484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hargement de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un.jdbc.odbc.JdbcOdbc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oracle.jdbc.driver.Oracle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lassNotFound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 driver not found.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rgement dynamique de class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ont ODBC (Type 1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ilote natif Oracle (Type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pilotes se déclarent auprès d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river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244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247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250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254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265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277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283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286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289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29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29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29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0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0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30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828800"/>
            <a:ext cx="251460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133720"/>
            <a:ext cx="1295280" cy="38088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2286000"/>
            <a:ext cx="1371600" cy="4572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10080" y="1371600"/>
            <a:ext cx="3581640" cy="685800"/>
            <a:chOff x="5410080" y="1371600"/>
            <a:chExt cx="3581640" cy="685800"/>
          </a:xfrm>
        </p:grpSpPr>
        <p:sp>
          <p:nvSpPr>
            <p:cNvPr id="322" name=""/>
            <p:cNvSpPr/>
            <p:nvPr/>
          </p:nvSpPr>
          <p:spPr>
            <a:xfrm>
              <a:off x="6553080" y="13716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410080" y="1752120"/>
              <a:ext cx="1143000" cy="30492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8120" y="2819520"/>
            <a:ext cx="1981080" cy="685800"/>
          </a:xfrm>
          <a:prstGeom prst="ellipse">
            <a:avLst/>
          </a:prstGeom>
          <a:noFill/>
          <a:ln cap="rnd" w="57240">
            <a:solidFill>
              <a:srgbClr val="4638b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lasse DriverManager est responsable de la communication avec les pilotes charg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gérer une connexion, la classe DriverManager analyse l’URL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jdbc:</a:t>
            </a:r>
            <a:r>
              <a:rPr b="1" lang="fr-FR" sz="2000" spc="-1" strike="noStrike">
                <a:solidFill>
                  <a:srgbClr val="4638b4"/>
                </a:solidFill>
                <a:latin typeface="Courier New"/>
              </a:rPr>
              <a:t>sous-protoco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fr-FR" sz="2000" spc="-1" strike="noStrike">
                <a:solidFill>
                  <a:srgbClr val="de041a"/>
                </a:solidFill>
                <a:latin typeface="Courier New"/>
              </a:rPr>
              <a:t>sous-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4638b4"/>
                </a:solidFill>
                <a:latin typeface="Times New Roman"/>
              </a:rPr>
              <a:t>sous-protoco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dentifie le pilote adéquat.</a:t>
            </a:r>
            <a:br>
              <a:rPr sz="2400"/>
            </a:br>
            <a:r>
              <a:rPr b="0" lang="fr-FR" sz="2400" spc="-1" strike="noStrike">
                <a:solidFill>
                  <a:srgbClr val="de041a"/>
                </a:solidFill>
                <a:latin typeface="Times New Roman"/>
              </a:rPr>
              <a:t>sous-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dique toutes les précisions nécessaires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nnex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7:07:25Z</dcterms:created>
  <dc:creator>Aurélien DELEUSIÈRE</dc:creator>
  <dc:description/>
  <dc:language>en-US</dc:language>
  <cp:lastModifiedBy>Aurélien DELEUSIÈRE</cp:lastModifiedBy>
  <dcterms:modified xsi:type="dcterms:W3CDTF">2000-11-09T18:16:22Z</dcterms:modified>
  <cp:revision>46</cp:revision>
  <dc:subject/>
  <dc:title>JDBC™ 2.1 API</dc:title>
</cp:coreProperties>
</file>