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AD9-3F0B-4A98-B331-F410D346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2DC-C992-49F8-B6F0-C65EB783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813-A68E-4EC2-AA2E-7DAB4710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0E0-A420-4FDA-A6CB-B44FBFF0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21D4-1FBF-4FB3-8A1F-7ED6ACD7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F3F3-F22F-4C49-99F3-FF75F4D3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0AF5-D4C1-4517-8ABA-54B5C239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34F1-BE3B-4927-AD77-91FF04BC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6EBD-EE3C-4F5C-A274-C58C1F3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9BFF-A9F0-4A9D-BB17-F7A308DF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8D5-C91D-459F-9017-6817D8F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64B-0526-491D-BB8C-6A2DAAC9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3DDE-9AF9-4C68-AB6D-8E980EF7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0602-62CA-47DD-8014-96F3B6C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5A9-7CFC-445A-91FA-7611230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DA1-A107-478A-AD04-F1880913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49C-78AF-4529-A685-683DBA0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1C1-F78E-4068-90EA-EA86928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3BF-1771-4CA5-9BA2-042E557D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BA4-259C-415D-BF23-DEC4C03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FF8-5157-4F2E-A72A-CACA509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746-282B-4186-AFD6-A8DFDDB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AE5-B15B-425F-85F2-2585BC4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913-DA7A-4F56-9833-26238B6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B33-8BDE-4523-A84D-218E51EE03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5" name="ACTIVEX" descr=""/>
          <p:cNvPicPr/>
          <p:nvPr/>
        </p:nvPicPr>
        <p:blipFill>
          <a:blip r:embed="rId3"/>
          <a:stretch/>
        </p:blipFill>
        <p:spPr>
          <a:xfrm>
            <a:off x="990720" y="1282680"/>
            <a:ext cx="7467480" cy="4356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A069-252E-4B62-9A33-E536A5E477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133720" y="3124080"/>
            <a:ext cx="64008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ctiveX and The We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chitecture &amp; Technical Over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rlie Kin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chitect &amp; Chief Technical Ad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crosoft Developer Relations Grou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ACTIVEX" descr=""/>
          <p:cNvPicPr/>
          <p:nvPr/>
        </p:nvPicPr>
        <p:blipFill>
          <a:blip r:embed="rId1"/>
          <a:stretch/>
        </p:blipFill>
        <p:spPr>
          <a:xfrm>
            <a:off x="932040" y="438120"/>
            <a:ext cx="24206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OM Architecture</a:t>
            </a:r>
            <a:br>
              <a:rPr sz="4000"/>
            </a:br>
            <a:r>
              <a:rPr b="0" lang="en-US" sz="2800" spc="-1" strike="noStrike">
                <a:solidFill>
                  <a:srgbClr val="ff6600"/>
                </a:solidFill>
                <a:latin typeface="Arial Black"/>
              </a:rPr>
              <a:t>A scalable programming mo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2436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7242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0040" y="19321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867360" y="157176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3040" y="196848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582960" y="2114640"/>
            <a:ext cx="351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858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40" y="1434960"/>
            <a:ext cx="37526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same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direct function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6520" y="367344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172280" y="331308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7960" y="3710160"/>
            <a:ext cx="253800" cy="25380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888240" y="385596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827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4167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43480" y="3487680"/>
            <a:ext cx="898560" cy="749520"/>
          </a:xfrm>
          <a:prstGeom prst="cube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10032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27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1520" y="3112920"/>
            <a:ext cx="124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6560" y="3114720"/>
            <a:ext cx="130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557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48156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20" y="3176640"/>
            <a:ext cx="37530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sam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, secure 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9520" y="4883040"/>
            <a:ext cx="375300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oss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, reliable and flex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E-RPC bas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102360"/>
            <a:ext cx="154080" cy="45864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52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95760" y="5270400"/>
            <a:ext cx="594000" cy="901800"/>
          </a:xfrm>
          <a:prstGeom prst="cube">
            <a:avLst>
              <a:gd name="adj" fmla="val 17194"/>
            </a:avLst>
          </a:pr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9320" y="55324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46040" y="4897440"/>
            <a:ext cx="131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77240" y="4898880"/>
            <a:ext cx="12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809240" y="5346720"/>
            <a:ext cx="746280" cy="749160"/>
          </a:xfrm>
          <a:prstGeom prst="cube">
            <a:avLst>
              <a:gd name="adj" fmla="val 12495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86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4883040"/>
            <a:ext cx="154080" cy="459000"/>
          </a:xfrm>
          <a:custGeom>
            <a:avLst/>
            <a:gdLst/>
            <a:ahLst/>
            <a:rect l="l" t="t" r="r" b="b"/>
            <a:pathLst>
              <a:path w="97" h="289">
                <a:moveTo>
                  <a:pt x="96" y="288"/>
                </a:moveTo>
                <a:lnTo>
                  <a:pt x="96" y="48"/>
                </a:lnTo>
                <a:lnTo>
                  <a:pt x="0" y="0"/>
                </a:lnTo>
                <a:lnTo>
                  <a:pt x="0" y="240"/>
                </a:lnTo>
                <a:lnTo>
                  <a:pt x="96" y="288"/>
                </a:lnTo>
              </a:path>
            </a:pathLst>
          </a:custGeom>
          <a:solidFill>
            <a:srgbClr val="ff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1879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526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629480" y="5172120"/>
            <a:ext cx="1432080" cy="1027080"/>
          </a:xfrm>
          <a:prstGeom prst="cube">
            <a:avLst>
              <a:gd name="adj" fmla="val 12495"/>
            </a:avLst>
          </a:prstGeom>
          <a:blipFill rotWithShape="0">
            <a:blip r:embed="rId7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5160" y="5568840"/>
            <a:ext cx="253800" cy="254160"/>
          </a:xfrm>
          <a:prstGeom prst="ellipse">
            <a:avLst/>
          </a:prstGeom>
          <a:gradFill rotWithShape="0">
            <a:gsLst>
              <a:gs pos="0">
                <a:srgbClr val="14d3c1"/>
              </a:gs>
              <a:gs pos="100000">
                <a:srgbClr val="053e3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345440" y="5715000"/>
            <a:ext cx="35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56865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59360" y="1819440"/>
            <a:ext cx="3949560" cy="372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080" y="1819440"/>
            <a:ext cx="3949560" cy="440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bcbc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360" y="502920"/>
            <a:ext cx="88552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/DCOM</a:t>
            </a:r>
            <a:br>
              <a:rPr sz="4000"/>
            </a:br>
            <a:r>
              <a:rPr b="0" i="1" lang="en-US" sz="2800" spc="-1" strike="noStrike">
                <a:solidFill>
                  <a:srgbClr val="808000"/>
                </a:solidFill>
                <a:latin typeface="Arial Black"/>
              </a:rPr>
              <a:t>Lets ActiveX components run anywh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3641040" y="3948120"/>
            <a:ext cx="2163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" y="9452"/>
                </a:moveTo>
                <a:arcTo wR="10800" hR="10800" stAng="-10369687" swAng="9738495"/>
                <a:lnTo>
                  <a:pt x="10800" y="10800"/>
                </a:lnTo>
                <a:close/>
              </a:path>
              <a:path fill="none" w="21600" h="21600">
                <a:moveTo>
                  <a:pt x="84" y="9452"/>
                </a:moveTo>
                <a:arcTo wR="10800" hR="10800" stAng="-10369687" swAng="97384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95680" y="4861080"/>
            <a:ext cx="230400" cy="839520"/>
            <a:chOff x="4495680" y="4861080"/>
            <a:chExt cx="230400" cy="839520"/>
          </a:xfrm>
        </p:grpSpPr>
        <p:sp>
          <p:nvSpPr>
            <p:cNvPr id="218" name=""/>
            <p:cNvSpPr/>
            <p:nvPr/>
          </p:nvSpPr>
          <p:spPr>
            <a:xfrm>
              <a:off x="449568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4861080"/>
              <a:ext cx="154080" cy="839520"/>
            </a:xfrm>
            <a:custGeom>
              <a:avLst/>
              <a:gdLst/>
              <a:ahLst/>
              <a:rect l="l" t="t" r="r" b="b"/>
              <a:pathLst>
                <a:path w="97" h="529">
                  <a:moveTo>
                    <a:pt x="96" y="0"/>
                  </a:moveTo>
                  <a:lnTo>
                    <a:pt x="96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6200000">
            <a:off x="4100400" y="387720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4556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2480" y="326376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objec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3886560" y="2498760"/>
            <a:ext cx="18367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103787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1037879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38520" y="2117880"/>
            <a:ext cx="235080" cy="839520"/>
            <a:chOff x="4538520" y="2117880"/>
            <a:chExt cx="235080" cy="839520"/>
          </a:xfrm>
        </p:grpSpPr>
        <p:sp>
          <p:nvSpPr>
            <p:cNvPr id="225" name=""/>
            <p:cNvSpPr/>
            <p:nvPr/>
          </p:nvSpPr>
          <p:spPr>
            <a:xfrm>
              <a:off x="453852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240"/>
                  </a:lnTo>
                  <a:lnTo>
                    <a:pt x="0" y="144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6280" y="2117880"/>
              <a:ext cx="157320" cy="839520"/>
            </a:xfrm>
            <a:custGeom>
              <a:avLst/>
              <a:gdLst/>
              <a:ahLst/>
              <a:rect l="l" t="t" r="r" b="b"/>
              <a:pathLst>
                <a:path w="99" h="529">
                  <a:moveTo>
                    <a:pt x="98" y="0"/>
                  </a:moveTo>
                  <a:lnTo>
                    <a:pt x="98" y="336"/>
                  </a:lnTo>
                  <a:lnTo>
                    <a:pt x="0" y="240"/>
                  </a:lnTo>
                  <a:lnTo>
                    <a:pt x="0" y="5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0" y="30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0480" y="242712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5018040"/>
            <a:ext cx="2960640" cy="10558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un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1447920" y="3637440"/>
            <a:ext cx="1218240" cy="12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77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7752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82880" y="3714840"/>
            <a:ext cx="1218600" cy="122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48" y="21515"/>
                </a:moveTo>
                <a:arcTo wR="10800" hR="10800" stAng="5831367" swAng="10359692"/>
                <a:lnTo>
                  <a:pt x="10800" y="10800"/>
                </a:lnTo>
                <a:close/>
              </a:path>
              <a:path fill="none" w="21600" h="21600">
                <a:moveTo>
                  <a:pt x="9448" y="21515"/>
                </a:moveTo>
                <a:arcTo wR="10800" hR="10800" stAng="5831367" swAng="10359692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35920" y="4083120"/>
            <a:ext cx="896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66880" y="4251240"/>
            <a:ext cx="839880" cy="230400"/>
            <a:chOff x="2666880" y="4251240"/>
            <a:chExt cx="839880" cy="230400"/>
          </a:xfrm>
        </p:grpSpPr>
        <p:sp>
          <p:nvSpPr>
            <p:cNvPr id="234" name=""/>
            <p:cNvSpPr/>
            <p:nvPr/>
          </p:nvSpPr>
          <p:spPr>
            <a:xfrm>
              <a:off x="266688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914400" y="4251240"/>
            <a:ext cx="839880" cy="230400"/>
            <a:chOff x="914400" y="4251240"/>
            <a:chExt cx="839880" cy="230400"/>
          </a:xfrm>
        </p:grpSpPr>
        <p:sp>
          <p:nvSpPr>
            <p:cNvPr id="237" name=""/>
            <p:cNvSpPr/>
            <p:nvPr/>
          </p:nvSpPr>
          <p:spPr>
            <a:xfrm>
              <a:off x="914400" y="425124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240" y="96"/>
                  </a:lnTo>
                  <a:lnTo>
                    <a:pt x="14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4327560"/>
              <a:ext cx="839880" cy="154080"/>
            </a:xfrm>
            <a:custGeom>
              <a:avLst/>
              <a:gdLst/>
              <a:ahLst/>
              <a:rect l="l" t="t" r="r" b="b"/>
              <a:pathLst>
                <a:path w="529" h="97">
                  <a:moveTo>
                    <a:pt x="0" y="96"/>
                  </a:moveTo>
                  <a:lnTo>
                    <a:pt x="336" y="96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Control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s are components that can be manipulated visually by GUI develop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ion between design-time and run-time user-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that makes the Web come al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ble by other components and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0280" y="4913280"/>
            <a:ext cx="8623440" cy="1645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IGN=CENTER CLASSID="clsid:99B42120-6EC7-11CF-A6C7-00AA00A47DD2" WIDTH=200 HEIGHT=200 ID=MyObject     CODEBASE="http://foo/bar/myoc.ocx#ver=4,70,0,106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ARAM NAME="ScrollStyleX" VALUE="Circula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Controls To HT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W3C &lt;OBJECT&gt;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EMBED&gt; also supported for plug-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= name used by script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D=Globally unique identifier for the ActiveX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= Control to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ARAM&gt; = Properties of the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3812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and Java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What is Java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50880" y="1568160"/>
            <a:ext cx="60422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achine/Byte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57600" y="4578480"/>
            <a:ext cx="2590920" cy="1815840"/>
            <a:chOff x="4557600" y="4578480"/>
            <a:chExt cx="2590920" cy="1815840"/>
          </a:xfrm>
        </p:grpSpPr>
        <p:sp>
          <p:nvSpPr>
            <p:cNvPr id="247" name=""/>
            <p:cNvSpPr/>
            <p:nvPr/>
          </p:nvSpPr>
          <p:spPr>
            <a:xfrm>
              <a:off x="4654440" y="4578480"/>
              <a:ext cx="242568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3040" y="5264280"/>
              <a:ext cx="2044800" cy="762840"/>
            </a:xfrm>
            <a:prstGeom prst="rect">
              <a:avLst/>
            </a:prstGeom>
            <a:gradFill rotWithShape="0">
              <a:gsLst>
                <a:gs pos="0">
                  <a:srgbClr val="e45b00"/>
                </a:gs>
                <a:gs pos="50000">
                  <a:srgbClr val="ff6600"/>
                </a:gs>
                <a:gs pos="100000">
                  <a:srgbClr val="e45b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irtual Machine (VM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57600" y="4648320"/>
              <a:ext cx="25909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035000" y="2978280"/>
            <a:ext cx="280692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 Development T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83040" y="2978280"/>
            <a:ext cx="2044800" cy="762840"/>
          </a:xfrm>
          <a:prstGeom prst="rect">
            <a:avLst/>
          </a:prstGeom>
          <a:gradFill rotWithShape="0">
            <a:gsLst>
              <a:gs pos="0">
                <a:srgbClr val="e45b00"/>
              </a:gs>
              <a:gs pos="50000">
                <a:srgbClr val="ff6600"/>
              </a:gs>
              <a:gs pos="100000">
                <a:srgbClr val="e45b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va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8862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360" y="503280"/>
            <a:ext cx="88552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omplements Jav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8076960" cy="360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Java DO NOT COMPET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a set of integration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Java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ActiveX obj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VM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Java applets in any application, not just 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 component is an ActiveX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integration of Java applets with other languages and scri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other Java app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s Java applets talk to ActiveX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Java applets access to all P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74800" y="2216160"/>
            <a:ext cx="2554200" cy="141300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++, VB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4800" y="3862440"/>
            <a:ext cx="2554200" cy="16239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BScript, JScrip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3252960"/>
            <a:ext cx="253044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99040" y="3086280"/>
            <a:ext cx="2276640" cy="1457280"/>
            <a:chOff x="5999040" y="3086280"/>
            <a:chExt cx="2276640" cy="1457280"/>
          </a:xfrm>
        </p:grpSpPr>
        <p:sp>
          <p:nvSpPr>
            <p:cNvPr id="262" name=""/>
            <p:cNvSpPr/>
            <p:nvPr/>
          </p:nvSpPr>
          <p:spPr>
            <a:xfrm>
              <a:off x="6459480" y="3110040"/>
              <a:ext cx="1797120" cy="9968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100000">
                  <a:srgbClr val="99663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999040" y="3086280"/>
              <a:ext cx="2276640" cy="1457280"/>
              <a:chOff x="5999040" y="3086280"/>
              <a:chExt cx="2276640" cy="145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999040" y="3086280"/>
                <a:ext cx="346320" cy="1457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5520" y="4205520"/>
                <a:ext cx="2270160" cy="3380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e574e"/>
                    </a:solidFill>
                    <a:latin typeface="Arial"/>
                  </a:rPr>
                  <a:t>ActiveX Java V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3478320" y="4230720"/>
            <a:ext cx="2493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2920" y="3328920"/>
            <a:ext cx="2685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Does Java Fit With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’s Java Commi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is hard core about Java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Java VM for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Just-in-Time Java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J++ develop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upport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is the best execution environment for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st safest, most 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will compete with Java the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Risks of Downloaded Co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absolute security guarant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-signing and sandbox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ary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soft supports both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Authenticode™, works with ActiveX controls, Java applets, plug-i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ing - most secure Java VM, VB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industry is following to support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ctiveX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Active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/DCOM, Controls, Java™ Applets, Documents,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and Internet Explorer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the brows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de-signing and Sandbox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-signing - “shrinkwraps”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publisher; validates integrity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 or malicious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accountability for market and legal re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dbox - code isolated inside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event bugs; limits malicious operation by limiting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common denominator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es on airtight implementation, proven difficult in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4886280" y="1709640"/>
          <a:ext cx="37720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1709640"/>
                    <a:ext cx="37720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ode™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signing feature in Internet Explorer 3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industry standard certificates (X.50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ge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ctual relationship with multiple certificate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end users or administrators to set “trust polici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Are ActiveX Document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users view and edit non-HTML documents through the brow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entire cli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print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 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xisting documents into browser or any other applic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 Script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for rapid “wiring” together of diverse set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any scripting language - VBScript, JScript, Perl, PowerScript, Tck/Tk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s are the most broadly accessible develop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plus HTML is the fastest and easiest cross platform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xplorer 3.0 ships with VBScript, JScript run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4440" y="502920"/>
            <a:ext cx="865512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ripting: A Simple Solution</a:t>
            </a:r>
            <a:br>
              <a:rPr sz="4000"/>
            </a:br>
            <a:r>
              <a:rPr b="0" lang="en-US" sz="2800" spc="-1" strike="noStrike">
                <a:solidFill>
                  <a:srgbClr val="808000"/>
                </a:solidFill>
                <a:latin typeface="Arial Black"/>
              </a:rPr>
              <a:t>Pioneered by Visual Bas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7600" y="2199960"/>
            <a:ext cx="7537320" cy="27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expose events for the purpose of coordinating their activity with the rest of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ipt code can be attached to an object’s events to customize behavior - this is “script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547560" y="4908600"/>
            <a:ext cx="1476360" cy="12063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3760" y="4781520"/>
            <a:ext cx="1562040" cy="1562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560" y="4908600"/>
            <a:ext cx="4403880" cy="1189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Button_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sgBox “Hello wor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19D-4DBA-43B4-895A-4F41F70DE46A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, fast, and 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s both ActiveX Controls and Java app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subset of Visual Basic fo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compatible with Visual 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to Internet Explorer 3.0 and Windows NT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3 million users familiar with 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 for easy 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lients,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censable, not just for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91E-C65C-49BB-8EDD-80CA4A31ABDC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performance JavaScript-compatible 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secure than 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related to Java only by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Netscape proprietary despite public commi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Script and VBScript source licensable (free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ps with Internet Explorer 3.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8520" y="50292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Case Study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“Componentizing” Internet Explorer 3.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966680"/>
            <a:ext cx="8353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world application - target audience 100+ million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 PC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support open exist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icrosoft and developer community forward together in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h yeah, and ship it in nine months (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419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Explorer 2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415880"/>
            <a:ext cx="4419720" cy="2971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573440" y="1415880"/>
            <a:ext cx="46198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lithic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usabl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600" indent="-417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or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70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through proprietary means (hac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5576760" y="1230480"/>
            <a:ext cx="2743200" cy="3797280"/>
            <a:chOff x="5576760" y="1230480"/>
            <a:chExt cx="2743200" cy="3797280"/>
          </a:xfrm>
        </p:grpSpPr>
        <p:sp>
          <p:nvSpPr>
            <p:cNvPr id="298" name=""/>
            <p:cNvSpPr/>
            <p:nvPr/>
          </p:nvSpPr>
          <p:spPr>
            <a:xfrm>
              <a:off x="5583240" y="12304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b18d00"/>
                </a:gs>
                <a:gs pos="50000">
                  <a:srgbClr val="ffcc00"/>
                </a:gs>
                <a:gs pos="100000">
                  <a:srgbClr val="b18d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76760" y="1239840"/>
              <a:ext cx="2743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i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1840" y="336384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ffice B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11840" y="4125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sa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11840" y="183996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 Explo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11840" y="2602080"/>
              <a:ext cx="2197080" cy="596880"/>
            </a:xfrm>
            <a:prstGeom prst="roundRect">
              <a:avLst>
                <a:gd name="adj" fmla="val 12495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ndows She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5811840" y="1839960"/>
            <a:ext cx="2197080" cy="5968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70400" y="1687680"/>
            <a:ext cx="3657600" cy="3797280"/>
            <a:chOff x="5270400" y="1687680"/>
            <a:chExt cx="3657600" cy="3797280"/>
          </a:xfrm>
        </p:grpSpPr>
        <p:sp>
          <p:nvSpPr>
            <p:cNvPr id="307" name=""/>
            <p:cNvSpPr/>
            <p:nvPr/>
          </p:nvSpPr>
          <p:spPr>
            <a:xfrm>
              <a:off x="5734080" y="1687680"/>
              <a:ext cx="2730600" cy="379728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62680" y="229716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0080" y="2900520"/>
              <a:ext cx="22860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3503520"/>
              <a:ext cx="2273400" cy="47016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2680" y="410688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2680" y="4710240"/>
              <a:ext cx="2273400" cy="469800"/>
            </a:xfrm>
            <a:prstGeom prst="roundRect">
              <a:avLst>
                <a:gd name="adj" fmla="val 12495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croGraf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0400" y="1697040"/>
              <a:ext cx="3657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62680" y="2297160"/>
            <a:ext cx="22734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50080" y="2900520"/>
            <a:ext cx="2286000" cy="4698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730840" y="2220840"/>
            <a:ext cx="3197160" cy="2425680"/>
            <a:chOff x="5730840" y="2220840"/>
            <a:chExt cx="3197160" cy="2425680"/>
          </a:xfrm>
        </p:grpSpPr>
        <p:sp>
          <p:nvSpPr>
            <p:cNvPr id="317" name=""/>
            <p:cNvSpPr/>
            <p:nvPr/>
          </p:nvSpPr>
          <p:spPr>
            <a:xfrm>
              <a:off x="5964120" y="2220840"/>
              <a:ext cx="2730600" cy="2425680"/>
            </a:xfrm>
            <a:prstGeom prst="rect">
              <a:avLst/>
            </a:prstGeom>
            <a:gradFill rotWithShape="0">
              <a:gsLst>
                <a:gs pos="0">
                  <a:srgbClr val="9943b3"/>
                </a:gs>
                <a:gs pos="50000">
                  <a:srgbClr val="c055e1"/>
                </a:gs>
                <a:gs pos="100000">
                  <a:srgbClr val="9943b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0640" y="3363840"/>
              <a:ext cx="8254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E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92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R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92720" y="3363840"/>
              <a:ext cx="128268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16720" y="2754360"/>
              <a:ext cx="1049400" cy="4446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30840" y="223056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720" y="3973680"/>
              <a:ext cx="135900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ockwa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6960" y="3973680"/>
              <a:ext cx="749160" cy="4442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c055e1"/>
                </a:gs>
                <a:gs pos="100000">
                  <a:srgbClr val="bf54e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D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92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R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16720" y="2754360"/>
            <a:ext cx="1049400" cy="44460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730840" y="4659480"/>
            <a:ext cx="3197160" cy="1815840"/>
            <a:chOff x="5730840" y="4659480"/>
            <a:chExt cx="3197160" cy="1815840"/>
          </a:xfrm>
        </p:grpSpPr>
        <p:sp>
          <p:nvSpPr>
            <p:cNvPr id="328" name=""/>
            <p:cNvSpPr/>
            <p:nvPr/>
          </p:nvSpPr>
          <p:spPr>
            <a:xfrm>
              <a:off x="5964120" y="4659480"/>
              <a:ext cx="2730600" cy="181584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5176800"/>
              <a:ext cx="1447920" cy="66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sual Basic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92720" y="5802480"/>
              <a:ext cx="1282680" cy="4442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43800" y="5176800"/>
              <a:ext cx="10494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0840" y="4668840"/>
              <a:ext cx="319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tiveX scrip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91400" y="5786280"/>
              <a:ext cx="901800" cy="4446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014880" y="5176800"/>
            <a:ext cx="1447920" cy="5367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2720" y="5802480"/>
            <a:ext cx="1282680" cy="44424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5080" y="5423040"/>
            <a:ext cx="7073640" cy="1358640"/>
            <a:chOff x="235080" y="5423040"/>
            <a:chExt cx="7073640" cy="1358640"/>
          </a:xfrm>
        </p:grpSpPr>
        <p:sp>
          <p:nvSpPr>
            <p:cNvPr id="337" name=""/>
            <p:cNvSpPr/>
            <p:nvPr/>
          </p:nvSpPr>
          <p:spPr>
            <a:xfrm>
              <a:off x="235080" y="5423040"/>
              <a:ext cx="7073640" cy="1358640"/>
            </a:xfrm>
            <a:prstGeom prst="rect">
              <a:avLst/>
            </a:prstGeom>
            <a:gradFill rotWithShape="0">
              <a:gsLst>
                <a:gs pos="0">
                  <a:srgbClr val="6a4623"/>
                </a:gs>
                <a:gs pos="50000">
                  <a:srgbClr val="996633"/>
                </a:gs>
                <a:gs pos="100000">
                  <a:srgbClr val="6a462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6400" y="5661000"/>
              <a:ext cx="1427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11240" y="5575320"/>
              <a:ext cx="16639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RL re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TTP, F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0680" y="5575320"/>
              <a:ext cx="152064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yperlin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vor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6560" y="5575320"/>
              <a:ext cx="1662120" cy="1054080"/>
            </a:xfrm>
            <a:prstGeom prst="roundRect">
              <a:avLst>
                <a:gd name="adj" fmla="val 12495"/>
              </a:avLst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de downl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440" y="1201680"/>
            <a:ext cx="4991040" cy="380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ctiveX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arketing name for a set of technologies and services, all based on the Component Object Model (COM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just CO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OM” is just COM with a longer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225000"/>
            <a:ext cx="794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0480" y="1415880"/>
            <a:ext cx="6683040" cy="19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road Industry Sup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highest performance, “no compromises”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richest and most robust array of programming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and open support for industry standards: HTTP, HTML, TCP/IP, Jav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ed, accountable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on solid, proven foundation of 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:  Cho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 and match from huge industry arsenal of tools, languages, code an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pplications for Intern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/or 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n components in the browser or other applications (any contain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with any tool o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Macintosh®, UNIX® and Windows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components using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ript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enefits</a:t>
            </a:r>
            <a:br>
              <a:rPr sz="4000"/>
            </a:b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Broadest industry suppor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proven, compatible, third gener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oday from over 1,000 controls from hundreds of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ga Information Group: $240 million industry in 1996, growing to over $2 billion by 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 components in the most popular ap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Office, Internet Explorer, Lotus® Notes, Lotus SmartSuite®, Sybase® 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with familiar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isual C++, Microsoft Visual Basic, Borland C++, Borland Delphi, Java and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is the first and only component technology to achieve commercial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’s thriving ActiveX software component industry makes it quick and easy to build great web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ized architecture is not just the future; it is here today with Activ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120" t="1959" r="1569" b="737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7864560" y="6264360"/>
            <a:ext cx="1197360" cy="376200"/>
            <a:chOff x="7864560" y="6264360"/>
            <a:chExt cx="1197360" cy="376200"/>
          </a:xfrm>
        </p:grpSpPr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7864560" y="629748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835840" y="6264360"/>
              <a:ext cx="22608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5e574e"/>
                  </a:solidFill>
                  <a:latin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502920"/>
            <a:ext cx="89913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Web Today: “Islands” of Cod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60360" y="15048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5048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063320" y="30193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46320" y="3705120"/>
            <a:ext cx="14576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91080" y="50767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880" y="51084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3320" y="36291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99520" y="46958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02920"/>
            <a:ext cx="914256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eX Bridges the “Islands”</a:t>
            </a:r>
            <a:br>
              <a:rPr sz="4000"/>
            </a:br>
            <a:r>
              <a:rPr b="0" i="1" lang="en-US" sz="2400" spc="-1" strike="noStrike">
                <a:solidFill>
                  <a:srgbClr val="808000"/>
                </a:solidFill>
                <a:latin typeface="Arial Black"/>
              </a:rPr>
              <a:t>Makes it easy to integrate and reuse any compon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60360" y="1733400"/>
          <a:ext cx="6623280" cy="49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733400"/>
                    <a:ext cx="66232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063320" y="3247920"/>
            <a:ext cx="101556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98720" y="3933720"/>
            <a:ext cx="17564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7840" y="5305320"/>
            <a:ext cx="1337040" cy="4582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880" y="5337000"/>
            <a:ext cx="121824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13320" y="3857760"/>
            <a:ext cx="14562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9520" y="4924440"/>
            <a:ext cx="1674000" cy="82404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595900"/>
              </a:gs>
            </a:gsLst>
            <a:lin ang="54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HT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8520" y="4140360"/>
            <a:ext cx="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95520" y="4140360"/>
            <a:ext cx="2286000" cy="114300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95520" y="4216320"/>
            <a:ext cx="2286000" cy="990720"/>
          </a:xfrm>
          <a:prstGeom prst="line">
            <a:avLst/>
          </a:prstGeom>
          <a:ln w="50760">
            <a:solidFill>
              <a:srgbClr val="33cc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120" y="503280"/>
            <a:ext cx="8753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tivation For ActiveX</a:t>
            </a:r>
            <a:br>
              <a:rPr sz="4000"/>
            </a:br>
            <a:r>
              <a:rPr b="0" i="1" lang="en-US" sz="2200" spc="-1" strike="noStrike">
                <a:solidFill>
                  <a:srgbClr val="808000"/>
                </a:solidFill>
                <a:latin typeface="Arial Black"/>
              </a:rPr>
              <a:t>Bring Component-based Development to the Interne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Developers - want to easily create, reuse and integrate software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ducers - want to build rich, engaging Web sites quickly and easi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Users - want an intriguing, exciting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92600" y="1835280"/>
            <a:ext cx="4330800" cy="4559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10360" y="32259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6306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6520" y="257508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4160" y="3489480"/>
            <a:ext cx="16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5200" y="5241960"/>
            <a:ext cx="169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160" y="104400"/>
            <a:ext cx="9067680" cy="11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-bas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78080"/>
            <a:ext cx="3581280" cy="4730760"/>
            <a:chOff x="57240" y="1378080"/>
            <a:chExt cx="3581280" cy="4730760"/>
          </a:xfrm>
        </p:grpSpPr>
        <p:grpSp>
          <p:nvGrpSpPr>
            <p:cNvPr id="123" name=""/>
            <p:cNvGrpSpPr/>
            <p:nvPr/>
          </p:nvGrpSpPr>
          <p:grpSpPr>
            <a:xfrm>
              <a:off x="57240" y="1378080"/>
              <a:ext cx="3581280" cy="4730760"/>
              <a:chOff x="57240" y="1378080"/>
              <a:chExt cx="3581280" cy="4730760"/>
            </a:xfrm>
          </p:grpSpPr>
          <p:sp>
            <p:nvSpPr>
              <p:cNvPr id="124" name=""/>
              <p:cNvSpPr/>
              <p:nvPr/>
            </p:nvSpPr>
            <p:spPr>
              <a:xfrm>
                <a:off x="57240" y="3333600"/>
                <a:ext cx="3581280" cy="27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tiveX Contr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-fabricated compon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ckaged by  program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s for animation,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video, sound, 3D,  etc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clude visual and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 design-time behavi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688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77760" y="198756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44800" y="2597040"/>
                <a:ext cx="520560" cy="52092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16200" y="1987560"/>
                <a:ext cx="44424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34960" y="1378080"/>
                <a:ext cx="444600" cy="368280"/>
              </a:xfrm>
              <a:prstGeom prst="cube">
                <a:avLst>
                  <a:gd name="adj" fmla="val 24995"/>
                </a:avLst>
              </a:prstGeom>
              <a:solidFill>
                <a:srgbClr val="9966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1" name=""/>
            <p:cNvGraphicFramePr/>
            <p:nvPr/>
          </p:nvGraphicFramePr>
          <p:xfrm>
            <a:off x="2066760" y="2771640"/>
            <a:ext cx="352440" cy="3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6760" y="2771640"/>
                      <a:ext cx="3524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615960" y="2784600"/>
            <a:ext cx="355680" cy="33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960" y="2784600"/>
                      <a:ext cx="35568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1300320" y="2766960"/>
            <a:ext cx="357120" cy="3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00320" y="2766960"/>
                      <a:ext cx="35712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876400" y="1476360"/>
            <a:ext cx="4114800" cy="4346640"/>
            <a:chOff x="2876400" y="1476360"/>
            <a:chExt cx="4114800" cy="4346640"/>
          </a:xfrm>
        </p:grpSpPr>
        <p:grpSp>
          <p:nvGrpSpPr>
            <p:cNvPr id="138" name=""/>
            <p:cNvGrpSpPr/>
            <p:nvPr/>
          </p:nvGrpSpPr>
          <p:grpSpPr>
            <a:xfrm>
              <a:off x="2876400" y="3352680"/>
              <a:ext cx="4114800" cy="2470320"/>
              <a:chOff x="2876400" y="3352680"/>
              <a:chExt cx="4114800" cy="247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76400" y="358128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74960" y="3352680"/>
                <a:ext cx="3216240" cy="247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diting and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yout Tool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cre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ual content lay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grated scrip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One button publish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Wingdings" charset="2"/>
                  <a:buChar char="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ntent manag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890880" y="1476360"/>
              <a:ext cx="1805040" cy="1785960"/>
              <a:chOff x="3890880" y="1476360"/>
              <a:chExt cx="1805040" cy="1785960"/>
            </a:xfrm>
          </p:grpSpPr>
          <p:pic>
            <p:nvPicPr>
              <p:cNvPr id="1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6520" y="2249640"/>
                <a:ext cx="779400" cy="10126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</p:pic>
          <p:pic>
            <p:nvPicPr>
              <p:cNvPr id="1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09920" y="1784520"/>
                <a:ext cx="843120" cy="10350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5e574e"/>
                </a:outerShdw>
              </a:effectLst>
            </p:spPr>
          </p:pic>
          <p:pic>
            <p:nvPicPr>
              <p:cNvPr id="14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90880" y="1476360"/>
                <a:ext cx="790560" cy="1031760"/>
              </a:xfrm>
              <a:prstGeom prst="rect">
                <a:avLst/>
              </a:prstGeom>
              <a:ln w="12600">
                <a:solidFill>
                  <a:srgbClr val="5e574e"/>
                </a:solidFill>
                <a:miter/>
              </a:ln>
            </p:spPr>
          </p:pic>
        </p:grpSp>
      </p:grpSp>
      <p:grpSp>
        <p:nvGrpSpPr>
          <p:cNvPr id="145" name=""/>
          <p:cNvGrpSpPr/>
          <p:nvPr/>
        </p:nvGrpSpPr>
        <p:grpSpPr>
          <a:xfrm>
            <a:off x="5848200" y="1301760"/>
            <a:ext cx="3239280" cy="4342680"/>
            <a:chOff x="5848200" y="1301760"/>
            <a:chExt cx="3239280" cy="4342680"/>
          </a:xfrm>
        </p:grpSpPr>
        <p:grpSp>
          <p:nvGrpSpPr>
            <p:cNvPr id="146" name=""/>
            <p:cNvGrpSpPr/>
            <p:nvPr/>
          </p:nvGrpSpPr>
          <p:grpSpPr>
            <a:xfrm>
              <a:off x="5848200" y="3352680"/>
              <a:ext cx="3239280" cy="2291760"/>
              <a:chOff x="5848200" y="3352680"/>
              <a:chExt cx="3239280" cy="229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5848200" y="3562200"/>
                <a:ext cx="8384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881040" y="3352680"/>
                <a:ext cx="2206440" cy="2291760"/>
                <a:chOff x="6881040" y="3352680"/>
                <a:chExt cx="2206440" cy="2291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887880" y="3352680"/>
                  <a:ext cx="219960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High Impact </a:t>
                  </a:r>
                  <a:br>
                    <a:rPr sz="2800"/>
                  </a:b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onte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881040" y="4332240"/>
                  <a:ext cx="1844640" cy="13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Entertain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mer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Wingdings" charset="2"/>
                    <a:buChar char="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 </a:t>
                  </a:r>
                  <a:br>
                    <a:rPr sz="2000"/>
                  </a:b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   gather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7118280" y="1301760"/>
              <a:ext cx="1608120" cy="189216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8280" y="503280"/>
            <a:ext cx="84074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ments Of Active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20880" y="4127400"/>
            <a:ext cx="7302240" cy="635040"/>
          </a:xfrm>
          <a:prstGeom prst="rect">
            <a:avLst/>
          </a:prstGeom>
          <a:gradFill rotWithShape="0">
            <a:gsLst>
              <a:gs pos="0">
                <a:srgbClr val="b18d00"/>
              </a:gs>
              <a:gs pos="50000">
                <a:srgbClr val="ffcc00"/>
              </a:gs>
              <a:gs pos="100000">
                <a:srgbClr val="b18d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Object Model (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component pack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19080" y="4933800"/>
            <a:ext cx="7317000" cy="749520"/>
            <a:chOff x="919080" y="4933800"/>
            <a:chExt cx="7317000" cy="749520"/>
          </a:xfrm>
        </p:grpSpPr>
        <p:sp>
          <p:nvSpPr>
            <p:cNvPr id="155" name=""/>
            <p:cNvSpPr/>
            <p:nvPr/>
          </p:nvSpPr>
          <p:spPr>
            <a:xfrm>
              <a:off x="919080" y="4933800"/>
              <a:ext cx="212112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indows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0520" y="4933800"/>
              <a:ext cx="209556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IX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4400" y="4933800"/>
              <a:ext cx="2095200" cy="749520"/>
            </a:xfrm>
            <a:prstGeom prst="rect">
              <a:avLst/>
            </a:prstGeom>
            <a:gradFill rotWithShape="0">
              <a:gsLst>
                <a:gs pos="0">
                  <a:srgbClr val="595900"/>
                </a:gs>
                <a:gs pos="50000">
                  <a:srgbClr val="808000"/>
                </a:gs>
                <a:gs pos="100000">
                  <a:srgbClr val="595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cintosh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" y="4876920"/>
            <a:ext cx="8840880" cy="1906560"/>
            <a:chOff x="228600" y="4876920"/>
            <a:chExt cx="8840880" cy="1906560"/>
          </a:xfrm>
        </p:grpSpPr>
        <p:sp>
          <p:nvSpPr>
            <p:cNvPr id="159" name=""/>
            <p:cNvSpPr/>
            <p:nvPr/>
          </p:nvSpPr>
          <p:spPr>
            <a:xfrm>
              <a:off x="228600" y="5791320"/>
              <a:ext cx="8840880" cy="992160"/>
            </a:xfrm>
            <a:custGeom>
              <a:avLst/>
              <a:gdLst/>
              <a:ahLst/>
              <a:rect l="l" t="t" r="r" b="b"/>
              <a:pathLst>
                <a:path w="5569" h="625">
                  <a:moveTo>
                    <a:pt x="0" y="267"/>
                  </a:moveTo>
                  <a:lnTo>
                    <a:pt x="1392" y="0"/>
                  </a:lnTo>
                  <a:lnTo>
                    <a:pt x="1392" y="89"/>
                  </a:lnTo>
                  <a:lnTo>
                    <a:pt x="4176" y="89"/>
                  </a:lnTo>
                  <a:lnTo>
                    <a:pt x="4176" y="0"/>
                  </a:lnTo>
                  <a:lnTo>
                    <a:pt x="5568" y="356"/>
                  </a:lnTo>
                  <a:lnTo>
                    <a:pt x="4176" y="624"/>
                  </a:lnTo>
                  <a:lnTo>
                    <a:pt x="4176" y="534"/>
                  </a:lnTo>
                  <a:lnTo>
                    <a:pt x="1392" y="534"/>
                  </a:lnTo>
                  <a:lnTo>
                    <a:pt x="1392" y="624"/>
                  </a:lnTo>
                  <a:lnTo>
                    <a:pt x="0" y="267"/>
                  </a:lnTo>
                </a:path>
              </a:pathLst>
            </a:custGeom>
            <a:gradFill rotWithShape="0">
              <a:gsLst>
                <a:gs pos="0">
                  <a:srgbClr val="b1b1b1"/>
                </a:gs>
                <a:gs pos="50000">
                  <a:srgbClr val="ffffff"/>
                </a:gs>
                <a:gs pos="100000">
                  <a:srgbClr val="b1b1b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51240" y="6080040"/>
              <a:ext cx="424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ributed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/distributed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6728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4876920"/>
              <a:ext cx="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20880" y="3403440"/>
            <a:ext cx="7302240" cy="711360"/>
          </a:xfrm>
          <a:prstGeom prst="rect">
            <a:avLst/>
          </a:prstGeom>
          <a:gradFill rotWithShape="0">
            <a:gsLst>
              <a:gs pos="0">
                <a:srgbClr val="6a4623"/>
              </a:gs>
              <a:gs pos="5000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s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s, hyperlinking, browser frame, HTML, Java V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7640" y="2673360"/>
            <a:ext cx="7305480" cy="749160"/>
          </a:xfrm>
          <a:prstGeom prst="rect">
            <a:avLst/>
          </a:prstGeom>
          <a:gradFill rotWithShape="0">
            <a:gsLst>
              <a:gs pos="0">
                <a:srgbClr val="853b9c"/>
              </a:gs>
              <a:gs pos="50000">
                <a:srgbClr val="c055e1"/>
              </a:gs>
              <a:gs pos="100000">
                <a:srgbClr val="853b9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s and App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++, Delphi®, Java, Visual Basic®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7640" y="1911240"/>
            <a:ext cx="7305480" cy="749520"/>
          </a:xfrm>
          <a:prstGeom prst="rect">
            <a:avLst/>
          </a:prstGeom>
          <a:gradFill rotWithShape="0">
            <a:gsLst>
              <a:gs pos="0">
                <a:srgbClr val="b14600"/>
              </a:gs>
              <a:gs pos="50000">
                <a:srgbClr val="ff6600"/>
              </a:gs>
              <a:gs pos="100000">
                <a:srgbClr val="b1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ual Basic, Scripting Edition, JScript, Tck/Tk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6600" y="1208160"/>
            <a:ext cx="6670800" cy="560160"/>
          </a:xfrm>
          <a:prstGeom prst="rect">
            <a:avLst/>
          </a:prstGeom>
          <a:gradFill rotWithShape="0">
            <a:gsLst>
              <a:gs pos="0">
                <a:srgbClr val="595900"/>
              </a:gs>
              <a:gs pos="50000">
                <a:srgbClr val="808000"/>
              </a:gs>
              <a:gs pos="100000">
                <a:srgbClr val="595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s, Documents, and Applications/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" y="502920"/>
            <a:ext cx="898704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 Object Model (COM) </a:t>
            </a:r>
            <a:br>
              <a:rPr sz="4000"/>
            </a:br>
            <a:r>
              <a:rPr b="0" i="1" lang="en-US" sz="3200" spc="-1" strike="noStrike">
                <a:solidFill>
                  <a:srgbClr val="808000"/>
                </a:solidFill>
                <a:latin typeface="Arial Black"/>
              </a:rPr>
              <a:t>Foundation for ActiveX com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7920" y="1812600"/>
            <a:ext cx="85881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ionable, programm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ghtweight,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and tool-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ith today’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plat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eX components are COM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5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COM extends interactions between components acros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980040" y="2063880"/>
            <a:ext cx="1990800" cy="2425680"/>
            <a:chOff x="6980040" y="2063880"/>
            <a:chExt cx="1990800" cy="2425680"/>
          </a:xfrm>
        </p:grpSpPr>
        <p:sp>
          <p:nvSpPr>
            <p:cNvPr id="170" name=""/>
            <p:cNvSpPr/>
            <p:nvPr/>
          </p:nvSpPr>
          <p:spPr>
            <a:xfrm>
              <a:off x="7086600" y="2673360"/>
              <a:ext cx="1884240" cy="1816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53b9c"/>
                </a:gs>
                <a:gs pos="5000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964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6600" y="2063880"/>
              <a:ext cx="139680" cy="139680"/>
            </a:xfrm>
            <a:prstGeom prst="ellipse">
              <a:avLst/>
            </a:prstGeom>
            <a:gradFill rotWithShape="0">
              <a:gsLst>
                <a:gs pos="0">
                  <a:srgbClr val="c055e1"/>
                </a:gs>
                <a:gs pos="100000">
                  <a:srgbClr val="853b9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040" y="211788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Unkn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harlie Kindel</dc:creator>
  <dc:description> This presentation was given by Charlie Kindel at Object World East '97.</dc:description>
  <cp:keywords>COM ActiveX OLE DCOM Objects Components IE Internet Explorer</cp:keywords>
  <dc:language>en-US</dc:language>
  <cp:lastModifiedBy>Michael Gross</cp:lastModifiedBy>
  <cp:lastPrinted>1997-03-05T18:32:21Z</cp:lastPrinted>
  <dcterms:modified xsi:type="dcterms:W3CDTF">1997-08-01T05:06:00Z</dcterms:modified>
  <cp:revision>112</cp:revision>
  <dc:subject>ActiveX and COM</dc:subject>
  <dc:title>ActiveX and The Web</dc:title>
</cp:coreProperties>
</file>