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0640" y="692280"/>
            <a:ext cx="440532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227120"/>
            <a:ext cx="5043600" cy="3995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75604A0-631A-432D-B5FE-27B33FD13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D115408-8CCA-4580-B4E9-E6A9E22DF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84760" y="-1440"/>
            <a:ext cx="2973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884760" y="8477280"/>
            <a:ext cx="29732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-1440" y="8477280"/>
            <a:ext cx="2971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-1440" y="-144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206360" y="676440"/>
            <a:ext cx="4445280" cy="33336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2960" y="4238640"/>
            <a:ext cx="50292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DE12A43-E07E-4ED7-A2DC-AB4B3C29C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884760" y="-1440"/>
            <a:ext cx="2973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884760" y="8477280"/>
            <a:ext cx="29732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-1440" y="8477280"/>
            <a:ext cx="2971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-1440" y="-144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206360" y="676440"/>
            <a:ext cx="4445280" cy="33336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12960" y="4238640"/>
            <a:ext cx="50292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4E26861-9320-40CE-B3E6-0A5AEEA27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95560" y="671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922320" y="4240080"/>
            <a:ext cx="501336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387E5C9-3871-443C-9C5A-4329B87BB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204920" y="67644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8EF314C-9BE4-4AB4-9C27-09D6649D5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204920" y="67644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1DE58A5-6DDD-4D28-B0A5-144B9C602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body"/>
          </p:nvPr>
        </p:nvSpPr>
        <p:spPr>
          <a:xfrm>
            <a:off x="914400" y="4239720"/>
            <a:ext cx="5029200" cy="40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ldImg"/>
          </p:nvPr>
        </p:nvSpPr>
        <p:spPr>
          <a:xfrm>
            <a:off x="1200240" y="671400"/>
            <a:ext cx="4457520" cy="3343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A1B89EA-B63B-440F-81A1-70BF91E57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body"/>
          </p:nvPr>
        </p:nvSpPr>
        <p:spPr>
          <a:xfrm>
            <a:off x="1136520" y="4619520"/>
            <a:ext cx="4484880" cy="32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ldImg"/>
          </p:nvPr>
        </p:nvSpPr>
        <p:spPr>
          <a:xfrm>
            <a:off x="901800" y="449280"/>
            <a:ext cx="5054400" cy="3789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C63-EFEA-4443-AC50-D9D4CBEC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04B-0A4A-4BB6-9AD9-5DC76500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AFE-DF3C-4203-AFF6-5B4014BC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79D-6A66-4ED7-B19D-4F33A2AD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70B4-B0F2-428C-82D1-9ED37939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AB33-D4A8-4798-A763-644CD705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99A8-A5EA-4C35-A885-965172CB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107B-0968-48C5-8A7D-0CE1E999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CF6C-8392-4E21-9682-31E5E1DF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7680-A0FC-4F81-A75A-20C83105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4C05-D260-4637-9DA4-A9F4E998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4E9-211C-4BA8-9A5A-E0CB2AE3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4EE8-9F80-4CCE-886B-8B37FC3E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3A92-BAB9-4407-BF1B-CC56FF0E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5C16-F818-4459-BCB4-E8CDCB94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828D-66FD-49D9-9063-675AB17F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B76E-F331-4A5B-A77F-244BADB7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795-5C55-4518-A895-A73D057F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E62-F6D5-49C4-ADA9-1945BC6C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7B6-6DE1-4C16-B918-F8563083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183-CA1B-494F-A78E-55B77099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193-F4CE-467E-B12B-94E1F037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53C-60F9-4E61-A827-5CFC9FA9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5AD-B564-4122-B190-592A6B36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75E7-183A-4934-AE0D-EAED2FDFC7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5" name="ACTIVEX" descr=""/>
          <p:cNvPicPr/>
          <p:nvPr/>
        </p:nvPicPr>
        <p:blipFill>
          <a:blip r:embed="rId3"/>
          <a:stretch/>
        </p:blipFill>
        <p:spPr>
          <a:xfrm>
            <a:off x="990720" y="1282680"/>
            <a:ext cx="7467480" cy="435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5747-3F04-46B1-9E04-94301A7113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33720" y="312408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Overview of Activ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rlie Kin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chitect &amp; Chief Technical Ad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crosoft Developer Relations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ACTIVEX" descr=""/>
          <p:cNvPicPr/>
          <p:nvPr/>
        </p:nvPicPr>
        <p:blipFill>
          <a:blip r:embed="rId1"/>
          <a:stretch/>
        </p:blipFill>
        <p:spPr>
          <a:xfrm>
            <a:off x="932040" y="438120"/>
            <a:ext cx="2420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o Benefit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software vend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components in any language, any develop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l independently or in bu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 central coordination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porate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y from competitive market rather than bui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rojects benefit from component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one doing software 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 Object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, Components,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ary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-level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Fundamental Principles</a:t>
            </a:r>
            <a:br>
              <a:rPr sz="40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What the designers of COM were striving for.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in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location (in-process, cross-process, cross-machi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 centralized auth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o sacrifice in-proc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st model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extensibility and adap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Encaps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 box -- no leakage of implementation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bject manipulation through strict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a multipl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interfa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er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able”: Query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5486400"/>
            <a:ext cx="16002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924680" y="4876920"/>
            <a:ext cx="254160" cy="561960"/>
            <a:chOff x="7924680" y="4876920"/>
            <a:chExt cx="254160" cy="561960"/>
          </a:xfrm>
        </p:grpSpPr>
        <p:sp>
          <p:nvSpPr>
            <p:cNvPr id="129" name=""/>
            <p:cNvSpPr/>
            <p:nvPr/>
          </p:nvSpPr>
          <p:spPr>
            <a:xfrm>
              <a:off x="8055000" y="5134320"/>
              <a:ext cx="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24680" y="487692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553080" y="5638680"/>
            <a:ext cx="610920" cy="253800"/>
            <a:chOff x="6553080" y="5638680"/>
            <a:chExt cx="610920" cy="253800"/>
          </a:xfrm>
        </p:grpSpPr>
        <p:sp>
          <p:nvSpPr>
            <p:cNvPr id="132" name=""/>
            <p:cNvSpPr/>
            <p:nvPr/>
          </p:nvSpPr>
          <p:spPr>
            <a:xfrm>
              <a:off x="6553080" y="56386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813000" y="5784480"/>
              <a:ext cx="351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553080" y="6095880"/>
            <a:ext cx="610920" cy="253800"/>
            <a:chOff x="6553080" y="6095880"/>
            <a:chExt cx="610920" cy="253800"/>
          </a:xfrm>
        </p:grpSpPr>
        <p:sp>
          <p:nvSpPr>
            <p:cNvPr id="135" name=""/>
            <p:cNvSpPr/>
            <p:nvPr/>
          </p:nvSpPr>
          <p:spPr>
            <a:xfrm>
              <a:off x="6553080" y="6095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813000" y="6241680"/>
              <a:ext cx="351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848000" y="45720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63244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541008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n’t COM about “Objects”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… COM sets out to solve system software problems that arise when hooking up randomly evolving combinations of bi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 … from the perspective of these new kinds of objects also called “component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object concepts used (but adapted) to solve a different (but overlapping) set of requirements in a different problem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services can be called more naturally from O-O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OT complements language 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82760" y="1936800"/>
            <a:ext cx="8254800" cy="37782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9640" y="2352600"/>
            <a:ext cx="1192320" cy="679680"/>
          </a:xfrm>
          <a:custGeom>
            <a:avLst/>
            <a:gdLst/>
            <a:ahLst/>
            <a:rect l="l" t="t" r="r" b="b"/>
            <a:pathLst>
              <a:path w="751" h="428">
                <a:moveTo>
                  <a:pt x="107" y="427"/>
                </a:moveTo>
                <a:lnTo>
                  <a:pt x="643" y="427"/>
                </a:lnTo>
                <a:lnTo>
                  <a:pt x="668" y="424"/>
                </a:lnTo>
                <a:lnTo>
                  <a:pt x="690" y="417"/>
                </a:lnTo>
                <a:lnTo>
                  <a:pt x="710" y="404"/>
                </a:lnTo>
                <a:lnTo>
                  <a:pt x="728" y="387"/>
                </a:lnTo>
                <a:lnTo>
                  <a:pt x="740" y="367"/>
                </a:lnTo>
                <a:lnTo>
                  <a:pt x="748" y="344"/>
                </a:lnTo>
                <a:lnTo>
                  <a:pt x="750" y="320"/>
                </a:lnTo>
                <a:lnTo>
                  <a:pt x="750" y="107"/>
                </a:lnTo>
                <a:lnTo>
                  <a:pt x="748" y="84"/>
                </a:lnTo>
                <a:lnTo>
                  <a:pt x="740" y="61"/>
                </a:lnTo>
                <a:lnTo>
                  <a:pt x="728" y="41"/>
                </a:lnTo>
                <a:lnTo>
                  <a:pt x="710" y="24"/>
                </a:lnTo>
                <a:lnTo>
                  <a:pt x="690" y="11"/>
                </a:lnTo>
                <a:lnTo>
                  <a:pt x="668" y="3"/>
                </a:lnTo>
                <a:lnTo>
                  <a:pt x="643" y="0"/>
                </a:lnTo>
                <a:lnTo>
                  <a:pt x="107" y="0"/>
                </a:lnTo>
                <a:lnTo>
                  <a:pt x="84" y="3"/>
                </a:lnTo>
                <a:lnTo>
                  <a:pt x="62" y="11"/>
                </a:lnTo>
                <a:lnTo>
                  <a:pt x="42" y="24"/>
                </a:lnTo>
                <a:lnTo>
                  <a:pt x="24" y="41"/>
                </a:lnTo>
                <a:lnTo>
                  <a:pt x="11" y="61"/>
                </a:lnTo>
                <a:lnTo>
                  <a:pt x="3" y="84"/>
                </a:lnTo>
                <a:lnTo>
                  <a:pt x="0" y="107"/>
                </a:lnTo>
                <a:lnTo>
                  <a:pt x="0" y="320"/>
                </a:lnTo>
                <a:lnTo>
                  <a:pt x="3" y="344"/>
                </a:lnTo>
                <a:lnTo>
                  <a:pt x="11" y="367"/>
                </a:lnTo>
                <a:lnTo>
                  <a:pt x="24" y="387"/>
                </a:lnTo>
                <a:lnTo>
                  <a:pt x="42" y="404"/>
                </a:lnTo>
                <a:lnTo>
                  <a:pt x="62" y="417"/>
                </a:lnTo>
                <a:lnTo>
                  <a:pt x="84" y="424"/>
                </a:lnTo>
                <a:lnTo>
                  <a:pt x="107" y="427"/>
                </a:lnTo>
              </a:path>
            </a:pathLst>
          </a:custGeom>
          <a:gradFill rotWithShape="0">
            <a:gsLst>
              <a:gs pos="0">
                <a:srgbClr val="4fa1f0"/>
              </a:gs>
              <a:gs pos="100000">
                <a:srgbClr val="3e80bf"/>
              </a:gs>
            </a:gsLst>
            <a:lin ang="135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11960" y="253224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05680" y="2352600"/>
            <a:ext cx="1276200" cy="679680"/>
          </a:xfrm>
          <a:custGeom>
            <a:avLst/>
            <a:gdLst/>
            <a:ahLst/>
            <a:rect l="l" t="t" r="r" b="b"/>
            <a:pathLst>
              <a:path w="752" h="428">
                <a:moveTo>
                  <a:pt x="108" y="427"/>
                </a:moveTo>
                <a:lnTo>
                  <a:pt x="644" y="427"/>
                </a:lnTo>
                <a:lnTo>
                  <a:pt x="668" y="424"/>
                </a:lnTo>
                <a:lnTo>
                  <a:pt x="691" y="417"/>
                </a:lnTo>
                <a:lnTo>
                  <a:pt x="711" y="404"/>
                </a:lnTo>
                <a:lnTo>
                  <a:pt x="728" y="387"/>
                </a:lnTo>
                <a:lnTo>
                  <a:pt x="741" y="367"/>
                </a:lnTo>
                <a:lnTo>
                  <a:pt x="748" y="344"/>
                </a:lnTo>
                <a:lnTo>
                  <a:pt x="751" y="320"/>
                </a:lnTo>
                <a:lnTo>
                  <a:pt x="751" y="107"/>
                </a:lnTo>
                <a:lnTo>
                  <a:pt x="748" y="84"/>
                </a:lnTo>
                <a:lnTo>
                  <a:pt x="741" y="61"/>
                </a:lnTo>
                <a:lnTo>
                  <a:pt x="728" y="41"/>
                </a:lnTo>
                <a:lnTo>
                  <a:pt x="711" y="24"/>
                </a:lnTo>
                <a:lnTo>
                  <a:pt x="691" y="11"/>
                </a:lnTo>
                <a:lnTo>
                  <a:pt x="668" y="3"/>
                </a:lnTo>
                <a:lnTo>
                  <a:pt x="644" y="0"/>
                </a:lnTo>
                <a:lnTo>
                  <a:pt x="108" y="0"/>
                </a:lnTo>
                <a:lnTo>
                  <a:pt x="85" y="3"/>
                </a:lnTo>
                <a:lnTo>
                  <a:pt x="62" y="11"/>
                </a:lnTo>
                <a:lnTo>
                  <a:pt x="42" y="24"/>
                </a:lnTo>
                <a:lnTo>
                  <a:pt x="25" y="41"/>
                </a:lnTo>
                <a:lnTo>
                  <a:pt x="12" y="61"/>
                </a:lnTo>
                <a:lnTo>
                  <a:pt x="3" y="84"/>
                </a:lnTo>
                <a:lnTo>
                  <a:pt x="0" y="107"/>
                </a:lnTo>
                <a:lnTo>
                  <a:pt x="0" y="320"/>
                </a:lnTo>
                <a:lnTo>
                  <a:pt x="3" y="344"/>
                </a:lnTo>
                <a:lnTo>
                  <a:pt x="12" y="367"/>
                </a:lnTo>
                <a:lnTo>
                  <a:pt x="25" y="387"/>
                </a:lnTo>
                <a:lnTo>
                  <a:pt x="42" y="404"/>
                </a:lnTo>
                <a:lnTo>
                  <a:pt x="62" y="417"/>
                </a:lnTo>
                <a:lnTo>
                  <a:pt x="85" y="424"/>
                </a:lnTo>
                <a:lnTo>
                  <a:pt x="108" y="427"/>
                </a:lnTo>
              </a:path>
            </a:pathLst>
          </a:custGeom>
          <a:gradFill rotWithShape="0">
            <a:gsLst>
              <a:gs pos="0">
                <a:srgbClr val="4fa1f0"/>
              </a:gs>
              <a:gs pos="100000">
                <a:srgbClr val="3e80bf"/>
              </a:gs>
            </a:gsLst>
            <a:lin ang="135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88040" y="2550960"/>
            <a:ext cx="130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1520" y="2651040"/>
            <a:ext cx="254160" cy="84240"/>
            <a:chOff x="6851520" y="2651040"/>
            <a:chExt cx="254160" cy="84240"/>
          </a:xfrm>
        </p:grpSpPr>
        <p:sp>
          <p:nvSpPr>
            <p:cNvPr id="151" name=""/>
            <p:cNvSpPr/>
            <p:nvPr/>
          </p:nvSpPr>
          <p:spPr>
            <a:xfrm>
              <a:off x="6935760" y="269064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1520" y="265104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25"/>
                  </a:moveTo>
                  <a:lnTo>
                    <a:pt x="3" y="14"/>
                  </a:lnTo>
                  <a:lnTo>
                    <a:pt x="10" y="5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3" y="5"/>
                  </a:lnTo>
                  <a:lnTo>
                    <a:pt x="52" y="14"/>
                  </a:lnTo>
                  <a:lnTo>
                    <a:pt x="53" y="25"/>
                  </a:lnTo>
                  <a:lnTo>
                    <a:pt x="52" y="37"/>
                  </a:lnTo>
                  <a:lnTo>
                    <a:pt x="43" y="47"/>
                  </a:lnTo>
                  <a:lnTo>
                    <a:pt x="33" y="52"/>
                  </a:lnTo>
                  <a:lnTo>
                    <a:pt x="20" y="52"/>
                  </a:lnTo>
                  <a:lnTo>
                    <a:pt x="10" y="47"/>
                  </a:lnTo>
                  <a:lnTo>
                    <a:pt x="3" y="37"/>
                  </a:lnTo>
                  <a:lnTo>
                    <a:pt x="0" y="2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987560" y="2690640"/>
            <a:ext cx="4846680" cy="1009440"/>
            <a:chOff x="1987560" y="2690640"/>
            <a:chExt cx="4846680" cy="1009440"/>
          </a:xfrm>
        </p:grpSpPr>
        <p:sp>
          <p:nvSpPr>
            <p:cNvPr id="154" name=""/>
            <p:cNvSpPr/>
            <p:nvPr/>
          </p:nvSpPr>
          <p:spPr>
            <a:xfrm>
              <a:off x="1987560" y="2690640"/>
              <a:ext cx="484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40040" y="3241800"/>
              <a:ext cx="1623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000160" y="2685960"/>
            <a:ext cx="33660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362320" y="2362320"/>
            <a:ext cx="4502880" cy="1196280"/>
            <a:chOff x="2362320" y="2362320"/>
            <a:chExt cx="4502880" cy="1196280"/>
          </a:xfrm>
        </p:grpSpPr>
        <p:sp>
          <p:nvSpPr>
            <p:cNvPr id="158" name=""/>
            <p:cNvSpPr/>
            <p:nvPr/>
          </p:nvSpPr>
          <p:spPr>
            <a:xfrm>
              <a:off x="2362320" y="3040200"/>
              <a:ext cx="1022040" cy="511200"/>
            </a:xfrm>
            <a:custGeom>
              <a:avLst/>
              <a:gdLst/>
              <a:ahLst/>
              <a:rect l="l" t="t" r="r" b="b"/>
              <a:pathLst>
                <a:path w="644" h="322">
                  <a:moveTo>
                    <a:pt x="0" y="321"/>
                  </a:moveTo>
                  <a:lnTo>
                    <a:pt x="643" y="321"/>
                  </a:lnTo>
                  <a:lnTo>
                    <a:pt x="643" y="0"/>
                  </a:lnTo>
                  <a:lnTo>
                    <a:pt x="0" y="0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8d"/>
                </a:gs>
              </a:gsLst>
              <a:lin ang="135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362320" y="2362320"/>
              <a:ext cx="4502880" cy="1196280"/>
              <a:chOff x="2362320" y="2362320"/>
              <a:chExt cx="4502880" cy="11962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362320" y="2362320"/>
                <a:ext cx="4502880" cy="1196280"/>
                <a:chOff x="2362320" y="2362320"/>
                <a:chExt cx="4502880" cy="11962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362320" y="2362320"/>
                  <a:ext cx="1702800" cy="679680"/>
                  <a:chOff x="2362320" y="2362320"/>
                  <a:chExt cx="1702800" cy="6796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2701800" y="2362320"/>
                    <a:ext cx="1363320" cy="679680"/>
                  </a:xfrm>
                  <a:custGeom>
                    <a:avLst/>
                    <a:gdLst/>
                    <a:ahLst/>
                    <a:rect l="l" t="t" r="r" b="b"/>
                    <a:pathLst>
                      <a:path w="859" h="428">
                        <a:moveTo>
                          <a:pt x="107" y="427"/>
                        </a:moveTo>
                        <a:lnTo>
                          <a:pt x="751" y="427"/>
                        </a:lnTo>
                        <a:lnTo>
                          <a:pt x="775" y="424"/>
                        </a:lnTo>
                        <a:lnTo>
                          <a:pt x="798" y="417"/>
                        </a:lnTo>
                        <a:lnTo>
                          <a:pt x="818" y="404"/>
                        </a:lnTo>
                        <a:lnTo>
                          <a:pt x="835" y="387"/>
                        </a:lnTo>
                        <a:lnTo>
                          <a:pt x="848" y="367"/>
                        </a:lnTo>
                        <a:lnTo>
                          <a:pt x="855" y="344"/>
                        </a:lnTo>
                        <a:lnTo>
                          <a:pt x="858" y="320"/>
                        </a:lnTo>
                        <a:lnTo>
                          <a:pt x="858" y="107"/>
                        </a:lnTo>
                        <a:lnTo>
                          <a:pt x="855" y="84"/>
                        </a:lnTo>
                        <a:lnTo>
                          <a:pt x="848" y="61"/>
                        </a:lnTo>
                        <a:lnTo>
                          <a:pt x="835" y="41"/>
                        </a:lnTo>
                        <a:lnTo>
                          <a:pt x="818" y="24"/>
                        </a:lnTo>
                        <a:lnTo>
                          <a:pt x="798" y="11"/>
                        </a:lnTo>
                        <a:lnTo>
                          <a:pt x="775" y="3"/>
                        </a:lnTo>
                        <a:lnTo>
                          <a:pt x="751" y="0"/>
                        </a:lnTo>
                        <a:lnTo>
                          <a:pt x="107" y="0"/>
                        </a:lnTo>
                        <a:lnTo>
                          <a:pt x="85" y="3"/>
                        </a:lnTo>
                        <a:lnTo>
                          <a:pt x="62" y="11"/>
                        </a:lnTo>
                        <a:lnTo>
                          <a:pt x="42" y="24"/>
                        </a:lnTo>
                        <a:lnTo>
                          <a:pt x="25" y="41"/>
                        </a:lnTo>
                        <a:lnTo>
                          <a:pt x="12" y="61"/>
                        </a:lnTo>
                        <a:lnTo>
                          <a:pt x="3" y="84"/>
                        </a:lnTo>
                        <a:lnTo>
                          <a:pt x="0" y="107"/>
                        </a:lnTo>
                        <a:lnTo>
                          <a:pt x="0" y="320"/>
                        </a:lnTo>
                        <a:lnTo>
                          <a:pt x="3" y="344"/>
                        </a:lnTo>
                        <a:lnTo>
                          <a:pt x="12" y="367"/>
                        </a:lnTo>
                        <a:lnTo>
                          <a:pt x="25" y="387"/>
                        </a:lnTo>
                        <a:lnTo>
                          <a:pt x="42" y="404"/>
                        </a:lnTo>
                        <a:lnTo>
                          <a:pt x="62" y="417"/>
                        </a:lnTo>
                        <a:lnTo>
                          <a:pt x="85" y="424"/>
                        </a:lnTo>
                        <a:lnTo>
                          <a:pt x="107" y="42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f494d"/>
                      </a:gs>
                      <a:gs pos="100000">
                        <a:srgbClr val="464144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2362320" y="2660760"/>
                    <a:ext cx="339120" cy="84240"/>
                    <a:chOff x="2362320" y="2660760"/>
                    <a:chExt cx="339120" cy="8424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447640" y="2700360"/>
                      <a:ext cx="253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2362320" y="2660760"/>
                      <a:ext cx="8712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53">
                          <a:moveTo>
                            <a:pt x="0" y="25"/>
                          </a:moveTo>
                          <a:lnTo>
                            <a:pt x="3" y="14"/>
                          </a:lnTo>
                          <a:lnTo>
                            <a:pt x="10" y="5"/>
                          </a:lnTo>
                          <a:lnTo>
                            <a:pt x="21" y="0"/>
                          </a:lnTo>
                          <a:lnTo>
                            <a:pt x="33" y="0"/>
                          </a:lnTo>
                          <a:lnTo>
                            <a:pt x="44" y="5"/>
                          </a:lnTo>
                          <a:lnTo>
                            <a:pt x="51" y="14"/>
                          </a:lnTo>
                          <a:lnTo>
                            <a:pt x="54" y="25"/>
                          </a:lnTo>
                          <a:lnTo>
                            <a:pt x="51" y="37"/>
                          </a:lnTo>
                          <a:lnTo>
                            <a:pt x="44" y="47"/>
                          </a:lnTo>
                          <a:lnTo>
                            <a:pt x="33" y="52"/>
                          </a:lnTo>
                          <a:lnTo>
                            <a:pt x="21" y="52"/>
                          </a:lnTo>
                          <a:lnTo>
                            <a:pt x="10" y="47"/>
                          </a:lnTo>
                          <a:lnTo>
                            <a:pt x="3" y="37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" name=""/>
                  <p:cNvSpPr/>
                  <p:nvPr/>
                </p:nvSpPr>
                <p:spPr>
                  <a:xfrm>
                    <a:off x="2882880" y="2413080"/>
                    <a:ext cx="98352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M</a:t>
                    </a:r>
                    <a:br>
                      <a:rPr sz="1600"/>
                    </a:b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un tim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4744800" y="3015000"/>
                  <a:ext cx="2042640" cy="543600"/>
                  <a:chOff x="4744800" y="3015000"/>
                  <a:chExt cx="2042640" cy="54360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5765400" y="3040200"/>
                    <a:ext cx="102204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44" h="322">
                        <a:moveTo>
                          <a:pt x="0" y="321"/>
                        </a:moveTo>
                        <a:lnTo>
                          <a:pt x="643" y="321"/>
                        </a:lnTo>
                        <a:lnTo>
                          <a:pt x="643" y="0"/>
                        </a:lnTo>
                        <a:lnTo>
                          <a:pt x="0" y="0"/>
                        </a:lnTo>
                        <a:lnTo>
                          <a:pt x="0" y="32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66ff"/>
                      </a:gs>
                      <a:gs pos="100000">
                        <a:srgbClr val="b146b1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744800" y="3040200"/>
                    <a:ext cx="102204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44" h="322">
                        <a:moveTo>
                          <a:pt x="0" y="321"/>
                        </a:moveTo>
                        <a:lnTo>
                          <a:pt x="643" y="321"/>
                        </a:lnTo>
                        <a:lnTo>
                          <a:pt x="643" y="0"/>
                        </a:lnTo>
                        <a:lnTo>
                          <a:pt x="0" y="0"/>
                        </a:lnTo>
                        <a:lnTo>
                          <a:pt x="0" y="32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cc"/>
                      </a:gs>
                      <a:gs pos="100000">
                        <a:srgbClr val="00008d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782960" y="3222720"/>
                    <a:ext cx="99576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ovid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801680" y="3015000"/>
                    <a:ext cx="9853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ecurit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747760" y="3148200"/>
                    <a:ext cx="78264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P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5084640" y="2362320"/>
                  <a:ext cx="1780560" cy="679680"/>
                  <a:chOff x="5084640" y="2362320"/>
                  <a:chExt cx="1780560" cy="6796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5084640" y="2362320"/>
                    <a:ext cx="1363320" cy="679680"/>
                  </a:xfrm>
                  <a:custGeom>
                    <a:avLst/>
                    <a:gdLst/>
                    <a:ahLst/>
                    <a:rect l="l" t="t" r="r" b="b"/>
                    <a:pathLst>
                      <a:path w="859" h="428">
                        <a:moveTo>
                          <a:pt x="107" y="427"/>
                        </a:moveTo>
                        <a:lnTo>
                          <a:pt x="750" y="427"/>
                        </a:lnTo>
                        <a:lnTo>
                          <a:pt x="775" y="424"/>
                        </a:lnTo>
                        <a:lnTo>
                          <a:pt x="798" y="417"/>
                        </a:lnTo>
                        <a:lnTo>
                          <a:pt x="818" y="404"/>
                        </a:lnTo>
                        <a:lnTo>
                          <a:pt x="835" y="387"/>
                        </a:lnTo>
                        <a:lnTo>
                          <a:pt x="848" y="367"/>
                        </a:lnTo>
                        <a:lnTo>
                          <a:pt x="855" y="344"/>
                        </a:lnTo>
                        <a:lnTo>
                          <a:pt x="858" y="320"/>
                        </a:lnTo>
                        <a:lnTo>
                          <a:pt x="858" y="107"/>
                        </a:lnTo>
                        <a:lnTo>
                          <a:pt x="855" y="84"/>
                        </a:lnTo>
                        <a:lnTo>
                          <a:pt x="848" y="61"/>
                        </a:lnTo>
                        <a:lnTo>
                          <a:pt x="835" y="41"/>
                        </a:lnTo>
                        <a:lnTo>
                          <a:pt x="818" y="24"/>
                        </a:lnTo>
                        <a:lnTo>
                          <a:pt x="798" y="11"/>
                        </a:lnTo>
                        <a:lnTo>
                          <a:pt x="775" y="3"/>
                        </a:lnTo>
                        <a:lnTo>
                          <a:pt x="750" y="0"/>
                        </a:lnTo>
                        <a:lnTo>
                          <a:pt x="107" y="0"/>
                        </a:lnTo>
                        <a:lnTo>
                          <a:pt x="84" y="3"/>
                        </a:lnTo>
                        <a:lnTo>
                          <a:pt x="61" y="11"/>
                        </a:lnTo>
                        <a:lnTo>
                          <a:pt x="41" y="24"/>
                        </a:lnTo>
                        <a:lnTo>
                          <a:pt x="24" y="41"/>
                        </a:lnTo>
                        <a:lnTo>
                          <a:pt x="11" y="61"/>
                        </a:lnTo>
                        <a:lnTo>
                          <a:pt x="3" y="84"/>
                        </a:lnTo>
                        <a:lnTo>
                          <a:pt x="0" y="107"/>
                        </a:lnTo>
                        <a:lnTo>
                          <a:pt x="0" y="320"/>
                        </a:lnTo>
                        <a:lnTo>
                          <a:pt x="3" y="344"/>
                        </a:lnTo>
                        <a:lnTo>
                          <a:pt x="11" y="367"/>
                        </a:lnTo>
                        <a:lnTo>
                          <a:pt x="24" y="387"/>
                        </a:lnTo>
                        <a:lnTo>
                          <a:pt x="41" y="404"/>
                        </a:lnTo>
                        <a:lnTo>
                          <a:pt x="61" y="417"/>
                        </a:lnTo>
                        <a:lnTo>
                          <a:pt x="84" y="424"/>
                        </a:lnTo>
                        <a:lnTo>
                          <a:pt x="107" y="42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f494d"/>
                      </a:gs>
                      <a:gs pos="100000">
                        <a:srgbClr val="464144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283000" y="2413080"/>
                    <a:ext cx="98352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M</a:t>
                    </a:r>
                    <a:br>
                      <a:rPr sz="1600"/>
                    </a:b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un tim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440040" y="2702160"/>
                    <a:ext cx="42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2383200" y="3015000"/>
                <a:ext cx="2021400" cy="543600"/>
                <a:chOff x="2383200" y="3015000"/>
                <a:chExt cx="2021400" cy="5436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82560" y="3040200"/>
                  <a:ext cx="1022040" cy="511200"/>
                </a:xfrm>
                <a:custGeom>
                  <a:avLst/>
                  <a:gdLst/>
                  <a:ahLst/>
                  <a:rect l="l" t="t" r="r" b="b"/>
                  <a:pathLst>
                    <a:path w="644" h="322">
                      <a:moveTo>
                        <a:pt x="0" y="321"/>
                      </a:moveTo>
                      <a:lnTo>
                        <a:pt x="643" y="321"/>
                      </a:lnTo>
                      <a:lnTo>
                        <a:pt x="643" y="0"/>
                      </a:lnTo>
                      <a:lnTo>
                        <a:pt x="0" y="0"/>
                      </a:lnTo>
                      <a:lnTo>
                        <a:pt x="0" y="321"/>
                      </a:lnTo>
                    </a:path>
                  </a:pathLst>
                </a:custGeom>
                <a:gradFill rotWithShape="0">
                  <a:gsLst>
                    <a:gs pos="0">
                      <a:srgbClr val="ff66ff"/>
                    </a:gs>
                    <a:gs pos="100000">
                      <a:srgbClr val="b146b1"/>
                    </a:gs>
                  </a:gsLst>
                  <a:lin ang="13500000"/>
                </a:gra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412360" y="3015000"/>
                  <a:ext cx="985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ecur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383200" y="3222720"/>
                  <a:ext cx="995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vid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366720" y="3148200"/>
                  <a:ext cx="8391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P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2" name=""/>
          <p:cNvGrpSpPr/>
          <p:nvPr/>
        </p:nvGrpSpPr>
        <p:grpSpPr>
          <a:xfrm>
            <a:off x="2338560" y="3524400"/>
            <a:ext cx="4424040" cy="1199520"/>
            <a:chOff x="2338560" y="3524400"/>
            <a:chExt cx="4424040" cy="1199520"/>
          </a:xfrm>
        </p:grpSpPr>
        <p:sp>
          <p:nvSpPr>
            <p:cNvPr id="183" name=""/>
            <p:cNvSpPr/>
            <p:nvPr/>
          </p:nvSpPr>
          <p:spPr>
            <a:xfrm>
              <a:off x="4009680" y="4265640"/>
              <a:ext cx="980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338560" y="3524400"/>
              <a:ext cx="4424040" cy="550800"/>
              <a:chOff x="2338560" y="3524400"/>
              <a:chExt cx="4424040" cy="550800"/>
            </a:xfrm>
          </p:grpSpPr>
          <p:sp>
            <p:nvSpPr>
              <p:cNvPr id="185" name=""/>
              <p:cNvSpPr/>
              <p:nvPr/>
            </p:nvSpPr>
            <p:spPr>
              <a:xfrm>
                <a:off x="2338560" y="3524400"/>
                <a:ext cx="4424040" cy="550800"/>
              </a:xfrm>
              <a:custGeom>
                <a:avLst/>
                <a:gdLst/>
                <a:ahLst/>
                <a:rect l="l" t="t" r="r" b="b"/>
                <a:pathLst>
                  <a:path w="2787" h="347">
                    <a:moveTo>
                      <a:pt x="0" y="346"/>
                    </a:moveTo>
                    <a:lnTo>
                      <a:pt x="2786" y="346"/>
                    </a:lnTo>
                    <a:lnTo>
                      <a:pt x="2786" y="0"/>
                    </a:lnTo>
                    <a:lnTo>
                      <a:pt x="0" y="0"/>
                    </a:lnTo>
                    <a:lnTo>
                      <a:pt x="0" y="346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42600" y="3638520"/>
                <a:ext cx="590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2341440" y="3540240"/>
            <a:ext cx="4426200" cy="1676160"/>
            <a:chOff x="2341440" y="3540240"/>
            <a:chExt cx="4426200" cy="1676160"/>
          </a:xfrm>
        </p:grpSpPr>
        <p:grpSp>
          <p:nvGrpSpPr>
            <p:cNvPr id="188" name=""/>
            <p:cNvGrpSpPr/>
            <p:nvPr/>
          </p:nvGrpSpPr>
          <p:grpSpPr>
            <a:xfrm>
              <a:off x="2341440" y="3540240"/>
              <a:ext cx="2043360" cy="525240"/>
              <a:chOff x="2341440" y="3540240"/>
              <a:chExt cx="2043360" cy="525240"/>
            </a:xfrm>
          </p:grpSpPr>
          <p:sp>
            <p:nvSpPr>
              <p:cNvPr id="189" name=""/>
              <p:cNvSpPr/>
              <p:nvPr/>
            </p:nvSpPr>
            <p:spPr>
              <a:xfrm>
                <a:off x="2341440" y="3540240"/>
                <a:ext cx="2043360" cy="525240"/>
              </a:xfrm>
              <a:custGeom>
                <a:avLst/>
                <a:gdLst/>
                <a:ahLst/>
                <a:rect l="l" t="t" r="r" b="b"/>
                <a:pathLst>
                  <a:path w="1287" h="331">
                    <a:moveTo>
                      <a:pt x="0" y="330"/>
                    </a:moveTo>
                    <a:lnTo>
                      <a:pt x="1286" y="330"/>
                    </a:lnTo>
                    <a:lnTo>
                      <a:pt x="1286" y="0"/>
                    </a:lnTo>
                    <a:lnTo>
                      <a:pt x="0" y="0"/>
                    </a:lnTo>
                    <a:lnTo>
                      <a:pt x="0" y="330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76520" y="3635280"/>
                <a:ext cx="1581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724280" y="3540240"/>
              <a:ext cx="2043360" cy="525240"/>
              <a:chOff x="4724280" y="3540240"/>
              <a:chExt cx="2043360" cy="525240"/>
            </a:xfrm>
          </p:grpSpPr>
          <p:sp>
            <p:nvSpPr>
              <p:cNvPr id="192" name=""/>
              <p:cNvSpPr/>
              <p:nvPr/>
            </p:nvSpPr>
            <p:spPr>
              <a:xfrm>
                <a:off x="4724280" y="3540240"/>
                <a:ext cx="2043360" cy="525240"/>
              </a:xfrm>
              <a:custGeom>
                <a:avLst/>
                <a:gdLst/>
                <a:ahLst/>
                <a:rect l="l" t="t" r="r" b="b"/>
                <a:pathLst>
                  <a:path w="1287" h="331">
                    <a:moveTo>
                      <a:pt x="0" y="330"/>
                    </a:moveTo>
                    <a:lnTo>
                      <a:pt x="1286" y="330"/>
                    </a:lnTo>
                    <a:lnTo>
                      <a:pt x="1286" y="0"/>
                    </a:lnTo>
                    <a:lnTo>
                      <a:pt x="0" y="0"/>
                    </a:lnTo>
                    <a:lnTo>
                      <a:pt x="0" y="330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59360" y="3635280"/>
                <a:ext cx="1581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209760" y="4064040"/>
              <a:ext cx="2775240" cy="1152360"/>
              <a:chOff x="3209760" y="4064040"/>
              <a:chExt cx="2775240" cy="1152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733920" y="4324320"/>
                <a:ext cx="1716120" cy="892080"/>
              </a:xfrm>
              <a:custGeom>
                <a:avLst/>
                <a:gdLst/>
                <a:ahLst/>
                <a:rect l="l" t="t" r="r" b="b"/>
                <a:pathLst>
                  <a:path w="1081" h="562">
                    <a:moveTo>
                      <a:pt x="159" y="416"/>
                    </a:moveTo>
                    <a:lnTo>
                      <a:pt x="176" y="449"/>
                    </a:lnTo>
                    <a:lnTo>
                      <a:pt x="200" y="477"/>
                    </a:lnTo>
                    <a:lnTo>
                      <a:pt x="225" y="501"/>
                    </a:lnTo>
                    <a:lnTo>
                      <a:pt x="253" y="523"/>
                    </a:lnTo>
                    <a:lnTo>
                      <a:pt x="283" y="540"/>
                    </a:lnTo>
                    <a:lnTo>
                      <a:pt x="315" y="551"/>
                    </a:lnTo>
                    <a:lnTo>
                      <a:pt x="349" y="558"/>
                    </a:lnTo>
                    <a:lnTo>
                      <a:pt x="382" y="561"/>
                    </a:lnTo>
                    <a:lnTo>
                      <a:pt x="417" y="558"/>
                    </a:lnTo>
                    <a:lnTo>
                      <a:pt x="449" y="551"/>
                    </a:lnTo>
                    <a:lnTo>
                      <a:pt x="481" y="539"/>
                    </a:lnTo>
                    <a:lnTo>
                      <a:pt x="513" y="521"/>
                    </a:lnTo>
                    <a:lnTo>
                      <a:pt x="538" y="500"/>
                    </a:lnTo>
                    <a:lnTo>
                      <a:pt x="567" y="521"/>
                    </a:lnTo>
                    <a:lnTo>
                      <a:pt x="598" y="539"/>
                    </a:lnTo>
                    <a:lnTo>
                      <a:pt x="630" y="551"/>
                    </a:lnTo>
                    <a:lnTo>
                      <a:pt x="663" y="558"/>
                    </a:lnTo>
                    <a:lnTo>
                      <a:pt x="696" y="561"/>
                    </a:lnTo>
                    <a:lnTo>
                      <a:pt x="730" y="558"/>
                    </a:lnTo>
                    <a:lnTo>
                      <a:pt x="764" y="551"/>
                    </a:lnTo>
                    <a:lnTo>
                      <a:pt x="796" y="540"/>
                    </a:lnTo>
                    <a:lnTo>
                      <a:pt x="826" y="523"/>
                    </a:lnTo>
                    <a:lnTo>
                      <a:pt x="854" y="501"/>
                    </a:lnTo>
                    <a:lnTo>
                      <a:pt x="879" y="477"/>
                    </a:lnTo>
                    <a:lnTo>
                      <a:pt x="903" y="449"/>
                    </a:lnTo>
                    <a:lnTo>
                      <a:pt x="921" y="416"/>
                    </a:lnTo>
                    <a:lnTo>
                      <a:pt x="942" y="420"/>
                    </a:lnTo>
                    <a:lnTo>
                      <a:pt x="965" y="420"/>
                    </a:lnTo>
                    <a:lnTo>
                      <a:pt x="988" y="415"/>
                    </a:lnTo>
                    <a:lnTo>
                      <a:pt x="1010" y="406"/>
                    </a:lnTo>
                    <a:lnTo>
                      <a:pt x="1030" y="392"/>
                    </a:lnTo>
                    <a:lnTo>
                      <a:pt x="1046" y="375"/>
                    </a:lnTo>
                    <a:lnTo>
                      <a:pt x="1060" y="353"/>
                    </a:lnTo>
                    <a:lnTo>
                      <a:pt x="1071" y="331"/>
                    </a:lnTo>
                    <a:lnTo>
                      <a:pt x="1076" y="306"/>
                    </a:lnTo>
                    <a:lnTo>
                      <a:pt x="1080" y="281"/>
                    </a:lnTo>
                    <a:lnTo>
                      <a:pt x="1076" y="255"/>
                    </a:lnTo>
                    <a:lnTo>
                      <a:pt x="1071" y="231"/>
                    </a:lnTo>
                    <a:lnTo>
                      <a:pt x="1060" y="208"/>
                    </a:lnTo>
                    <a:lnTo>
                      <a:pt x="1046" y="187"/>
                    </a:lnTo>
                    <a:lnTo>
                      <a:pt x="1030" y="170"/>
                    </a:lnTo>
                    <a:lnTo>
                      <a:pt x="1010" y="157"/>
                    </a:lnTo>
                    <a:lnTo>
                      <a:pt x="988" y="147"/>
                    </a:lnTo>
                    <a:lnTo>
                      <a:pt x="965" y="141"/>
                    </a:lnTo>
                    <a:lnTo>
                      <a:pt x="942" y="141"/>
                    </a:lnTo>
                    <a:lnTo>
                      <a:pt x="921" y="145"/>
                    </a:lnTo>
                    <a:lnTo>
                      <a:pt x="903" y="114"/>
                    </a:lnTo>
                    <a:lnTo>
                      <a:pt x="879" y="85"/>
                    </a:lnTo>
                    <a:lnTo>
                      <a:pt x="854" y="60"/>
                    </a:lnTo>
                    <a:lnTo>
                      <a:pt x="826" y="38"/>
                    </a:lnTo>
                    <a:lnTo>
                      <a:pt x="796" y="21"/>
                    </a:lnTo>
                    <a:lnTo>
                      <a:pt x="764" y="10"/>
                    </a:lnTo>
                    <a:lnTo>
                      <a:pt x="730" y="3"/>
                    </a:lnTo>
                    <a:lnTo>
                      <a:pt x="696" y="0"/>
                    </a:lnTo>
                    <a:lnTo>
                      <a:pt x="663" y="3"/>
                    </a:lnTo>
                    <a:lnTo>
                      <a:pt x="630" y="11"/>
                    </a:lnTo>
                    <a:lnTo>
                      <a:pt x="598" y="23"/>
                    </a:lnTo>
                    <a:lnTo>
                      <a:pt x="567" y="40"/>
                    </a:lnTo>
                    <a:lnTo>
                      <a:pt x="538" y="61"/>
                    </a:lnTo>
                    <a:lnTo>
                      <a:pt x="513" y="40"/>
                    </a:lnTo>
                    <a:lnTo>
                      <a:pt x="481" y="23"/>
                    </a:lnTo>
                    <a:lnTo>
                      <a:pt x="449" y="11"/>
                    </a:lnTo>
                    <a:lnTo>
                      <a:pt x="417" y="3"/>
                    </a:lnTo>
                    <a:lnTo>
                      <a:pt x="382" y="0"/>
                    </a:lnTo>
                    <a:lnTo>
                      <a:pt x="349" y="3"/>
                    </a:lnTo>
                    <a:lnTo>
                      <a:pt x="315" y="10"/>
                    </a:lnTo>
                    <a:lnTo>
                      <a:pt x="283" y="21"/>
                    </a:lnTo>
                    <a:lnTo>
                      <a:pt x="253" y="38"/>
                    </a:lnTo>
                    <a:lnTo>
                      <a:pt x="225" y="60"/>
                    </a:lnTo>
                    <a:lnTo>
                      <a:pt x="200" y="85"/>
                    </a:lnTo>
                    <a:lnTo>
                      <a:pt x="176" y="114"/>
                    </a:lnTo>
                    <a:lnTo>
                      <a:pt x="159" y="145"/>
                    </a:lnTo>
                    <a:lnTo>
                      <a:pt x="136" y="141"/>
                    </a:lnTo>
                    <a:lnTo>
                      <a:pt x="113" y="141"/>
                    </a:lnTo>
                    <a:lnTo>
                      <a:pt x="91" y="147"/>
                    </a:lnTo>
                    <a:lnTo>
                      <a:pt x="70" y="157"/>
                    </a:lnTo>
                    <a:lnTo>
                      <a:pt x="49" y="170"/>
                    </a:lnTo>
                    <a:lnTo>
                      <a:pt x="33" y="187"/>
                    </a:lnTo>
                    <a:lnTo>
                      <a:pt x="18" y="208"/>
                    </a:lnTo>
                    <a:lnTo>
                      <a:pt x="9" y="231"/>
                    </a:lnTo>
                    <a:lnTo>
                      <a:pt x="2" y="255"/>
                    </a:lnTo>
                    <a:lnTo>
                      <a:pt x="0" y="281"/>
                    </a:lnTo>
                    <a:lnTo>
                      <a:pt x="2" y="306"/>
                    </a:lnTo>
                    <a:lnTo>
                      <a:pt x="9" y="331"/>
                    </a:lnTo>
                    <a:lnTo>
                      <a:pt x="18" y="353"/>
                    </a:lnTo>
                    <a:lnTo>
                      <a:pt x="33" y="375"/>
                    </a:lnTo>
                    <a:lnTo>
                      <a:pt x="49" y="392"/>
                    </a:lnTo>
                    <a:lnTo>
                      <a:pt x="70" y="406"/>
                    </a:lnTo>
                    <a:lnTo>
                      <a:pt x="91" y="415"/>
                    </a:lnTo>
                    <a:lnTo>
                      <a:pt x="113" y="420"/>
                    </a:lnTo>
                    <a:lnTo>
                      <a:pt x="136" y="420"/>
                    </a:lnTo>
                    <a:lnTo>
                      <a:pt x="159" y="416"/>
                    </a:lnTo>
                  </a:path>
                </a:pathLst>
              </a:custGeom>
              <a:gradFill rotWithShape="0">
                <a:gsLst>
                  <a:gs pos="0">
                    <a:srgbClr val="4f494d"/>
                  </a:gs>
                  <a:gs pos="100000">
                    <a:srgbClr val="464144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78560" y="4557600"/>
                <a:ext cx="1702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COM network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84200" y="4795920"/>
                <a:ext cx="994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3209760" y="4064040"/>
                <a:ext cx="452520" cy="708120"/>
                <a:chOff x="3209760" y="4064040"/>
                <a:chExt cx="452520" cy="7081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209760" y="4064040"/>
                  <a:ext cx="392400" cy="639720"/>
                </a:xfrm>
                <a:custGeom>
                  <a:avLst/>
                  <a:gdLst/>
                  <a:ahLst/>
                  <a:rect l="l" t="t" r="r" b="b"/>
                  <a:pathLst>
                    <a:path w="247" h="403">
                      <a:moveTo>
                        <a:pt x="0" y="0"/>
                      </a:moveTo>
                      <a:lnTo>
                        <a:pt x="217" y="238"/>
                      </a:lnTo>
                      <a:lnTo>
                        <a:pt x="69" y="205"/>
                      </a:lnTo>
                      <a:lnTo>
                        <a:pt x="246" y="402"/>
                      </a:lnTo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52840" y="4656240"/>
                  <a:ext cx="109440" cy="115920"/>
                </a:xfrm>
                <a:custGeom>
                  <a:avLst/>
                  <a:gdLst/>
                  <a:ahLst/>
                  <a:rect l="l" t="t" r="r" b="b"/>
                  <a:pathLst>
                    <a:path w="69" h="73">
                      <a:moveTo>
                        <a:pt x="48" y="0"/>
                      </a:moveTo>
                      <a:lnTo>
                        <a:pt x="68" y="72"/>
                      </a:lnTo>
                      <a:lnTo>
                        <a:pt x="0" y="45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00"/>
                </a:solidFill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24560" y="4083120"/>
                <a:ext cx="460440" cy="708120"/>
                <a:chOff x="5524560" y="4083120"/>
                <a:chExt cx="460440" cy="708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24560" y="4167000"/>
                  <a:ext cx="415800" cy="624240"/>
                </a:xfrm>
                <a:custGeom>
                  <a:avLst/>
                  <a:gdLst/>
                  <a:ahLst/>
                  <a:rect l="l" t="t" r="r" b="b"/>
                  <a:pathLst>
                    <a:path w="262" h="393">
                      <a:moveTo>
                        <a:pt x="0" y="392"/>
                      </a:moveTo>
                      <a:lnTo>
                        <a:pt x="124" y="95"/>
                      </a:lnTo>
                      <a:lnTo>
                        <a:pt x="157" y="243"/>
                      </a:lnTo>
                      <a:lnTo>
                        <a:pt x="261" y="0"/>
                      </a:lnTo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84920" y="4083120"/>
                  <a:ext cx="100080" cy="117360"/>
                </a:xfrm>
                <a:custGeom>
                  <a:avLst/>
                  <a:gdLst/>
                  <a:ahLst/>
                  <a:rect l="l" t="t" r="r" b="b"/>
                  <a:pathLst>
                    <a:path w="63" h="74">
                      <a:moveTo>
                        <a:pt x="0" y="47"/>
                      </a:moveTo>
                      <a:lnTo>
                        <a:pt x="56" y="0"/>
                      </a:lnTo>
                      <a:lnTo>
                        <a:pt x="62" y="73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000000"/>
                </a:solidFill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4" name=""/>
          <p:cNvSpPr/>
          <p:nvPr/>
        </p:nvSpPr>
        <p:spPr>
          <a:xfrm>
            <a:off x="6517080" y="4813200"/>
            <a:ext cx="130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buted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COM “with a longer wir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COM components communicate in the same 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sam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process, Out-of-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a Local Are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a Wide Are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tools, knowledge,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buted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DCE RPC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operable with OSF DCE RPC implem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ll it “ORPC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t and Sca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ed in Internet-Dra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tp://ietf.org/internet-drafts/draft-brown-dcom-v1-spec-01.t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model” is about how the technology i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 is how it’s impleme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ll it the COM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ctiveX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mponent Object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38280" y="1676520"/>
            <a:ext cx="800424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gable Trans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05640" y="3838680"/>
            <a:ext cx="74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Flexible and extensib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095880" y="3359160"/>
            <a:ext cx="2743200" cy="1752480"/>
            <a:chOff x="6095880" y="3359160"/>
            <a:chExt cx="2743200" cy="1752480"/>
          </a:xfrm>
        </p:grpSpPr>
        <p:sp>
          <p:nvSpPr>
            <p:cNvPr id="216" name=""/>
            <p:cNvSpPr/>
            <p:nvPr/>
          </p:nvSpPr>
          <p:spPr>
            <a:xfrm>
              <a:off x="6095880" y="45021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38880" y="3968640"/>
              <a:ext cx="1600200" cy="1143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7924680" y="3359160"/>
              <a:ext cx="254160" cy="561960"/>
              <a:chOff x="7924680" y="3359160"/>
              <a:chExt cx="254160" cy="561960"/>
            </a:xfrm>
          </p:grpSpPr>
          <p:sp>
            <p:nvSpPr>
              <p:cNvPr id="219" name=""/>
              <p:cNvSpPr/>
              <p:nvPr/>
            </p:nvSpPr>
            <p:spPr>
              <a:xfrm>
                <a:off x="8055000" y="3616560"/>
                <a:ext cx="0" cy="304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24680" y="3359160"/>
                <a:ext cx="254160" cy="25416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3080" y="4349880"/>
              <a:ext cx="610920" cy="253800"/>
              <a:chOff x="6553080" y="4349880"/>
              <a:chExt cx="610920" cy="253800"/>
            </a:xfrm>
          </p:grpSpPr>
          <p:sp>
            <p:nvSpPr>
              <p:cNvPr id="222" name=""/>
              <p:cNvSpPr/>
              <p:nvPr/>
            </p:nvSpPr>
            <p:spPr>
              <a:xfrm>
                <a:off x="6553080" y="434988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813000" y="4495680"/>
                <a:ext cx="351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 rot="16200000">
            <a:off x="44956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521080"/>
            <a:ext cx="380376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2521080"/>
            <a:ext cx="335268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4290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,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8862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X,IP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3434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B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48006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52578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c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19810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371600" y="3886200"/>
            <a:ext cx="1371600" cy="837720"/>
            <a:chOff x="1371600" y="3886200"/>
            <a:chExt cx="1371600" cy="837720"/>
          </a:xfrm>
        </p:grpSpPr>
        <p:sp>
          <p:nvSpPr>
            <p:cNvPr id="234" name=""/>
            <p:cNvSpPr/>
            <p:nvPr/>
          </p:nvSpPr>
          <p:spPr>
            <a:xfrm>
              <a:off x="1783080" y="4177440"/>
              <a:ext cx="960120" cy="54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194560" y="3886200"/>
              <a:ext cx="152280" cy="268200"/>
              <a:chOff x="2194560" y="3886200"/>
              <a:chExt cx="152280" cy="268200"/>
            </a:xfrm>
          </p:grpSpPr>
          <p:sp>
            <p:nvSpPr>
              <p:cNvPr id="236" name=""/>
              <p:cNvSpPr/>
              <p:nvPr/>
            </p:nvSpPr>
            <p:spPr>
              <a:xfrm>
                <a:off x="2272680" y="4008960"/>
                <a:ext cx="0" cy="145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194560" y="388620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371600" y="4359960"/>
              <a:ext cx="366120" cy="121320"/>
              <a:chOff x="1371600" y="4359960"/>
              <a:chExt cx="366120" cy="121320"/>
            </a:xfrm>
          </p:grpSpPr>
          <p:sp>
            <p:nvSpPr>
              <p:cNvPr id="239" name=""/>
              <p:cNvSpPr/>
              <p:nvPr/>
            </p:nvSpPr>
            <p:spPr>
              <a:xfrm>
                <a:off x="1371600" y="435996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527480" y="4429440"/>
                <a:ext cx="2102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792000" y="5702400"/>
            <a:ext cx="1494000" cy="546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Other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47920" y="5334120"/>
            <a:ext cx="152280" cy="268200"/>
            <a:chOff x="1447920" y="5334120"/>
            <a:chExt cx="152280" cy="268200"/>
          </a:xfrm>
        </p:grpSpPr>
        <p:sp>
          <p:nvSpPr>
            <p:cNvPr id="243" name=""/>
            <p:cNvSpPr/>
            <p:nvPr/>
          </p:nvSpPr>
          <p:spPr>
            <a:xfrm>
              <a:off x="1526040" y="5456880"/>
              <a:ext cx="0" cy="14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47920" y="5334120"/>
              <a:ext cx="152280" cy="12132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0880" y="5883120"/>
            <a:ext cx="366480" cy="122400"/>
            <a:chOff x="380880" y="5883120"/>
            <a:chExt cx="366480" cy="122400"/>
          </a:xfrm>
        </p:grpSpPr>
        <p:sp>
          <p:nvSpPr>
            <p:cNvPr id="246" name=""/>
            <p:cNvSpPr/>
            <p:nvPr/>
          </p:nvSpPr>
          <p:spPr>
            <a:xfrm>
              <a:off x="380880" y="5883120"/>
              <a:ext cx="152280" cy="1224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36760" y="5953320"/>
              <a:ext cx="210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85800" y="45720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962520" y="3809880"/>
          <a:ext cx="682560" cy="13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682560" cy="1314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0" dir="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38280" y="1676520"/>
            <a:ext cx="800424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gable Security Provi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305640" y="3838680"/>
            <a:ext cx="74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Flexible and extensib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095880" y="3359160"/>
            <a:ext cx="2743200" cy="1752480"/>
            <a:chOff x="6095880" y="3359160"/>
            <a:chExt cx="2743200" cy="1752480"/>
          </a:xfrm>
        </p:grpSpPr>
        <p:sp>
          <p:nvSpPr>
            <p:cNvPr id="256" name=""/>
            <p:cNvSpPr/>
            <p:nvPr/>
          </p:nvSpPr>
          <p:spPr>
            <a:xfrm>
              <a:off x="6095880" y="45021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38880" y="3968640"/>
              <a:ext cx="1600200" cy="1143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7924680" y="3359160"/>
              <a:ext cx="254160" cy="561960"/>
              <a:chOff x="7924680" y="3359160"/>
              <a:chExt cx="254160" cy="561960"/>
            </a:xfrm>
          </p:grpSpPr>
          <p:sp>
            <p:nvSpPr>
              <p:cNvPr id="259" name=""/>
              <p:cNvSpPr/>
              <p:nvPr/>
            </p:nvSpPr>
            <p:spPr>
              <a:xfrm>
                <a:off x="8055000" y="3616560"/>
                <a:ext cx="0" cy="304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24680" y="3359160"/>
                <a:ext cx="254160" cy="25416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553080" y="4349880"/>
              <a:ext cx="610920" cy="253800"/>
              <a:chOff x="6553080" y="4349880"/>
              <a:chExt cx="610920" cy="253800"/>
            </a:xfrm>
          </p:grpSpPr>
          <p:sp>
            <p:nvSpPr>
              <p:cNvPr id="262" name=""/>
              <p:cNvSpPr/>
              <p:nvPr/>
            </p:nvSpPr>
            <p:spPr>
              <a:xfrm>
                <a:off x="6553080" y="434988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813000" y="4495680"/>
                <a:ext cx="351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 rot="16200000">
            <a:off x="44956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2521080"/>
            <a:ext cx="380376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521080"/>
            <a:ext cx="335268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8769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44197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Kerb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39625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L, Ce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35053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19810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71600" y="3886200"/>
            <a:ext cx="1371600" cy="837720"/>
            <a:chOff x="1371600" y="3886200"/>
            <a:chExt cx="1371600" cy="837720"/>
          </a:xfrm>
        </p:grpSpPr>
        <p:sp>
          <p:nvSpPr>
            <p:cNvPr id="273" name=""/>
            <p:cNvSpPr/>
            <p:nvPr/>
          </p:nvSpPr>
          <p:spPr>
            <a:xfrm>
              <a:off x="1783080" y="4177440"/>
              <a:ext cx="960120" cy="54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194560" y="3886200"/>
              <a:ext cx="152280" cy="268200"/>
              <a:chOff x="2194560" y="3886200"/>
              <a:chExt cx="152280" cy="26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2272680" y="4008960"/>
                <a:ext cx="0" cy="145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94560" y="388620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371600" y="4359960"/>
              <a:ext cx="366120" cy="121320"/>
              <a:chOff x="1371600" y="4359960"/>
              <a:chExt cx="366120" cy="121320"/>
            </a:xfrm>
          </p:grpSpPr>
          <p:sp>
            <p:nvSpPr>
              <p:cNvPr id="278" name=""/>
              <p:cNvSpPr/>
              <p:nvPr/>
            </p:nvSpPr>
            <p:spPr>
              <a:xfrm>
                <a:off x="1371600" y="435996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1527480" y="4429440"/>
                <a:ext cx="2102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792000" y="5702400"/>
            <a:ext cx="1494000" cy="546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Other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5334120"/>
            <a:ext cx="152280" cy="268200"/>
            <a:chOff x="1447920" y="5334120"/>
            <a:chExt cx="152280" cy="268200"/>
          </a:xfrm>
        </p:grpSpPr>
        <p:sp>
          <p:nvSpPr>
            <p:cNvPr id="282" name=""/>
            <p:cNvSpPr/>
            <p:nvPr/>
          </p:nvSpPr>
          <p:spPr>
            <a:xfrm>
              <a:off x="1526040" y="5456880"/>
              <a:ext cx="0" cy="14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47920" y="5334120"/>
              <a:ext cx="152280" cy="12132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80880" y="5883120"/>
            <a:ext cx="366480" cy="122400"/>
            <a:chOff x="380880" y="5883120"/>
            <a:chExt cx="366480" cy="122400"/>
          </a:xfrm>
        </p:grpSpPr>
        <p:sp>
          <p:nvSpPr>
            <p:cNvPr id="285" name=""/>
            <p:cNvSpPr/>
            <p:nvPr/>
          </p:nvSpPr>
          <p:spPr>
            <a:xfrm>
              <a:off x="380880" y="5883120"/>
              <a:ext cx="152280" cy="1224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36760" y="5953320"/>
              <a:ext cx="210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85800" y="45720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797440" y="4114800"/>
            <a:ext cx="2419560" cy="2286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308640" y="4724280"/>
            <a:ext cx="1234800" cy="739800"/>
            <a:chOff x="6308640" y="4724280"/>
            <a:chExt cx="1234800" cy="739800"/>
          </a:xfrm>
        </p:grpSpPr>
        <p:grpSp>
          <p:nvGrpSpPr>
            <p:cNvPr id="290" name=""/>
            <p:cNvGrpSpPr/>
            <p:nvPr/>
          </p:nvGrpSpPr>
          <p:grpSpPr>
            <a:xfrm>
              <a:off x="6308640" y="4770360"/>
              <a:ext cx="469800" cy="378000"/>
              <a:chOff x="6308640" y="4770360"/>
              <a:chExt cx="469800" cy="378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89360" y="495000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00680" y="48006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69000" y="477036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84600" y="50277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08640" y="499428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892560" y="4724280"/>
              <a:ext cx="470160" cy="379440"/>
              <a:chOff x="6892560" y="4724280"/>
              <a:chExt cx="470160" cy="379440"/>
            </a:xfrm>
          </p:grpSpPr>
          <p:sp>
            <p:nvSpPr>
              <p:cNvPr id="297" name=""/>
              <p:cNvSpPr/>
              <p:nvPr/>
            </p:nvSpPr>
            <p:spPr>
              <a:xfrm>
                <a:off x="7073640" y="490536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286400" y="47577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54720" y="47242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72120" y="498168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892560" y="4950000"/>
                <a:ext cx="66960" cy="648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6495840" y="5084640"/>
              <a:ext cx="469800" cy="379440"/>
              <a:chOff x="6495840" y="5084640"/>
              <a:chExt cx="469800" cy="379440"/>
            </a:xfrm>
          </p:grpSpPr>
          <p:sp>
            <p:nvSpPr>
              <p:cNvPr id="303" name=""/>
              <p:cNvSpPr/>
              <p:nvPr/>
            </p:nvSpPr>
            <p:spPr>
              <a:xfrm>
                <a:off x="6675120" y="5264280"/>
                <a:ext cx="290520" cy="19980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889680" y="5116680"/>
                <a:ext cx="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56200" y="508464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73600" y="534204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495840" y="530856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7254720" y="5219640"/>
              <a:ext cx="288720" cy="19872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67480" y="50720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34000" y="5040360"/>
              <a:ext cx="6336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51400" y="5295960"/>
              <a:ext cx="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73640" y="526428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502320" y="5572080"/>
            <a:ext cx="1235160" cy="739800"/>
            <a:chOff x="6502320" y="5572080"/>
            <a:chExt cx="1235160" cy="739800"/>
          </a:xfrm>
        </p:grpSpPr>
        <p:grpSp>
          <p:nvGrpSpPr>
            <p:cNvPr id="314" name=""/>
            <p:cNvGrpSpPr/>
            <p:nvPr/>
          </p:nvGrpSpPr>
          <p:grpSpPr>
            <a:xfrm>
              <a:off x="6502320" y="5618160"/>
              <a:ext cx="469800" cy="378000"/>
              <a:chOff x="6502320" y="5618160"/>
              <a:chExt cx="469800" cy="378000"/>
            </a:xfrm>
          </p:grpSpPr>
          <p:sp>
            <p:nvSpPr>
              <p:cNvPr id="315" name=""/>
              <p:cNvSpPr/>
              <p:nvPr/>
            </p:nvSpPr>
            <p:spPr>
              <a:xfrm>
                <a:off x="6683400" y="5797440"/>
                <a:ext cx="288720" cy="19872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94360" y="56484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62680" y="561816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78640" y="5875200"/>
                <a:ext cx="9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02320" y="584208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086600" y="5572080"/>
              <a:ext cx="469800" cy="379440"/>
              <a:chOff x="7086600" y="5572080"/>
              <a:chExt cx="469800" cy="379440"/>
            </a:xfrm>
          </p:grpSpPr>
          <p:sp>
            <p:nvSpPr>
              <p:cNvPr id="321" name=""/>
              <p:cNvSpPr/>
              <p:nvPr/>
            </p:nvSpPr>
            <p:spPr>
              <a:xfrm>
                <a:off x="7267320" y="575316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80080" y="56055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448400" y="55720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165800" y="582948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086600" y="5797440"/>
                <a:ext cx="6660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689520" y="5932440"/>
              <a:ext cx="470160" cy="379440"/>
              <a:chOff x="6689520" y="5932440"/>
              <a:chExt cx="470160" cy="379440"/>
            </a:xfrm>
          </p:grpSpPr>
          <p:sp>
            <p:nvSpPr>
              <p:cNvPr id="327" name=""/>
              <p:cNvSpPr/>
              <p:nvPr/>
            </p:nvSpPr>
            <p:spPr>
              <a:xfrm>
                <a:off x="6869160" y="6111720"/>
                <a:ext cx="290520" cy="2001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083360" y="59641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049880" y="5932440"/>
                <a:ext cx="6372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7280" y="618984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89520" y="615636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7448400" y="6067440"/>
              <a:ext cx="28908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61160" y="59198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27680" y="5888160"/>
              <a:ext cx="6372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45080" y="6143760"/>
              <a:ext cx="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67320" y="611172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857160" y="4343400"/>
            <a:ext cx="2419560" cy="8319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80060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47242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46483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05520" y="46483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7242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ficient and Scal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ing - Single Port per-protocol, per server process, regardless of # of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able - Connection-Less Protocols like UDP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d Connection-Oriented (TCP) Sessions Reused by sam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5486400"/>
            <a:ext cx="2419560" cy="8319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00400" y="4876560"/>
            <a:ext cx="1828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102360" y="3657600"/>
            <a:ext cx="2882880" cy="312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8760" y="3657600"/>
            <a:ext cx="2882880" cy="312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30960" y="4280040"/>
            <a:ext cx="2419200" cy="23493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883560" y="4740120"/>
            <a:ext cx="1234800" cy="739800"/>
            <a:chOff x="6883560" y="4740120"/>
            <a:chExt cx="1234800" cy="739800"/>
          </a:xfrm>
        </p:grpSpPr>
        <p:grpSp>
          <p:nvGrpSpPr>
            <p:cNvPr id="352" name=""/>
            <p:cNvGrpSpPr/>
            <p:nvPr/>
          </p:nvGrpSpPr>
          <p:grpSpPr>
            <a:xfrm>
              <a:off x="6883560" y="4786200"/>
              <a:ext cx="469800" cy="378000"/>
              <a:chOff x="6883560" y="4786200"/>
              <a:chExt cx="469800" cy="378000"/>
            </a:xfrm>
          </p:grpSpPr>
          <p:sp>
            <p:nvSpPr>
              <p:cNvPr id="353" name=""/>
              <p:cNvSpPr/>
              <p:nvPr/>
            </p:nvSpPr>
            <p:spPr>
              <a:xfrm>
                <a:off x="7064280" y="496584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275600" y="48164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243920" y="478620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59520" y="50436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883560" y="501012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467480" y="4740120"/>
              <a:ext cx="470160" cy="379440"/>
              <a:chOff x="7467480" y="4740120"/>
              <a:chExt cx="470160" cy="379440"/>
            </a:xfrm>
          </p:grpSpPr>
          <p:sp>
            <p:nvSpPr>
              <p:cNvPr id="359" name=""/>
              <p:cNvSpPr/>
              <p:nvPr/>
            </p:nvSpPr>
            <p:spPr>
              <a:xfrm>
                <a:off x="7648560" y="492120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861320" y="477360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829640" y="474012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47040" y="499752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67480" y="4965840"/>
                <a:ext cx="66960" cy="648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070760" y="5100480"/>
              <a:ext cx="469800" cy="379440"/>
              <a:chOff x="7070760" y="5100480"/>
              <a:chExt cx="469800" cy="379440"/>
            </a:xfrm>
          </p:grpSpPr>
          <p:sp>
            <p:nvSpPr>
              <p:cNvPr id="365" name=""/>
              <p:cNvSpPr/>
              <p:nvPr/>
            </p:nvSpPr>
            <p:spPr>
              <a:xfrm>
                <a:off x="7250040" y="5280120"/>
                <a:ext cx="290520" cy="19980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464600" y="5132520"/>
                <a:ext cx="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431120" y="51004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148520" y="535788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70760" y="532440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7829640" y="5235480"/>
              <a:ext cx="28872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42400" y="50878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08920" y="5056200"/>
              <a:ext cx="6336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26320" y="5311800"/>
              <a:ext cx="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48560" y="528012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035840" y="5578560"/>
            <a:ext cx="1235160" cy="739800"/>
            <a:chOff x="7035840" y="5578560"/>
            <a:chExt cx="1235160" cy="739800"/>
          </a:xfrm>
        </p:grpSpPr>
        <p:grpSp>
          <p:nvGrpSpPr>
            <p:cNvPr id="376" name=""/>
            <p:cNvGrpSpPr/>
            <p:nvPr/>
          </p:nvGrpSpPr>
          <p:grpSpPr>
            <a:xfrm>
              <a:off x="7035840" y="5624640"/>
              <a:ext cx="469800" cy="377640"/>
              <a:chOff x="7035840" y="5624640"/>
              <a:chExt cx="469800" cy="377640"/>
            </a:xfrm>
          </p:grpSpPr>
          <p:sp>
            <p:nvSpPr>
              <p:cNvPr id="377" name=""/>
              <p:cNvSpPr/>
              <p:nvPr/>
            </p:nvSpPr>
            <p:spPr>
              <a:xfrm>
                <a:off x="7216920" y="5803920"/>
                <a:ext cx="28872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427880" y="5654520"/>
                <a:ext cx="0" cy="1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96200" y="562464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112160" y="5881680"/>
                <a:ext cx="9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35840" y="584820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620120" y="5578560"/>
              <a:ext cx="469800" cy="379440"/>
              <a:chOff x="7620120" y="5578560"/>
              <a:chExt cx="469800" cy="379440"/>
            </a:xfrm>
          </p:grpSpPr>
          <p:sp>
            <p:nvSpPr>
              <p:cNvPr id="383" name=""/>
              <p:cNvSpPr/>
              <p:nvPr/>
            </p:nvSpPr>
            <p:spPr>
              <a:xfrm>
                <a:off x="7800840" y="5759280"/>
                <a:ext cx="289080" cy="19872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13600" y="561168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81920" y="557856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99320" y="583560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20120" y="5803920"/>
                <a:ext cx="6660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23040" y="5938920"/>
              <a:ext cx="470160" cy="379440"/>
              <a:chOff x="7223040" y="5938920"/>
              <a:chExt cx="470160" cy="379440"/>
            </a:xfrm>
          </p:grpSpPr>
          <p:sp>
            <p:nvSpPr>
              <p:cNvPr id="389" name=""/>
              <p:cNvSpPr/>
              <p:nvPr/>
            </p:nvSpPr>
            <p:spPr>
              <a:xfrm>
                <a:off x="7402680" y="6118200"/>
                <a:ext cx="290520" cy="2001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616880" y="597060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83400" y="5938920"/>
                <a:ext cx="6372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00800" y="619596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23040" y="616284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7981920" y="6073920"/>
              <a:ext cx="28908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94680" y="592632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61200" y="5894280"/>
              <a:ext cx="63720" cy="6372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78600" y="6149880"/>
              <a:ext cx="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00840" y="611820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39640" y="4314960"/>
            <a:ext cx="2044800" cy="977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9640" y="5575320"/>
            <a:ext cx="2044800" cy="977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71800" y="396252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962520"/>
            <a:ext cx="1946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eep-Alive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all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507060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2320" y="59850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33720" y="644220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9020000">
            <a:off x="3339720" y="5568840"/>
            <a:ext cx="2539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gical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r “Sessio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ficient and Scal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is 28 bytes over DCE-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-Alive Messages bundled for all connections between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e - Security is designed and built in. Not an o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erently Distrib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g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ly debugged and tu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M Runtime first shipped in 199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1000s of commercial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today on Win95, NT, Solar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 UNIX, HPUX, Linux, MVS, VMS, Mac, and others rolling out this 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urce code licensable from The Open Group (formerly OSF and X/Op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onformance test su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! (Built-into Win32 Platfor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parate client access license or expensive “developer”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ucture of 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2743200"/>
            <a:ext cx="8381880" cy="4038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 Run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119480"/>
            <a:ext cx="4960800" cy="6368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 and Distributed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24480" y="4191120"/>
            <a:ext cx="2362320" cy="45720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24480" y="4876920"/>
            <a:ext cx="2362320" cy="175248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ggable Security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SS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9104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3856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6204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1500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53160" y="43434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29400" y="5791320"/>
            <a:ext cx="83808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77120" y="6095880"/>
            <a:ext cx="1143000" cy="30492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4200" y="5791320"/>
            <a:ext cx="4960800" cy="83808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ggable Trans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5791320"/>
            <a:ext cx="91440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5410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4952880"/>
            <a:ext cx="4960800" cy="60984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S-R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62320" y="6248520"/>
            <a:ext cx="76176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48320" y="6248520"/>
            <a:ext cx="99036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c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0120" y="6095880"/>
            <a:ext cx="914400" cy="30492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3200400"/>
            <a:ext cx="7924680" cy="6858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 Servic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utomation, Monikers, Storage, ComCat, Data Transfer, 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2057400"/>
            <a:ext cx="8381880" cy="3808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mponents an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COM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cycl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Information (Interface Reposit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kers (Nam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on (Dynamic Invo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the Component Object Model (COM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just CO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OM” is just COM with a longer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 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COM (the model, the “ORB”, and the servi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1666800"/>
            <a:ext cx="4791240" cy="4194000"/>
            <a:chOff x="0" y="1666800"/>
            <a:chExt cx="4791240" cy="41940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0" y="1666800"/>
              <a:ext cx="4791240" cy="41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7240" y="2769840"/>
              <a:ext cx="4497480" cy="28512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-360" y="5867280"/>
            <a:ext cx="395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 Explorer 3.x/4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46160" y="2897280"/>
            <a:ext cx="2793960" cy="775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ext and im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878360" y="1371600"/>
            <a:ext cx="4151520" cy="2439360"/>
            <a:chOff x="4878360" y="1371600"/>
            <a:chExt cx="4151520" cy="2439360"/>
          </a:xfrm>
        </p:grpSpPr>
        <p:sp>
          <p:nvSpPr>
            <p:cNvPr id="454" name=""/>
            <p:cNvSpPr/>
            <p:nvPr/>
          </p:nvSpPr>
          <p:spPr>
            <a:xfrm flipH="1">
              <a:off x="4878360" y="3276720"/>
              <a:ext cx="258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99520" y="2666880"/>
              <a:ext cx="110952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HTTP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7620120" y="1371600"/>
              <a:ext cx="1409760" cy="1352520"/>
              <a:chOff x="7620120" y="1371600"/>
              <a:chExt cx="1409760" cy="1352520"/>
            </a:xfrm>
          </p:grpSpPr>
          <p:sp>
            <p:nvSpPr>
              <p:cNvPr id="457" name=""/>
              <p:cNvSpPr/>
              <p:nvPr/>
            </p:nvSpPr>
            <p:spPr>
              <a:xfrm>
                <a:off x="8672400" y="1371600"/>
                <a:ext cx="357480" cy="135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31080" y="2363760"/>
                <a:ext cx="442800" cy="5400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7683480" y="1746360"/>
                <a:ext cx="735120" cy="628560"/>
                <a:chOff x="7683480" y="1746360"/>
                <a:chExt cx="735120" cy="6285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683480" y="1746360"/>
                  <a:ext cx="22068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683480" y="1758960"/>
                  <a:ext cx="735120" cy="596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786800" y="1746360"/>
                  <a:ext cx="534960" cy="6285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683480" y="2171880"/>
                  <a:ext cx="220680" cy="2030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194680" y="2171880"/>
                  <a:ext cx="223920" cy="2030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194680" y="1746360"/>
                  <a:ext cx="22392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689960" y="1754280"/>
                  <a:ext cx="214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689960" y="1766880"/>
                  <a:ext cx="718920" cy="58104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792920" y="1754280"/>
                  <a:ext cx="525600" cy="61272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689960" y="2171880"/>
                  <a:ext cx="214200" cy="195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194680" y="2171880"/>
                  <a:ext cx="214200" cy="195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194680" y="1754280"/>
                  <a:ext cx="214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689960" y="1766880"/>
                  <a:ext cx="214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689960" y="1781280"/>
                  <a:ext cx="718920" cy="55224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792920" y="1766880"/>
                  <a:ext cx="525600" cy="585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689960" y="2168640"/>
                  <a:ext cx="214200" cy="1839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194680" y="2168640"/>
                  <a:ext cx="214200" cy="1839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194680" y="1766880"/>
                  <a:ext cx="214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699320" y="1765440"/>
                  <a:ext cx="208080" cy="188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699320" y="1778040"/>
                  <a:ext cx="704880" cy="5619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796160" y="1765440"/>
                  <a:ext cx="512640" cy="59040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699320" y="2168640"/>
                  <a:ext cx="20808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188200" y="2168640"/>
                  <a:ext cx="2160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188200" y="1765440"/>
                  <a:ext cx="216000" cy="188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753320" y="1951200"/>
                  <a:ext cx="588960" cy="339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753320" y="1830240"/>
                  <a:ext cx="588960" cy="444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773840" y="1857240"/>
                  <a:ext cx="547920" cy="411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8291520" y="2325600"/>
                <a:ext cx="5400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8736120" y="2376360"/>
                <a:ext cx="212760" cy="84240"/>
                <a:chOff x="8736120" y="2376360"/>
                <a:chExt cx="212760" cy="842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87361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7552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7724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7901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8092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82324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8423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85996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87904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8930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91216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9298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9488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8736120" y="2470320"/>
                <a:ext cx="212760" cy="82440"/>
                <a:chOff x="8736120" y="2470320"/>
                <a:chExt cx="212760" cy="824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87361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7552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7724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7901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8092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82324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8423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85996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87904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8930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91216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9298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9488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8721720" y="1406520"/>
                <a:ext cx="250920" cy="5097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8729640" y="1838160"/>
                <a:ext cx="236520" cy="86040"/>
                <a:chOff x="8729640" y="1838160"/>
                <a:chExt cx="236520" cy="860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8729640" y="1838160"/>
                  <a:ext cx="236520" cy="860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736120" y="184464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729640" y="1838160"/>
                  <a:ext cx="236520" cy="4320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8618400" y="1509840"/>
                <a:ext cx="233640" cy="83880"/>
                <a:chOff x="8618400" y="1509840"/>
                <a:chExt cx="233640" cy="838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8618400" y="1509840"/>
                  <a:ext cx="233640" cy="83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618400" y="1509840"/>
                  <a:ext cx="23364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8729640" y="1414440"/>
                <a:ext cx="115920" cy="11124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72480" y="1467000"/>
                <a:ext cx="49320" cy="110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772480" y="1450800"/>
                <a:ext cx="49320" cy="8100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772480" y="1494000"/>
                <a:ext cx="49320" cy="428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782200" y="1482840"/>
                <a:ext cx="47520" cy="4284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742240" y="1452600"/>
                <a:ext cx="367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42240" y="1501920"/>
                <a:ext cx="3672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8729640" y="1673280"/>
                <a:ext cx="236520" cy="85680"/>
                <a:chOff x="8729640" y="1673280"/>
                <a:chExt cx="236520" cy="8568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729640" y="1673280"/>
                  <a:ext cx="23652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729640" y="1673280"/>
                  <a:ext cx="23652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8745480" y="1414440"/>
                <a:ext cx="233280" cy="179280"/>
                <a:chOff x="8745480" y="1414440"/>
                <a:chExt cx="233280" cy="17928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8745480" y="1506600"/>
                  <a:ext cx="233280" cy="8712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751960" y="1512720"/>
                  <a:ext cx="217440" cy="637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751960" y="1512720"/>
                  <a:ext cx="217440" cy="637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745480" y="1506600"/>
                  <a:ext cx="233280" cy="4428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856720" y="1414440"/>
                  <a:ext cx="122040" cy="1112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5" name=""/>
              <p:cNvSpPr/>
              <p:nvPr/>
            </p:nvSpPr>
            <p:spPr>
              <a:xfrm>
                <a:off x="8721720" y="1922400"/>
                <a:ext cx="257040" cy="365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729640" y="1930320"/>
                <a:ext cx="16992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906040" y="1930320"/>
                <a:ext cx="6336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691480" y="1389240"/>
                <a:ext cx="311400" cy="925200"/>
              </a:xfrm>
              <a:prstGeom prst="rect">
                <a:avLst/>
              </a:prstGeom>
              <a:noFill/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729640" y="1751040"/>
                <a:ext cx="23976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726400" y="1585800"/>
                <a:ext cx="23976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8678880" y="1620720"/>
                <a:ext cx="271440" cy="252360"/>
                <a:chOff x="8678880" y="1620720"/>
                <a:chExt cx="271440" cy="25236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8678880" y="1620720"/>
                  <a:ext cx="271440" cy="2523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8685360" y="1627200"/>
                  <a:ext cx="257040" cy="21276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8685360" y="1627200"/>
                  <a:ext cx="257040" cy="2095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8685360" y="1627200"/>
                  <a:ext cx="257040" cy="2095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8685360" y="1627200"/>
                  <a:ext cx="257040" cy="2062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8685360" y="1627200"/>
                  <a:ext cx="257040" cy="2048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8685360" y="1627200"/>
                  <a:ext cx="257040" cy="20160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8685360" y="1627200"/>
                  <a:ext cx="257040" cy="19836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685360" y="1627200"/>
                  <a:ext cx="257040" cy="19836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8685360" y="1627200"/>
                  <a:ext cx="257040" cy="19692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8685360" y="1627200"/>
                  <a:ext cx="257040" cy="1936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8685360" y="1627200"/>
                  <a:ext cx="257040" cy="1936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8685360" y="1627200"/>
                  <a:ext cx="257040" cy="190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8685360" y="1627200"/>
                  <a:ext cx="257040" cy="1872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8685360" y="1627200"/>
                  <a:ext cx="257040" cy="1857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8685360" y="1627200"/>
                  <a:ext cx="257040" cy="18252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685360" y="1627200"/>
                  <a:ext cx="257040" cy="18252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685360" y="1627200"/>
                  <a:ext cx="257040" cy="17928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8685360" y="1627200"/>
                  <a:ext cx="257040" cy="1778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8685360" y="1627200"/>
                  <a:ext cx="257040" cy="1746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8685360" y="1627200"/>
                  <a:ext cx="257040" cy="17460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8685360" y="1627200"/>
                  <a:ext cx="257040" cy="1713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8685360" y="1627200"/>
                  <a:ext cx="257040" cy="1681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8685360" y="1627200"/>
                  <a:ext cx="257040" cy="1666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685360" y="1627200"/>
                  <a:ext cx="257040" cy="1666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8685360" y="1627200"/>
                  <a:ext cx="257040" cy="16344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8685360" y="1627200"/>
                  <a:ext cx="257040" cy="16020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8685360" y="1627200"/>
                  <a:ext cx="257040" cy="15876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8685360" y="1627200"/>
                  <a:ext cx="257040" cy="155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8685360" y="1627200"/>
                  <a:ext cx="257040" cy="155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8685360" y="1627200"/>
                  <a:ext cx="257040" cy="1522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8685360" y="1627200"/>
                  <a:ext cx="257040" cy="1508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8685360" y="1627200"/>
                  <a:ext cx="257040" cy="1508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8685360" y="1627200"/>
                  <a:ext cx="257040" cy="1476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8685360" y="1627200"/>
                  <a:ext cx="257040" cy="1443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8685360" y="1627200"/>
                  <a:ext cx="257040" cy="14112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8685360" y="1627200"/>
                  <a:ext cx="257040" cy="13968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8685360" y="1627200"/>
                  <a:ext cx="257040" cy="13968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8685360" y="1627200"/>
                  <a:ext cx="257040" cy="13644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685360" y="1627200"/>
                  <a:ext cx="257040" cy="1332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8685360" y="1627200"/>
                  <a:ext cx="257040" cy="1317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8685360" y="1627200"/>
                  <a:ext cx="257040" cy="1317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8685360" y="1627200"/>
                  <a:ext cx="257040" cy="1285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8685360" y="1627200"/>
                  <a:ext cx="257040" cy="1252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8685360" y="1627200"/>
                  <a:ext cx="257040" cy="1224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8685360" y="1627200"/>
                  <a:ext cx="257040" cy="12240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8685360" y="1627200"/>
                  <a:ext cx="257040" cy="12060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685360" y="1627200"/>
                  <a:ext cx="257040" cy="11736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8685360" y="1627200"/>
                  <a:ext cx="257040" cy="11412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8685360" y="1627200"/>
                  <a:ext cx="257040" cy="11412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8685360" y="1627200"/>
                  <a:ext cx="257040" cy="112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8685360" y="1627200"/>
                  <a:ext cx="257040" cy="1094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685360" y="1627200"/>
                  <a:ext cx="257040" cy="10620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685360" y="1627200"/>
                  <a:ext cx="257040" cy="10620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8685360" y="1627200"/>
                  <a:ext cx="257040" cy="10476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685360" y="1627200"/>
                  <a:ext cx="257040" cy="10152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8685360" y="1627200"/>
                  <a:ext cx="257040" cy="982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8685360" y="1627200"/>
                  <a:ext cx="257040" cy="982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8685360" y="1627200"/>
                  <a:ext cx="257040" cy="9540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8685360" y="1627200"/>
                  <a:ext cx="257040" cy="9360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685360" y="1627200"/>
                  <a:ext cx="257040" cy="9036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8685360" y="1627200"/>
                  <a:ext cx="257040" cy="8748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685360" y="1627200"/>
                  <a:ext cx="257040" cy="8748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8685360" y="1627200"/>
                  <a:ext cx="257040" cy="85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8685360" y="1627200"/>
                  <a:ext cx="257040" cy="824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685360" y="1627200"/>
                  <a:ext cx="257040" cy="7920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8685360" y="1627200"/>
                  <a:ext cx="257040" cy="7632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8685360" y="1627200"/>
                  <a:ext cx="257040" cy="7632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8685360" y="1627200"/>
                  <a:ext cx="257040" cy="7452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8685360" y="1627200"/>
                  <a:ext cx="257040" cy="712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8685360" y="1627200"/>
                  <a:ext cx="257040" cy="712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8685360" y="1627200"/>
                  <a:ext cx="257040" cy="6840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8685360" y="1627200"/>
                  <a:ext cx="257040" cy="6660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8685360" y="1627200"/>
                  <a:ext cx="257040" cy="6336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8685360" y="1627200"/>
                  <a:ext cx="257040" cy="6336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8685360" y="1627200"/>
                  <a:ext cx="257040" cy="6048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685360" y="1627200"/>
                  <a:ext cx="257040" cy="57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8685360" y="1627200"/>
                  <a:ext cx="257040" cy="554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685360" y="1627200"/>
                  <a:ext cx="257040" cy="554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8685360" y="1627200"/>
                  <a:ext cx="257040" cy="5220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8685360" y="1627200"/>
                  <a:ext cx="257040" cy="4932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8685360" y="1627200"/>
                  <a:ext cx="257040" cy="4752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685360" y="1627200"/>
                  <a:ext cx="257040" cy="442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685360" y="1627200"/>
                  <a:ext cx="257040" cy="442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8685360" y="1627200"/>
                  <a:ext cx="257040" cy="4140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8685360" y="1627200"/>
                  <a:ext cx="257040" cy="3960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8685360" y="1627200"/>
                  <a:ext cx="257040" cy="3636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8685360" y="1627200"/>
                  <a:ext cx="257040" cy="3348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8685360" y="1627200"/>
                  <a:ext cx="257040" cy="3348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8678880" y="1620720"/>
                  <a:ext cx="27144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1" name=""/>
              <p:cNvSpPr/>
              <p:nvPr/>
            </p:nvSpPr>
            <p:spPr>
              <a:xfrm>
                <a:off x="8742240" y="1623960"/>
                <a:ext cx="230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902800" y="1647720"/>
                <a:ext cx="47520" cy="428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906040" y="1650960"/>
                <a:ext cx="47520" cy="428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805960" y="1623960"/>
                <a:ext cx="10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805960" y="1623960"/>
                <a:ext cx="10008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20120" y="2432160"/>
                <a:ext cx="882360" cy="161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629480" y="2451240"/>
                <a:ext cx="204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843680" y="2451240"/>
                <a:ext cx="2066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055000" y="2451240"/>
                <a:ext cx="20628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300880" y="2536920"/>
                <a:ext cx="51120" cy="442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32720" y="2490840"/>
                <a:ext cx="62856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277120" y="2451240"/>
                <a:ext cx="10188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277120" y="2487600"/>
                <a:ext cx="101880" cy="446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97720" y="2494080"/>
                <a:ext cx="9072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5867280" y="3352680"/>
              <a:ext cx="1067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2880" y="1981080"/>
              <a:ext cx="2438640" cy="11898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18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Control or Java applet downlo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838080" y="3728880"/>
            <a:ext cx="3048120" cy="945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b18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X Control or Java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4038480" y="4495680"/>
            <a:ext cx="2590560" cy="2133720"/>
            <a:chOff x="4038480" y="4495680"/>
            <a:chExt cx="2590560" cy="2133720"/>
          </a:xfrm>
        </p:grpSpPr>
        <p:sp>
          <p:nvSpPr>
            <p:cNvPr id="1049" name=""/>
            <p:cNvSpPr/>
            <p:nvPr/>
          </p:nvSpPr>
          <p:spPr>
            <a:xfrm>
              <a:off x="4038480" y="4495680"/>
              <a:ext cx="609480" cy="137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113000" y="5805360"/>
              <a:ext cx="251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COM objects or 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3962520" y="3733920"/>
            <a:ext cx="5180040" cy="2119320"/>
            <a:chOff x="3962520" y="3733920"/>
            <a:chExt cx="5180040" cy="2119320"/>
          </a:xfrm>
        </p:grpSpPr>
        <p:sp>
          <p:nvSpPr>
            <p:cNvPr id="1052" name=""/>
            <p:cNvSpPr/>
            <p:nvPr/>
          </p:nvSpPr>
          <p:spPr>
            <a:xfrm>
              <a:off x="3962520" y="4419720"/>
              <a:ext cx="3429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34120" y="4572000"/>
              <a:ext cx="1371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D)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626160" y="5029200"/>
              <a:ext cx="2516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COM objects or 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7526160" y="3733920"/>
              <a:ext cx="1581480" cy="1352520"/>
              <a:chOff x="7526160" y="3733920"/>
              <a:chExt cx="1581480" cy="1352520"/>
            </a:xfrm>
          </p:grpSpPr>
          <p:sp>
            <p:nvSpPr>
              <p:cNvPr id="1056" name=""/>
              <p:cNvSpPr/>
              <p:nvPr/>
            </p:nvSpPr>
            <p:spPr>
              <a:xfrm>
                <a:off x="8707320" y="3733920"/>
                <a:ext cx="400320" cy="135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63040" y="4726080"/>
                <a:ext cx="496800" cy="5400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7597800" y="4108320"/>
                <a:ext cx="824040" cy="628920"/>
                <a:chOff x="7597800" y="4108320"/>
                <a:chExt cx="824040" cy="62892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7597800" y="4108320"/>
                  <a:ext cx="24768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597800" y="4121280"/>
                  <a:ext cx="824040" cy="596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713720" y="4108320"/>
                  <a:ext cx="600120" cy="62892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597800" y="4533840"/>
                  <a:ext cx="247680" cy="2034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8170920" y="4533840"/>
                  <a:ext cx="250920" cy="2034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8170920" y="4108320"/>
                  <a:ext cx="25092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605720" y="4116240"/>
                  <a:ext cx="23976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605720" y="4129200"/>
                  <a:ext cx="806400" cy="58104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719840" y="4116240"/>
                  <a:ext cx="590760" cy="61308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605720" y="4533840"/>
                  <a:ext cx="239760" cy="195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8170920" y="4533840"/>
                  <a:ext cx="241200" cy="195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8170920" y="4116240"/>
                  <a:ext cx="241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7605720" y="4129200"/>
                  <a:ext cx="23976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605720" y="4143240"/>
                  <a:ext cx="806400" cy="55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719840" y="4129200"/>
                  <a:ext cx="590760" cy="585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605720" y="4530600"/>
                  <a:ext cx="239760" cy="1843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170920" y="4530600"/>
                  <a:ext cx="241200" cy="1843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170920" y="4129200"/>
                  <a:ext cx="241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615080" y="4127400"/>
                  <a:ext cx="233640" cy="189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615080" y="4140360"/>
                  <a:ext cx="790560" cy="5619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724880" y="4127400"/>
                  <a:ext cx="574560" cy="5907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615080" y="4530600"/>
                  <a:ext cx="233640" cy="187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8164440" y="4530600"/>
                  <a:ext cx="241200" cy="187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8164440" y="4127400"/>
                  <a:ext cx="241200" cy="189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675560" y="4313160"/>
                  <a:ext cx="660240" cy="339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675560" y="4192560"/>
                  <a:ext cx="660240" cy="444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699320" y="4219560"/>
                  <a:ext cx="614520" cy="411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6" name=""/>
              <p:cNvSpPr/>
              <p:nvPr/>
            </p:nvSpPr>
            <p:spPr>
              <a:xfrm>
                <a:off x="8280360" y="4687920"/>
                <a:ext cx="6048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7" name=""/>
              <p:cNvGrpSpPr/>
              <p:nvPr/>
            </p:nvGrpSpPr>
            <p:grpSpPr>
              <a:xfrm>
                <a:off x="8778960" y="4738680"/>
                <a:ext cx="237960" cy="84240"/>
                <a:chOff x="8778960" y="4738680"/>
                <a:chExt cx="237960" cy="8424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87789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87994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88185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88390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88599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88758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88977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891684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893772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89550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89758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89946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901692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8778960" y="4832280"/>
                <a:ext cx="237960" cy="82800"/>
                <a:chOff x="8778960" y="4832280"/>
                <a:chExt cx="237960" cy="828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87789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87994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88185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88390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88599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88758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88977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91684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893772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89550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89758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89946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901692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5" name=""/>
              <p:cNvSpPr/>
              <p:nvPr/>
            </p:nvSpPr>
            <p:spPr>
              <a:xfrm>
                <a:off x="8761320" y="3768840"/>
                <a:ext cx="282600" cy="5094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6" name=""/>
              <p:cNvGrpSpPr/>
              <p:nvPr/>
            </p:nvGrpSpPr>
            <p:grpSpPr>
              <a:xfrm>
                <a:off x="8771040" y="4200480"/>
                <a:ext cx="264960" cy="85680"/>
                <a:chOff x="8771040" y="4200480"/>
                <a:chExt cx="264960" cy="8568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8771040" y="4200480"/>
                  <a:ext cx="26496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8777160" y="420696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8771040" y="4200480"/>
                  <a:ext cx="26496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8647200" y="3871800"/>
                <a:ext cx="260280" cy="84240"/>
                <a:chOff x="8647200" y="3871800"/>
                <a:chExt cx="260280" cy="8424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8647200" y="3871800"/>
                  <a:ext cx="260280" cy="842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647200" y="3871800"/>
                  <a:ext cx="26028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6" name=""/>
              <p:cNvSpPr/>
              <p:nvPr/>
            </p:nvSpPr>
            <p:spPr>
              <a:xfrm>
                <a:off x="8771040" y="3776760"/>
                <a:ext cx="129960" cy="11088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818560" y="3828960"/>
                <a:ext cx="55440" cy="111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818560" y="3813120"/>
                <a:ext cx="55440" cy="8100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8818560" y="3855960"/>
                <a:ext cx="55440" cy="428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829720" y="3844800"/>
                <a:ext cx="54000" cy="4284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785080" y="3814920"/>
                <a:ext cx="4140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785080" y="3863880"/>
                <a:ext cx="414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3" name=""/>
              <p:cNvGrpSpPr/>
              <p:nvPr/>
            </p:nvGrpSpPr>
            <p:grpSpPr>
              <a:xfrm>
                <a:off x="8771040" y="4035600"/>
                <a:ext cx="264960" cy="85680"/>
                <a:chOff x="8771040" y="4035600"/>
                <a:chExt cx="264960" cy="856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8771040" y="4035600"/>
                  <a:ext cx="26496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8771040" y="4035600"/>
                  <a:ext cx="26496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8788320" y="3776760"/>
                <a:ext cx="262080" cy="179280"/>
                <a:chOff x="8788320" y="3776760"/>
                <a:chExt cx="262080" cy="17928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8788320" y="3868560"/>
                  <a:ext cx="262080" cy="874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8794800" y="3875040"/>
                  <a:ext cx="245880" cy="637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8794800" y="3875040"/>
                  <a:ext cx="245880" cy="637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788320" y="3868560"/>
                  <a:ext cx="262080" cy="446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913960" y="3776760"/>
                  <a:ext cx="136440" cy="110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8761320" y="4284720"/>
                <a:ext cx="289080" cy="365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8771040" y="4292640"/>
                <a:ext cx="19044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969400" y="4292640"/>
                <a:ext cx="6984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728200" y="3751200"/>
                <a:ext cx="349200" cy="925560"/>
              </a:xfrm>
              <a:prstGeom prst="rect">
                <a:avLst/>
              </a:prstGeom>
              <a:noFill/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771040" y="4113360"/>
                <a:ext cx="26820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767800" y="3948120"/>
                <a:ext cx="26820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0" name=""/>
              <p:cNvGrpSpPr/>
              <p:nvPr/>
            </p:nvGrpSpPr>
            <p:grpSpPr>
              <a:xfrm>
                <a:off x="8713800" y="3983040"/>
                <a:ext cx="304920" cy="252360"/>
                <a:chOff x="8713800" y="3983040"/>
                <a:chExt cx="304920" cy="25236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8713800" y="3983040"/>
                  <a:ext cx="304920" cy="2523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720280" y="3989520"/>
                  <a:ext cx="290520" cy="21276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720280" y="3989520"/>
                  <a:ext cx="290520" cy="2095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720280" y="3989520"/>
                  <a:ext cx="290520" cy="2095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720280" y="3989520"/>
                  <a:ext cx="290520" cy="2062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720280" y="3989520"/>
                  <a:ext cx="290520" cy="204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720280" y="3989520"/>
                  <a:ext cx="290520" cy="20160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720280" y="3989520"/>
                  <a:ext cx="290520" cy="19836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720280" y="3989520"/>
                  <a:ext cx="290520" cy="19836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720280" y="3989520"/>
                  <a:ext cx="290520" cy="19656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720280" y="3989520"/>
                  <a:ext cx="290520" cy="1936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8720280" y="3989520"/>
                  <a:ext cx="290520" cy="1936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720280" y="3989520"/>
                  <a:ext cx="290520" cy="190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720280" y="3989520"/>
                  <a:ext cx="290520" cy="1872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720280" y="3989520"/>
                  <a:ext cx="290520" cy="1857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720280" y="3989520"/>
                  <a:ext cx="290520" cy="18252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720280" y="3989520"/>
                  <a:ext cx="290520" cy="18252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720280" y="3989520"/>
                  <a:ext cx="290520" cy="17928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720280" y="3989520"/>
                  <a:ext cx="290520" cy="1778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720280" y="3989520"/>
                  <a:ext cx="290520" cy="1746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720280" y="3989520"/>
                  <a:ext cx="290520" cy="17460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720280" y="3989520"/>
                  <a:ext cx="290520" cy="1713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720280" y="3989520"/>
                  <a:ext cx="290520" cy="1681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720280" y="3989520"/>
                  <a:ext cx="290520" cy="1666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720280" y="3989520"/>
                  <a:ext cx="290520" cy="1666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720280" y="3989520"/>
                  <a:ext cx="290520" cy="16344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720280" y="3989520"/>
                  <a:ext cx="290520" cy="16020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720280" y="3989520"/>
                  <a:ext cx="290520" cy="15876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720280" y="3989520"/>
                  <a:ext cx="290520" cy="155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720280" y="3989520"/>
                  <a:ext cx="290520" cy="155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720280" y="3989520"/>
                  <a:ext cx="290520" cy="1522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720280" y="3989520"/>
                  <a:ext cx="290520" cy="1508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720280" y="3989520"/>
                  <a:ext cx="290520" cy="1508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720280" y="3989520"/>
                  <a:ext cx="290520" cy="1476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8720280" y="3989520"/>
                  <a:ext cx="290520" cy="1443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8720280" y="3989520"/>
                  <a:ext cx="290520" cy="14112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8720280" y="3989520"/>
                  <a:ext cx="290520" cy="13968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720280" y="3989520"/>
                  <a:ext cx="290520" cy="13968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720280" y="3989520"/>
                  <a:ext cx="290520" cy="13644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8720280" y="3989520"/>
                  <a:ext cx="290520" cy="1332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8720280" y="3989520"/>
                  <a:ext cx="290520" cy="1317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8720280" y="3989520"/>
                  <a:ext cx="290520" cy="1317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8720280" y="3989520"/>
                  <a:ext cx="290520" cy="1285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8720280" y="3989520"/>
                  <a:ext cx="290520" cy="1252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8720280" y="3989520"/>
                  <a:ext cx="290520" cy="1220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8720280" y="3989520"/>
                  <a:ext cx="290520" cy="1220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8720280" y="3989520"/>
                  <a:ext cx="290520" cy="12060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8720280" y="3989520"/>
                  <a:ext cx="290520" cy="11736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8720280" y="3989520"/>
                  <a:ext cx="290520" cy="11412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720280" y="3989520"/>
                  <a:ext cx="290520" cy="11412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720280" y="3989520"/>
                  <a:ext cx="290520" cy="112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720280" y="3989520"/>
                  <a:ext cx="290520" cy="1094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720280" y="3989520"/>
                  <a:ext cx="290520" cy="10620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8720280" y="3989520"/>
                  <a:ext cx="290520" cy="10620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720280" y="3989520"/>
                  <a:ext cx="290520" cy="10476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720280" y="3989520"/>
                  <a:ext cx="290520" cy="10152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8720280" y="3989520"/>
                  <a:ext cx="290520" cy="982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8720280" y="3989520"/>
                  <a:ext cx="290520" cy="982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8720280" y="3989520"/>
                  <a:ext cx="290520" cy="950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8720280" y="3989520"/>
                  <a:ext cx="290520" cy="9360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8720280" y="3989520"/>
                  <a:ext cx="290520" cy="9036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8720280" y="3989520"/>
                  <a:ext cx="290520" cy="8712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8720280" y="3989520"/>
                  <a:ext cx="290520" cy="8712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8720280" y="3989520"/>
                  <a:ext cx="290520" cy="85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720280" y="3989520"/>
                  <a:ext cx="290520" cy="824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8720280" y="3989520"/>
                  <a:ext cx="290520" cy="7920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8720280" y="3989520"/>
                  <a:ext cx="290520" cy="7596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8720280" y="3989520"/>
                  <a:ext cx="290520" cy="7596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8720280" y="3989520"/>
                  <a:ext cx="290520" cy="7452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8720280" y="3989520"/>
                  <a:ext cx="290520" cy="712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8720280" y="3989520"/>
                  <a:ext cx="290520" cy="712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8720280" y="3989520"/>
                  <a:ext cx="290520" cy="680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720280" y="3989520"/>
                  <a:ext cx="290520" cy="6660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8720280" y="3989520"/>
                  <a:ext cx="290520" cy="6336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720280" y="3989520"/>
                  <a:ext cx="290520" cy="6336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720280" y="3989520"/>
                  <a:ext cx="290520" cy="6012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8720280" y="3989520"/>
                  <a:ext cx="290520" cy="5688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8720280" y="3989520"/>
                  <a:ext cx="290520" cy="554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8720280" y="3989520"/>
                  <a:ext cx="290520" cy="554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8720280" y="3989520"/>
                  <a:ext cx="290520" cy="5220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8720280" y="3989520"/>
                  <a:ext cx="290520" cy="4896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8720280" y="3989520"/>
                  <a:ext cx="290520" cy="4752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8720280" y="3989520"/>
                  <a:ext cx="290520" cy="442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720280" y="3989520"/>
                  <a:ext cx="290520" cy="442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8720280" y="3989520"/>
                  <a:ext cx="290520" cy="410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8720280" y="3989520"/>
                  <a:ext cx="290520" cy="3960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8720280" y="3989520"/>
                  <a:ext cx="290520" cy="3636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8720280" y="3989520"/>
                  <a:ext cx="290520" cy="3312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8720280" y="3989520"/>
                  <a:ext cx="290520" cy="3312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8713800" y="3983040"/>
                  <a:ext cx="30492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0" name=""/>
              <p:cNvSpPr/>
              <p:nvPr/>
            </p:nvSpPr>
            <p:spPr>
              <a:xfrm>
                <a:off x="8785080" y="3986280"/>
                <a:ext cx="25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964720" y="4010040"/>
                <a:ext cx="54000" cy="428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969400" y="4013280"/>
                <a:ext cx="52200" cy="428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856720" y="3986280"/>
                <a:ext cx="11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856720" y="3986280"/>
                <a:ext cx="11268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526160" y="4794120"/>
                <a:ext cx="990720" cy="162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537320" y="4813200"/>
                <a:ext cx="23040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777080" y="4813200"/>
                <a:ext cx="231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013600" y="4813200"/>
                <a:ext cx="231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290080" y="4898880"/>
                <a:ext cx="56880" cy="446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540560" y="4853160"/>
                <a:ext cx="70488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8263080" y="4813200"/>
                <a:ext cx="11412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8263080" y="4849920"/>
                <a:ext cx="114120" cy="442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8399520" y="4856040"/>
                <a:ext cx="101520" cy="874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4" name=""/>
          <p:cNvSpPr/>
          <p:nvPr/>
        </p:nvSpPr>
        <p:spPr>
          <a:xfrm>
            <a:off x="914400" y="4923000"/>
            <a:ext cx="2971800" cy="609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b18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X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Experience:  How It Work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X Contro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OM components with “design-time” U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in C++, Java, VB, Delphi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f-regi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ed for download and exe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on both Active Client or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lk indirectly over HTTP or directly over 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soft Java V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 V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COM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Java classes from any application/language, not just browser/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Java objec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COM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integration of Java applets with other languages and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s Java applets talk to other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s Java applets talk to ActiveX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s Java applets access to all PC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706920" cy="2971800"/>
          </a:xfrm>
          <a:prstGeom prst="rect">
            <a:avLst/>
          </a:prstGeom>
          <a:ln w="0">
            <a:noFill/>
          </a:ln>
        </p:spPr>
      </p:pic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action Server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“Viper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-360" y="1885680"/>
            <a:ext cx="8636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time execu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ironment for server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s COM archi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ture with transa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concurrenc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threading, queuing, atomici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is easy to encapsulate business logic in middle-t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ore Product Stat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”COM first released in Windows NT 4.0, August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95 version released January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aris 2.x release immi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UNICES, MVS, and VMS to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intosh version in H1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Group source licenses available by mid-1997; DCE integration project by end of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 Overview 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Understanding ActiveX and O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by David Chappe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95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ttp://www.microsoft.com/oledev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aris and other non-Win32 ver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ttp://www.sagus.com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http://www.microsoft.com/workshop/&gt; and &lt;http://www.microsoft.com/oledev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nside C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by Dale Rogers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microsoft.com/workshop/resources/email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1" name="new%20ms%20with%20tagline%208x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grpSp>
        <p:nvGrpSpPr>
          <p:cNvPr id="1662" name=""/>
          <p:cNvGrpSpPr/>
          <p:nvPr/>
        </p:nvGrpSpPr>
        <p:grpSpPr>
          <a:xfrm>
            <a:off x="7864560" y="6264360"/>
            <a:ext cx="1197360" cy="376200"/>
            <a:chOff x="7864560" y="6264360"/>
            <a:chExt cx="1197360" cy="376200"/>
          </a:xfrm>
        </p:grpSpPr>
        <p:pic>
          <p:nvPicPr>
            <p:cNvPr id="1663" name="" descr=""/>
            <p:cNvPicPr/>
            <p:nvPr/>
          </p:nvPicPr>
          <p:blipFill>
            <a:blip r:embed="rId2"/>
            <a:stretch/>
          </p:blipFill>
          <p:spPr>
            <a:xfrm>
              <a:off x="7864560" y="629748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4" name=""/>
            <p:cNvSpPr/>
            <p:nvPr/>
          </p:nvSpPr>
          <p:spPr>
            <a:xfrm>
              <a:off x="8835840" y="6264360"/>
              <a:ext cx="2260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5e574e"/>
                  </a:solidFill>
                  <a:latin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nted: Software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wave” requires applications, content, operating systems, networking, distributed services to be integrated as never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solutions won’t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one vendor or one team of programmers can move fast enou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leverage others’ work and to build and ship smaller pieces increment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evolve smaller pieces asynchronously without sacrificing the wh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s…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SA” architecture was Microsoft’s 2nd generation component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I (often with different “level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(Microsoft) -supplied intermediary DLL with out-of-band management rout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I for real components/servers to plug in “underneat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great (e.g. ODBC) but has crucial lim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afe decentralized extension or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: 3rd Generation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fied programming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OS and apps — unification of system handle-based “objects” and variety of app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in-process and remote interaction — unification of DLLs and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for binary deployment, conne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pieces or “components” find and connect to each other through clearly define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ves fundamental problems of software integration, independent ev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facturing process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s on the Interent/Intranet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 based server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Server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Transaction Server (Vip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tier “client/server”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 Tier Client/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867280"/>
            <a:ext cx="8458200" cy="8384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-Tier - Databases, Legac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106704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343400"/>
            <a:ext cx="99036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343400"/>
            <a:ext cx="99072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886200"/>
            <a:ext cx="845820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id-Tier - HTTP, Biz Objects, Active Server Pages, Scrip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2362320"/>
            <a:ext cx="106668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2362320"/>
            <a:ext cx="99072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4582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esktop” - Compound Documents, Controls, Scrip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uilds on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’s initial thrust: integrating desktop applications with 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technology is generically useful, being applied to a range of other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0’s of shipping, commercially available, produ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ld class development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, VC, VJ, Delphi, PowerSof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3T01:13:36Z</dcterms:created>
  <dc:creator>Charlie Kindel</dc:creator>
  <dc:description>This presentation was given by Charlie Kindel at Object World East '97.</dc:description>
  <cp:keywords>COM ActiveX OLE DCOM Objects Components</cp:keywords>
  <dc:language>en-US</dc:language>
  <cp:lastModifiedBy>Michael Gross</cp:lastModifiedBy>
  <cp:lastPrinted>1997-03-05T05:56:03Z</cp:lastPrinted>
  <dcterms:modified xsi:type="dcterms:W3CDTF">1997-10-06T17:43:29Z</dcterms:modified>
  <cp:revision>25</cp:revision>
  <dc:subject>ActiveX and COM</dc:subject>
  <dc:title>ActiveX Overview</dc:title>
</cp:coreProperties>
</file>