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E2C3C-BA39-41D5-B4C9-95A9B1FF0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F1D92-A232-4BFA-8201-7515437A1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85816-C3B3-4314-A5A2-6FC154177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08449-7339-4BB1-A8AC-4A5A457810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50B5B-8B5E-4FA4-996E-1F92956388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3B8C1-34A6-49A9-9C2E-2632EC8A6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3AF8-B1F2-4EC7-9BFD-2F9F4F60E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4CDFC-2983-488E-ABB6-09B6B274F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1DEA-E6A9-4C46-97DB-7CEC7114E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58B78-5900-4B70-8D99-07617FD81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7A0CE-1D4C-434C-9E36-914A6634D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C9C77-232C-4747-B8FC-8999C6D5F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05740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édric Bertho   -   Comparaison entre Perl et Pyth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20120" y="6400440"/>
            <a:ext cx="838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A14F-FF0C-485C-99D5-D3D4D7F2F7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2/10/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4008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2520" y="35812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img10" descr=""/>
          <p:cNvPicPr/>
          <p:nvPr/>
        </p:nvPicPr>
        <p:blipFill>
          <a:blip r:embed="rId1"/>
          <a:stretch/>
        </p:blipFill>
        <p:spPr>
          <a:xfrm>
            <a:off x="2666880" y="4419720"/>
            <a:ext cx="4056120" cy="1112760"/>
          </a:xfrm>
          <a:prstGeom prst="rect">
            <a:avLst/>
          </a:prstGeom>
          <a:ln w="0">
            <a:noFill/>
          </a:ln>
        </p:spPr>
      </p:pic>
      <p:pic>
        <p:nvPicPr>
          <p:cNvPr id="44" name="sm_perl_id_bk_wt" descr=""/>
          <p:cNvPicPr/>
          <p:nvPr/>
        </p:nvPicPr>
        <p:blipFill>
          <a:blip r:embed="rId2"/>
          <a:stretch/>
        </p:blipFill>
        <p:spPr>
          <a:xfrm>
            <a:off x="3657600" y="1523880"/>
            <a:ext cx="1854360" cy="1854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95480" y="76212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para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5D888-0678-4D52-8A1C-34506D1173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685800"/>
            <a:ext cx="7238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$filename = "cooktest1.1-1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open (F, $filename) or die ("can't open $filename: $!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@lines = &lt;F&gt;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239240" cy="31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yth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ilename = "cooktest1.1-1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r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 = open (file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excep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sys.stderr.write ("can't open %s: %s %s\n"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(filename, sys.exc_type, sys.exc_valu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lines = f.readlin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xemples d’utilis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BFDFD-3EC2-41D1-97CE-12D5267D20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Lequel choisir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us  approprié  aux  débutants  en  program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505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grammeurs  familiers  du  C,  Sed,  Awk  ou  des  commandes 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838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yth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1981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 programmation  orientée  objet  et  les  gros  proj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971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495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aitement de chaînes de caractères et les 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181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us  grand  support  actuel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803D2-2C1F-449A-9F1C-4787208031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ources - réfé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4197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www.zop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0666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buzz.builder.com/cgi-bin/WebX?14@133.uWaUauuNrDb^1@.ee7bc67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www.byte.com/printableArticle?doc_id=BYT20000201S0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23623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www.python.org/doc/Comparison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12408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starship.python.net/~da/jak/cookbook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809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www.culte.org/projets/doc/scripting.s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AE30B-936F-4576-A742-0B3F198706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95480" y="76212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752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rigines  de  Perl  et  P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2438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 quoi  servent-ils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1240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elles  sont  leurs  similitudes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09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elles  sont  leurs  différences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495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s  d’util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5181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quel  choisir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4BBF3-618F-483F-9F39-FFF2B713C6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rigines de Perl et Pyth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685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yth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1143000"/>
            <a:ext cx="6553080" cy="20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ngage  avancé  de  scripting  (interprét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veloppé  en  1990  par  Guido  van  Ros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tiné  initialement  au  projet  Amoe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m  issu  des  Monthy  Python’s  Flying  Cir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3886200"/>
            <a:ext cx="6553080" cy="23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ngage  avancé  de  scripting  (interprét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veloppé  en  1987  par  Larry 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tiné  initialement  au  traitement  de  chaînes de caractères  sous 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actical  Extraction  and  Report 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B7AB-1F3B-4891-8FCA-6DCA8A24F0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 quoi servent-il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762120"/>
            <a:ext cx="769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veloppement  rapide  de  diverses  tâches  courantes  telles  que  des  scripts d ’administration système, analyse de fichiers textuel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totypage  rapide  d’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erfaces  avec  d’autres  programmes  (C, Java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errogation  de  bases  de  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grammation  Internet, Common  Gateway 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aitement  d’images,  interfaces  graphiques (avec  modules  et  bibliothèq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8085-A8A5-48CC-A62E-05D354143F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Quelles sont leurs similitude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6858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ratuits,  portables  et  Open 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96056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ngages  « interactifs » et  interprétés  évol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59884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ation  procédurale  ou  orientée ob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23864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sèdent  de  fortes  communautés  de  développ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4876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sposent  de  nombreux  modules  et  bibliothèques  d’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222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ulti-plateformes  (Unix, Windows, BeOs,  MacOS, Amiga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235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pport  de  structures  de  données  riches  et  dynamiques (listes, hashtabl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864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89E00-0745-4C34-BE47-1681694B41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Quelles sont leurs différence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990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l  est  plus  gros,  mais  Python  grossit  plus v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981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rientation  objet :  native  pour  Python,  superficielle  pour 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29718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l : « There ’s more than one way to do it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50292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 de Python : plus constante et uniforme,  voir  restri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038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ython : « Life’s better without brace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7CACD-71CE-4CEF-A70C-E54989BF0B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mp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985000" cy="4514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38080" y="685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parison of Six XML Parsers Processing Each Test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Quelles sont leurs différence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C0DF3-46BD-48A5-B8BE-307DF57133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xemples d’utilis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533520"/>
            <a:ext cx="76960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#!/usr/local/bin/pe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or (split(/:/, $ENV{'PATH'})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opendir(DIR, $_) or die "can't opendir $_: $!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grep {!/^\./ &amp;&amp; print "$_\n" } readdir(DI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losedir DIR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yth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#!/usr/local/bin/pyth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import os, string, 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or d in string.split(os.environ['PATH'], ':'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or f in os.listdir(d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mode = os.lstat(d + '/' + f)[stat.ST_MOD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if not stat.S_ISDIR(mod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print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44C39-9802-4002-9231-BA6AAA0264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ythonwin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802640" cy="585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B8AB2-2F75-4C19-AC2E-EE3B77ECB5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1T15:11:22Z</dcterms:created>
  <dc:creator>Ced</dc:creator>
  <dc:description/>
  <dc:language>en-US</dc:language>
  <cp:lastModifiedBy>Ced</cp:lastModifiedBy>
  <dcterms:modified xsi:type="dcterms:W3CDTF">2000-10-11T22:29:03Z</dcterms:modified>
  <cp:revision>20</cp:revision>
  <dc:subject/>
  <dc:title>vs</dc:title>
</cp:coreProperties>
</file>