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0640" y="692280"/>
            <a:ext cx="440532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227120"/>
            <a:ext cx="5043600" cy="399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E82509B-3AF7-44D9-BADF-8E2C51A02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03ADCB-F0D7-4549-A3AF-AEBAF66FE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60B339-93CA-499B-AE45-6B2D0CBC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283C5D-45AC-43AE-8D6E-DB462582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95560" y="671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22320" y="4240080"/>
            <a:ext cx="501336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F39E8B7-2AB6-4DD1-8DBE-8CF4EE473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EA1B1C5-8959-4A6B-AC33-850F2EBD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5260B23-D037-447F-8BE3-4A74F3D92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body"/>
          </p:nvPr>
        </p:nvSpPr>
        <p:spPr>
          <a:xfrm>
            <a:off x="914400" y="4239720"/>
            <a:ext cx="5029200" cy="40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ldImg"/>
          </p:nvPr>
        </p:nvSpPr>
        <p:spPr>
          <a:xfrm>
            <a:off x="1200240" y="671400"/>
            <a:ext cx="4457520" cy="3343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8EE2219-8D05-4C03-85B7-3754D709F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body"/>
          </p:nvPr>
        </p:nvSpPr>
        <p:spPr>
          <a:xfrm>
            <a:off x="1136520" y="4619520"/>
            <a:ext cx="448488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ldImg"/>
          </p:nvPr>
        </p:nvSpPr>
        <p:spPr>
          <a:xfrm>
            <a:off x="901800" y="449280"/>
            <a:ext cx="5054400" cy="3789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66E-E15D-4B87-9708-6399C347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4BF-6A55-485E-AE26-3CE42F6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21E-7AB8-4C68-80A1-E0A1112C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455-959A-42AB-BCE4-12523572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4118-2FC0-4368-B94A-CE6ED977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183E-3A9E-4A22-AD61-8F34B19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C91-5B2E-4156-9B12-AA548DFA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86F-0903-465F-82BD-2D40C43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0F2-E1D8-4CE9-A2A4-B8C3E7DB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B38B-4895-4997-A626-83C0B82A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BF67-F04B-4BCD-A42B-37BC7D03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D29-6BE2-4B5A-AF66-4D435218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38DA-0E01-436F-9AC1-F610086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EDB0-B2DE-4F35-A27E-A4477D66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5688-1546-4FA1-BECC-7CCA1B36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C96-0D66-457E-91F6-BDEC35CE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31D7-41C2-445F-944E-47EE139B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363-59A6-4322-80D2-08E084F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8F2-690D-432A-9639-2E1BF7F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C17-7F68-4159-AD31-9EAF2B0D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4AB-F4D9-493D-B993-2B2AD9A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755-C0B0-4726-85FB-4181FF60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5F2-D935-4A50-BD78-F5FA3195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79A-F1BF-43E4-AB85-E341AED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21D1-C0DD-4207-9FD2-8489D91E12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4953-89D5-4F7B-AFD3-545B89E7B4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Overview of Activ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o Benefi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software vend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components in any language, any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l independently or in bu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central coordination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te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 from competitive market rather than bu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benefit from compon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one doing software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, Components,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-level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Fundamental Principles</a:t>
            </a:r>
            <a:br>
              <a:rPr sz="4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at the designers of COM were striving for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location (in-process, cross-process, cross-mach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 centralized auth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sacrifice in-proc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model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extensibility and adap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Encaps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 box -- no leakage of implementation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bject manipulation through strict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multipl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able”: Query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486400"/>
            <a:ext cx="16002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924680" y="4876920"/>
            <a:ext cx="254160" cy="561960"/>
            <a:chOff x="7924680" y="4876920"/>
            <a:chExt cx="254160" cy="561960"/>
          </a:xfrm>
        </p:grpSpPr>
        <p:sp>
          <p:nvSpPr>
            <p:cNvPr id="129" name=""/>
            <p:cNvSpPr/>
            <p:nvPr/>
          </p:nvSpPr>
          <p:spPr>
            <a:xfrm>
              <a:off x="8055000" y="5134320"/>
              <a:ext cx="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24680" y="487692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53080" y="5638680"/>
            <a:ext cx="610920" cy="253800"/>
            <a:chOff x="6553080" y="5638680"/>
            <a:chExt cx="610920" cy="253800"/>
          </a:xfrm>
        </p:grpSpPr>
        <p:sp>
          <p:nvSpPr>
            <p:cNvPr id="132" name=""/>
            <p:cNvSpPr/>
            <p:nvPr/>
          </p:nvSpPr>
          <p:spPr>
            <a:xfrm>
              <a:off x="6553080" y="5638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13000" y="57844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53080" y="6095880"/>
            <a:ext cx="610920" cy="253800"/>
            <a:chOff x="6553080" y="6095880"/>
            <a:chExt cx="610920" cy="253800"/>
          </a:xfrm>
        </p:grpSpPr>
        <p:sp>
          <p:nvSpPr>
            <p:cNvPr id="135" name=""/>
            <p:cNvSpPr/>
            <p:nvPr/>
          </p:nvSpPr>
          <p:spPr>
            <a:xfrm>
              <a:off x="6553080" y="60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13000" y="62416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848000" y="45720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63244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54100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n’t COM about “Objects”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… COM sets out to solve system software problems that arise when hooking up randomly evolving combinations of bi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… from the perspective of these new kinds of objects also called “componen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object concepts used (but adapted) to solve a different (but overlapping) set of requirements in a different problem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services can be called more naturally from O-O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OT complements language 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82760" y="1936800"/>
            <a:ext cx="8254800" cy="3778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9640" y="2352600"/>
            <a:ext cx="1192320" cy="679680"/>
          </a:xfrm>
          <a:custGeom>
            <a:avLst/>
            <a:gdLst/>
            <a:ahLst/>
            <a:rect l="l" t="t" r="r" b="b"/>
            <a:pathLst>
              <a:path w="751" h="428">
                <a:moveTo>
                  <a:pt x="107" y="427"/>
                </a:moveTo>
                <a:lnTo>
                  <a:pt x="643" y="427"/>
                </a:lnTo>
                <a:lnTo>
                  <a:pt x="668" y="424"/>
                </a:lnTo>
                <a:lnTo>
                  <a:pt x="690" y="417"/>
                </a:lnTo>
                <a:lnTo>
                  <a:pt x="710" y="404"/>
                </a:lnTo>
                <a:lnTo>
                  <a:pt x="728" y="387"/>
                </a:lnTo>
                <a:lnTo>
                  <a:pt x="740" y="367"/>
                </a:lnTo>
                <a:lnTo>
                  <a:pt x="748" y="344"/>
                </a:lnTo>
                <a:lnTo>
                  <a:pt x="750" y="320"/>
                </a:lnTo>
                <a:lnTo>
                  <a:pt x="750" y="107"/>
                </a:lnTo>
                <a:lnTo>
                  <a:pt x="748" y="84"/>
                </a:lnTo>
                <a:lnTo>
                  <a:pt x="740" y="61"/>
                </a:lnTo>
                <a:lnTo>
                  <a:pt x="728" y="41"/>
                </a:lnTo>
                <a:lnTo>
                  <a:pt x="710" y="24"/>
                </a:lnTo>
                <a:lnTo>
                  <a:pt x="690" y="11"/>
                </a:lnTo>
                <a:lnTo>
                  <a:pt x="668" y="3"/>
                </a:lnTo>
                <a:lnTo>
                  <a:pt x="643" y="0"/>
                </a:lnTo>
                <a:lnTo>
                  <a:pt x="107" y="0"/>
                </a:lnTo>
                <a:lnTo>
                  <a:pt x="84" y="3"/>
                </a:lnTo>
                <a:lnTo>
                  <a:pt x="62" y="11"/>
                </a:lnTo>
                <a:lnTo>
                  <a:pt x="42" y="24"/>
                </a:lnTo>
                <a:lnTo>
                  <a:pt x="24" y="41"/>
                </a:lnTo>
                <a:lnTo>
                  <a:pt x="11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1" y="367"/>
                </a:lnTo>
                <a:lnTo>
                  <a:pt x="24" y="387"/>
                </a:lnTo>
                <a:lnTo>
                  <a:pt x="42" y="404"/>
                </a:lnTo>
                <a:lnTo>
                  <a:pt x="62" y="417"/>
                </a:lnTo>
                <a:lnTo>
                  <a:pt x="84" y="424"/>
                </a:lnTo>
                <a:lnTo>
                  <a:pt x="107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11960" y="25322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5680" y="2352600"/>
            <a:ext cx="1276200" cy="679680"/>
          </a:xfrm>
          <a:custGeom>
            <a:avLst/>
            <a:gdLst/>
            <a:ahLst/>
            <a:rect l="l" t="t" r="r" b="b"/>
            <a:pathLst>
              <a:path w="752" h="428">
                <a:moveTo>
                  <a:pt x="108" y="427"/>
                </a:moveTo>
                <a:lnTo>
                  <a:pt x="644" y="427"/>
                </a:lnTo>
                <a:lnTo>
                  <a:pt x="668" y="424"/>
                </a:lnTo>
                <a:lnTo>
                  <a:pt x="691" y="417"/>
                </a:lnTo>
                <a:lnTo>
                  <a:pt x="711" y="404"/>
                </a:lnTo>
                <a:lnTo>
                  <a:pt x="728" y="387"/>
                </a:lnTo>
                <a:lnTo>
                  <a:pt x="741" y="367"/>
                </a:lnTo>
                <a:lnTo>
                  <a:pt x="748" y="344"/>
                </a:lnTo>
                <a:lnTo>
                  <a:pt x="751" y="320"/>
                </a:lnTo>
                <a:lnTo>
                  <a:pt x="751" y="107"/>
                </a:lnTo>
                <a:lnTo>
                  <a:pt x="748" y="84"/>
                </a:lnTo>
                <a:lnTo>
                  <a:pt x="741" y="61"/>
                </a:lnTo>
                <a:lnTo>
                  <a:pt x="728" y="41"/>
                </a:lnTo>
                <a:lnTo>
                  <a:pt x="711" y="24"/>
                </a:lnTo>
                <a:lnTo>
                  <a:pt x="691" y="11"/>
                </a:lnTo>
                <a:lnTo>
                  <a:pt x="668" y="3"/>
                </a:lnTo>
                <a:lnTo>
                  <a:pt x="644" y="0"/>
                </a:lnTo>
                <a:lnTo>
                  <a:pt x="108" y="0"/>
                </a:lnTo>
                <a:lnTo>
                  <a:pt x="85" y="3"/>
                </a:lnTo>
                <a:lnTo>
                  <a:pt x="62" y="11"/>
                </a:lnTo>
                <a:lnTo>
                  <a:pt x="42" y="24"/>
                </a:lnTo>
                <a:lnTo>
                  <a:pt x="25" y="41"/>
                </a:lnTo>
                <a:lnTo>
                  <a:pt x="12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2" y="367"/>
                </a:lnTo>
                <a:lnTo>
                  <a:pt x="25" y="387"/>
                </a:lnTo>
                <a:lnTo>
                  <a:pt x="42" y="404"/>
                </a:lnTo>
                <a:lnTo>
                  <a:pt x="62" y="417"/>
                </a:lnTo>
                <a:lnTo>
                  <a:pt x="85" y="424"/>
                </a:lnTo>
                <a:lnTo>
                  <a:pt x="108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8040" y="2550960"/>
            <a:ext cx="13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1520" y="2651040"/>
            <a:ext cx="254160" cy="84240"/>
            <a:chOff x="6851520" y="2651040"/>
            <a:chExt cx="254160" cy="84240"/>
          </a:xfrm>
        </p:grpSpPr>
        <p:sp>
          <p:nvSpPr>
            <p:cNvPr id="151" name=""/>
            <p:cNvSpPr/>
            <p:nvPr/>
          </p:nvSpPr>
          <p:spPr>
            <a:xfrm>
              <a:off x="6935760" y="269064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1520" y="26510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25"/>
                  </a:moveTo>
                  <a:lnTo>
                    <a:pt x="3" y="14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52" y="14"/>
                  </a:lnTo>
                  <a:lnTo>
                    <a:pt x="53" y="25"/>
                  </a:lnTo>
                  <a:lnTo>
                    <a:pt x="52" y="37"/>
                  </a:lnTo>
                  <a:lnTo>
                    <a:pt x="43" y="47"/>
                  </a:lnTo>
                  <a:lnTo>
                    <a:pt x="33" y="52"/>
                  </a:lnTo>
                  <a:lnTo>
                    <a:pt x="20" y="52"/>
                  </a:lnTo>
                  <a:lnTo>
                    <a:pt x="10" y="47"/>
                  </a:lnTo>
                  <a:lnTo>
                    <a:pt x="3" y="37"/>
                  </a:lnTo>
                  <a:lnTo>
                    <a:pt x="0" y="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7560" y="2690640"/>
            <a:ext cx="4846680" cy="1009440"/>
            <a:chOff x="1987560" y="2690640"/>
            <a:chExt cx="4846680" cy="1009440"/>
          </a:xfrm>
        </p:grpSpPr>
        <p:sp>
          <p:nvSpPr>
            <p:cNvPr id="154" name=""/>
            <p:cNvSpPr/>
            <p:nvPr/>
          </p:nvSpPr>
          <p:spPr>
            <a:xfrm>
              <a:off x="1987560" y="2690640"/>
              <a:ext cx="484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0040" y="3241800"/>
              <a:ext cx="1623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000160" y="2685960"/>
            <a:ext cx="3366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362320" y="2362320"/>
            <a:ext cx="4502880" cy="1196280"/>
            <a:chOff x="2362320" y="2362320"/>
            <a:chExt cx="4502880" cy="1196280"/>
          </a:xfrm>
        </p:grpSpPr>
        <p:sp>
          <p:nvSpPr>
            <p:cNvPr id="158" name=""/>
            <p:cNvSpPr/>
            <p:nvPr/>
          </p:nvSpPr>
          <p:spPr>
            <a:xfrm>
              <a:off x="2362320" y="3040200"/>
              <a:ext cx="1022040" cy="511200"/>
            </a:xfrm>
            <a:custGeom>
              <a:avLst/>
              <a:gdLst/>
              <a:ahLst/>
              <a:rect l="l" t="t" r="r" b="b"/>
              <a:pathLst>
                <a:path w="644" h="322">
                  <a:moveTo>
                    <a:pt x="0" y="321"/>
                  </a:moveTo>
                  <a:lnTo>
                    <a:pt x="643" y="321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8d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62320" y="2362320"/>
              <a:ext cx="4502880" cy="1196280"/>
              <a:chOff x="2362320" y="2362320"/>
              <a:chExt cx="4502880" cy="11962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362320" y="2362320"/>
                <a:ext cx="4502880" cy="1196280"/>
                <a:chOff x="2362320" y="2362320"/>
                <a:chExt cx="4502880" cy="11962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362320" y="2362320"/>
                  <a:ext cx="1702800" cy="679680"/>
                  <a:chOff x="2362320" y="2362320"/>
                  <a:chExt cx="1702800" cy="679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70180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1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1" y="0"/>
                        </a:lnTo>
                        <a:lnTo>
                          <a:pt x="107" y="0"/>
                        </a:lnTo>
                        <a:lnTo>
                          <a:pt x="85" y="3"/>
                        </a:lnTo>
                        <a:lnTo>
                          <a:pt x="62" y="11"/>
                        </a:lnTo>
                        <a:lnTo>
                          <a:pt x="42" y="24"/>
                        </a:lnTo>
                        <a:lnTo>
                          <a:pt x="25" y="41"/>
                        </a:lnTo>
                        <a:lnTo>
                          <a:pt x="12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2" y="367"/>
                        </a:lnTo>
                        <a:lnTo>
                          <a:pt x="25" y="387"/>
                        </a:lnTo>
                        <a:lnTo>
                          <a:pt x="42" y="404"/>
                        </a:lnTo>
                        <a:lnTo>
                          <a:pt x="62" y="417"/>
                        </a:lnTo>
                        <a:lnTo>
                          <a:pt x="85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2362320" y="2660760"/>
                    <a:ext cx="339120" cy="84240"/>
                    <a:chOff x="2362320" y="2660760"/>
                    <a:chExt cx="339120" cy="8424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447640" y="2700360"/>
                      <a:ext cx="253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362320" y="2660760"/>
                      <a:ext cx="871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3">
                          <a:moveTo>
                            <a:pt x="0" y="25"/>
                          </a:moveTo>
                          <a:lnTo>
                            <a:pt x="3" y="14"/>
                          </a:lnTo>
                          <a:lnTo>
                            <a:pt x="10" y="5"/>
                          </a:lnTo>
                          <a:lnTo>
                            <a:pt x="21" y="0"/>
                          </a:lnTo>
                          <a:lnTo>
                            <a:pt x="33" y="0"/>
                          </a:lnTo>
                          <a:lnTo>
                            <a:pt x="44" y="5"/>
                          </a:lnTo>
                          <a:lnTo>
                            <a:pt x="51" y="14"/>
                          </a:lnTo>
                          <a:lnTo>
                            <a:pt x="54" y="25"/>
                          </a:lnTo>
                          <a:lnTo>
                            <a:pt x="51" y="37"/>
                          </a:lnTo>
                          <a:lnTo>
                            <a:pt x="44" y="47"/>
                          </a:lnTo>
                          <a:lnTo>
                            <a:pt x="33" y="52"/>
                          </a:lnTo>
                          <a:lnTo>
                            <a:pt x="21" y="52"/>
                          </a:lnTo>
                          <a:lnTo>
                            <a:pt x="10" y="47"/>
                          </a:lnTo>
                          <a:lnTo>
                            <a:pt x="3" y="37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288288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4744800" y="3015000"/>
                  <a:ext cx="2042640" cy="543600"/>
                  <a:chOff x="4744800" y="3015000"/>
                  <a:chExt cx="2042640" cy="5436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7654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66ff"/>
                      </a:gs>
                      <a:gs pos="100000">
                        <a:srgbClr val="b146b1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7448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cc"/>
                      </a:gs>
                      <a:gs pos="100000">
                        <a:srgbClr val="00008d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782960" y="3222720"/>
                    <a:ext cx="99576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ovid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801680" y="3015000"/>
                    <a:ext cx="9853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ecurit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47760" y="3148200"/>
                    <a:ext cx="78264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P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084640" y="2362320"/>
                  <a:ext cx="1780560" cy="679680"/>
                  <a:chOff x="5084640" y="2362320"/>
                  <a:chExt cx="1780560" cy="679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08464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0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0" y="0"/>
                        </a:lnTo>
                        <a:lnTo>
                          <a:pt x="107" y="0"/>
                        </a:lnTo>
                        <a:lnTo>
                          <a:pt x="84" y="3"/>
                        </a:lnTo>
                        <a:lnTo>
                          <a:pt x="61" y="11"/>
                        </a:lnTo>
                        <a:lnTo>
                          <a:pt x="41" y="24"/>
                        </a:lnTo>
                        <a:lnTo>
                          <a:pt x="24" y="41"/>
                        </a:lnTo>
                        <a:lnTo>
                          <a:pt x="11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1" y="367"/>
                        </a:lnTo>
                        <a:lnTo>
                          <a:pt x="24" y="387"/>
                        </a:lnTo>
                        <a:lnTo>
                          <a:pt x="41" y="404"/>
                        </a:lnTo>
                        <a:lnTo>
                          <a:pt x="61" y="417"/>
                        </a:lnTo>
                        <a:lnTo>
                          <a:pt x="84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8300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440040" y="2702160"/>
                    <a:ext cx="42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2383200" y="3015000"/>
                <a:ext cx="2021400" cy="543600"/>
                <a:chOff x="2383200" y="3015000"/>
                <a:chExt cx="2021400" cy="543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82560" y="3040200"/>
                  <a:ext cx="1022040" cy="511200"/>
                </a:xfrm>
                <a:custGeom>
                  <a:avLst/>
                  <a:gdLst/>
                  <a:ahLst/>
                  <a:rect l="l" t="t" r="r" b="b"/>
                  <a:pathLst>
                    <a:path w="644" h="322">
                      <a:moveTo>
                        <a:pt x="0" y="321"/>
                      </a:moveTo>
                      <a:lnTo>
                        <a:pt x="643" y="321"/>
                      </a:lnTo>
                      <a:lnTo>
                        <a:pt x="643" y="0"/>
                      </a:lnTo>
                      <a:lnTo>
                        <a:pt x="0" y="0"/>
                      </a:lnTo>
                      <a:lnTo>
                        <a:pt x="0" y="321"/>
                      </a:lnTo>
                    </a:path>
                  </a:pathLst>
                </a:custGeom>
                <a:gradFill rotWithShape="0">
                  <a:gsLst>
                    <a:gs pos="0">
                      <a:srgbClr val="ff66ff"/>
                    </a:gs>
                    <a:gs pos="100000">
                      <a:srgbClr val="b146b1"/>
                    </a:gs>
                  </a:gsLst>
                  <a:lin ang="13500000"/>
                </a:gra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12360" y="3015000"/>
                  <a:ext cx="985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83200" y="3222720"/>
                  <a:ext cx="995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v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366720" y="3148200"/>
                  <a:ext cx="8391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P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" name=""/>
          <p:cNvGrpSpPr/>
          <p:nvPr/>
        </p:nvGrpSpPr>
        <p:grpSpPr>
          <a:xfrm>
            <a:off x="2338560" y="3524400"/>
            <a:ext cx="4424040" cy="1199520"/>
            <a:chOff x="2338560" y="3524400"/>
            <a:chExt cx="4424040" cy="1199520"/>
          </a:xfrm>
        </p:grpSpPr>
        <p:sp>
          <p:nvSpPr>
            <p:cNvPr id="183" name=""/>
            <p:cNvSpPr/>
            <p:nvPr/>
          </p:nvSpPr>
          <p:spPr>
            <a:xfrm>
              <a:off x="4009680" y="4265640"/>
              <a:ext cx="98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338560" y="3524400"/>
              <a:ext cx="4424040" cy="550800"/>
              <a:chOff x="2338560" y="3524400"/>
              <a:chExt cx="4424040" cy="550800"/>
            </a:xfrm>
          </p:grpSpPr>
          <p:sp>
            <p:nvSpPr>
              <p:cNvPr id="185" name=""/>
              <p:cNvSpPr/>
              <p:nvPr/>
            </p:nvSpPr>
            <p:spPr>
              <a:xfrm>
                <a:off x="2338560" y="3524400"/>
                <a:ext cx="4424040" cy="550800"/>
              </a:xfrm>
              <a:custGeom>
                <a:avLst/>
                <a:gdLst/>
                <a:ahLst/>
                <a:rect l="l" t="t" r="r" b="b"/>
                <a:pathLst>
                  <a:path w="2787" h="347">
                    <a:moveTo>
                      <a:pt x="0" y="346"/>
                    </a:moveTo>
                    <a:lnTo>
                      <a:pt x="2786" y="346"/>
                    </a:lnTo>
                    <a:lnTo>
                      <a:pt x="2786" y="0"/>
                    </a:lnTo>
                    <a:lnTo>
                      <a:pt x="0" y="0"/>
                    </a:lnTo>
                    <a:lnTo>
                      <a:pt x="0" y="346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2600" y="3638520"/>
                <a:ext cx="59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341440" y="3540240"/>
            <a:ext cx="4426200" cy="1676160"/>
            <a:chOff x="2341440" y="3540240"/>
            <a:chExt cx="4426200" cy="1676160"/>
          </a:xfrm>
        </p:grpSpPr>
        <p:grpSp>
          <p:nvGrpSpPr>
            <p:cNvPr id="188" name=""/>
            <p:cNvGrpSpPr/>
            <p:nvPr/>
          </p:nvGrpSpPr>
          <p:grpSpPr>
            <a:xfrm>
              <a:off x="2341440" y="3540240"/>
              <a:ext cx="2043360" cy="525240"/>
              <a:chOff x="2341440" y="3540240"/>
              <a:chExt cx="2043360" cy="525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34144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7652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724280" y="3540240"/>
              <a:ext cx="2043360" cy="525240"/>
              <a:chOff x="4724280" y="3540240"/>
              <a:chExt cx="2043360" cy="525240"/>
            </a:xfrm>
          </p:grpSpPr>
          <p:sp>
            <p:nvSpPr>
              <p:cNvPr id="192" name=""/>
              <p:cNvSpPr/>
              <p:nvPr/>
            </p:nvSpPr>
            <p:spPr>
              <a:xfrm>
                <a:off x="472428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936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209760" y="4064040"/>
              <a:ext cx="2775240" cy="1152360"/>
              <a:chOff x="3209760" y="4064040"/>
              <a:chExt cx="2775240" cy="1152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733920" y="4324320"/>
                <a:ext cx="1716120" cy="892080"/>
              </a:xfrm>
              <a:custGeom>
                <a:avLst/>
                <a:gdLst/>
                <a:ahLst/>
                <a:rect l="l" t="t" r="r" b="b"/>
                <a:pathLst>
                  <a:path w="1081" h="562">
                    <a:moveTo>
                      <a:pt x="159" y="416"/>
                    </a:moveTo>
                    <a:lnTo>
                      <a:pt x="176" y="449"/>
                    </a:lnTo>
                    <a:lnTo>
                      <a:pt x="200" y="477"/>
                    </a:lnTo>
                    <a:lnTo>
                      <a:pt x="225" y="501"/>
                    </a:lnTo>
                    <a:lnTo>
                      <a:pt x="253" y="523"/>
                    </a:lnTo>
                    <a:lnTo>
                      <a:pt x="283" y="540"/>
                    </a:lnTo>
                    <a:lnTo>
                      <a:pt x="315" y="551"/>
                    </a:lnTo>
                    <a:lnTo>
                      <a:pt x="349" y="558"/>
                    </a:lnTo>
                    <a:lnTo>
                      <a:pt x="382" y="561"/>
                    </a:lnTo>
                    <a:lnTo>
                      <a:pt x="417" y="558"/>
                    </a:lnTo>
                    <a:lnTo>
                      <a:pt x="449" y="551"/>
                    </a:lnTo>
                    <a:lnTo>
                      <a:pt x="481" y="539"/>
                    </a:lnTo>
                    <a:lnTo>
                      <a:pt x="513" y="521"/>
                    </a:lnTo>
                    <a:lnTo>
                      <a:pt x="538" y="500"/>
                    </a:lnTo>
                    <a:lnTo>
                      <a:pt x="567" y="521"/>
                    </a:lnTo>
                    <a:lnTo>
                      <a:pt x="598" y="539"/>
                    </a:lnTo>
                    <a:lnTo>
                      <a:pt x="630" y="551"/>
                    </a:lnTo>
                    <a:lnTo>
                      <a:pt x="663" y="558"/>
                    </a:lnTo>
                    <a:lnTo>
                      <a:pt x="696" y="561"/>
                    </a:lnTo>
                    <a:lnTo>
                      <a:pt x="730" y="558"/>
                    </a:lnTo>
                    <a:lnTo>
                      <a:pt x="764" y="551"/>
                    </a:lnTo>
                    <a:lnTo>
                      <a:pt x="796" y="540"/>
                    </a:lnTo>
                    <a:lnTo>
                      <a:pt x="826" y="523"/>
                    </a:lnTo>
                    <a:lnTo>
                      <a:pt x="854" y="501"/>
                    </a:lnTo>
                    <a:lnTo>
                      <a:pt x="879" y="477"/>
                    </a:lnTo>
                    <a:lnTo>
                      <a:pt x="903" y="449"/>
                    </a:lnTo>
                    <a:lnTo>
                      <a:pt x="921" y="416"/>
                    </a:lnTo>
                    <a:lnTo>
                      <a:pt x="942" y="420"/>
                    </a:lnTo>
                    <a:lnTo>
                      <a:pt x="965" y="420"/>
                    </a:lnTo>
                    <a:lnTo>
                      <a:pt x="988" y="415"/>
                    </a:lnTo>
                    <a:lnTo>
                      <a:pt x="1010" y="406"/>
                    </a:lnTo>
                    <a:lnTo>
                      <a:pt x="1030" y="392"/>
                    </a:lnTo>
                    <a:lnTo>
                      <a:pt x="1046" y="375"/>
                    </a:lnTo>
                    <a:lnTo>
                      <a:pt x="1060" y="353"/>
                    </a:lnTo>
                    <a:lnTo>
                      <a:pt x="1071" y="331"/>
                    </a:lnTo>
                    <a:lnTo>
                      <a:pt x="1076" y="306"/>
                    </a:lnTo>
                    <a:lnTo>
                      <a:pt x="1080" y="281"/>
                    </a:lnTo>
                    <a:lnTo>
                      <a:pt x="1076" y="255"/>
                    </a:lnTo>
                    <a:lnTo>
                      <a:pt x="1071" y="231"/>
                    </a:lnTo>
                    <a:lnTo>
                      <a:pt x="1060" y="208"/>
                    </a:lnTo>
                    <a:lnTo>
                      <a:pt x="1046" y="187"/>
                    </a:lnTo>
                    <a:lnTo>
                      <a:pt x="1030" y="170"/>
                    </a:lnTo>
                    <a:lnTo>
                      <a:pt x="1010" y="157"/>
                    </a:lnTo>
                    <a:lnTo>
                      <a:pt x="988" y="147"/>
                    </a:lnTo>
                    <a:lnTo>
                      <a:pt x="965" y="141"/>
                    </a:lnTo>
                    <a:lnTo>
                      <a:pt x="942" y="141"/>
                    </a:lnTo>
                    <a:lnTo>
                      <a:pt x="921" y="145"/>
                    </a:lnTo>
                    <a:lnTo>
                      <a:pt x="903" y="114"/>
                    </a:lnTo>
                    <a:lnTo>
                      <a:pt x="879" y="85"/>
                    </a:lnTo>
                    <a:lnTo>
                      <a:pt x="854" y="60"/>
                    </a:lnTo>
                    <a:lnTo>
                      <a:pt x="826" y="38"/>
                    </a:lnTo>
                    <a:lnTo>
                      <a:pt x="796" y="21"/>
                    </a:lnTo>
                    <a:lnTo>
                      <a:pt x="764" y="10"/>
                    </a:lnTo>
                    <a:lnTo>
                      <a:pt x="730" y="3"/>
                    </a:lnTo>
                    <a:lnTo>
                      <a:pt x="696" y="0"/>
                    </a:lnTo>
                    <a:lnTo>
                      <a:pt x="663" y="3"/>
                    </a:lnTo>
                    <a:lnTo>
                      <a:pt x="630" y="11"/>
                    </a:lnTo>
                    <a:lnTo>
                      <a:pt x="598" y="23"/>
                    </a:lnTo>
                    <a:lnTo>
                      <a:pt x="567" y="40"/>
                    </a:lnTo>
                    <a:lnTo>
                      <a:pt x="538" y="61"/>
                    </a:lnTo>
                    <a:lnTo>
                      <a:pt x="513" y="40"/>
                    </a:lnTo>
                    <a:lnTo>
                      <a:pt x="481" y="23"/>
                    </a:lnTo>
                    <a:lnTo>
                      <a:pt x="449" y="11"/>
                    </a:lnTo>
                    <a:lnTo>
                      <a:pt x="417" y="3"/>
                    </a:lnTo>
                    <a:lnTo>
                      <a:pt x="382" y="0"/>
                    </a:lnTo>
                    <a:lnTo>
                      <a:pt x="349" y="3"/>
                    </a:lnTo>
                    <a:lnTo>
                      <a:pt x="315" y="10"/>
                    </a:lnTo>
                    <a:lnTo>
                      <a:pt x="283" y="21"/>
                    </a:lnTo>
                    <a:lnTo>
                      <a:pt x="253" y="38"/>
                    </a:lnTo>
                    <a:lnTo>
                      <a:pt x="225" y="60"/>
                    </a:lnTo>
                    <a:lnTo>
                      <a:pt x="200" y="85"/>
                    </a:lnTo>
                    <a:lnTo>
                      <a:pt x="176" y="114"/>
                    </a:lnTo>
                    <a:lnTo>
                      <a:pt x="159" y="145"/>
                    </a:lnTo>
                    <a:lnTo>
                      <a:pt x="136" y="141"/>
                    </a:lnTo>
                    <a:lnTo>
                      <a:pt x="113" y="141"/>
                    </a:lnTo>
                    <a:lnTo>
                      <a:pt x="91" y="147"/>
                    </a:lnTo>
                    <a:lnTo>
                      <a:pt x="70" y="157"/>
                    </a:lnTo>
                    <a:lnTo>
                      <a:pt x="49" y="170"/>
                    </a:lnTo>
                    <a:lnTo>
                      <a:pt x="33" y="187"/>
                    </a:lnTo>
                    <a:lnTo>
                      <a:pt x="18" y="208"/>
                    </a:lnTo>
                    <a:lnTo>
                      <a:pt x="9" y="231"/>
                    </a:lnTo>
                    <a:lnTo>
                      <a:pt x="2" y="255"/>
                    </a:lnTo>
                    <a:lnTo>
                      <a:pt x="0" y="281"/>
                    </a:lnTo>
                    <a:lnTo>
                      <a:pt x="2" y="306"/>
                    </a:lnTo>
                    <a:lnTo>
                      <a:pt x="9" y="331"/>
                    </a:lnTo>
                    <a:lnTo>
                      <a:pt x="18" y="353"/>
                    </a:lnTo>
                    <a:lnTo>
                      <a:pt x="33" y="375"/>
                    </a:lnTo>
                    <a:lnTo>
                      <a:pt x="49" y="392"/>
                    </a:lnTo>
                    <a:lnTo>
                      <a:pt x="70" y="406"/>
                    </a:lnTo>
                    <a:lnTo>
                      <a:pt x="91" y="415"/>
                    </a:lnTo>
                    <a:lnTo>
                      <a:pt x="113" y="420"/>
                    </a:lnTo>
                    <a:lnTo>
                      <a:pt x="136" y="420"/>
                    </a:lnTo>
                    <a:lnTo>
                      <a:pt x="159" y="416"/>
                    </a:lnTo>
                  </a:path>
                </a:pathLst>
              </a:custGeom>
              <a:gradFill rotWithShape="0">
                <a:gsLst>
                  <a:gs pos="0">
                    <a:srgbClr val="4f494d"/>
                  </a:gs>
                  <a:gs pos="100000">
                    <a:srgbClr val="464144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78560" y="4557600"/>
                <a:ext cx="170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COM network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84200" y="4795920"/>
                <a:ext cx="994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3209760" y="4064040"/>
                <a:ext cx="452520" cy="708120"/>
                <a:chOff x="3209760" y="4064040"/>
                <a:chExt cx="452520" cy="7081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09760" y="4064040"/>
                  <a:ext cx="392400" cy="639720"/>
                </a:xfrm>
                <a:custGeom>
                  <a:avLst/>
                  <a:gdLst/>
                  <a:ahLst/>
                  <a:rect l="l" t="t" r="r" b="b"/>
                  <a:pathLst>
                    <a:path w="247" h="403">
                      <a:moveTo>
                        <a:pt x="0" y="0"/>
                      </a:moveTo>
                      <a:lnTo>
                        <a:pt x="217" y="238"/>
                      </a:lnTo>
                      <a:lnTo>
                        <a:pt x="69" y="205"/>
                      </a:lnTo>
                      <a:lnTo>
                        <a:pt x="246" y="402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52840" y="4656240"/>
                  <a:ext cx="109440" cy="115920"/>
                </a:xfrm>
                <a:custGeom>
                  <a:avLst/>
                  <a:gdLst/>
                  <a:ahLst/>
                  <a:rect l="l" t="t" r="r" b="b"/>
                  <a:pathLst>
                    <a:path w="69" h="73">
                      <a:moveTo>
                        <a:pt x="48" y="0"/>
                      </a:moveTo>
                      <a:lnTo>
                        <a:pt x="68" y="72"/>
                      </a:lnTo>
                      <a:lnTo>
                        <a:pt x="0" y="45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24560" y="4083120"/>
                <a:ext cx="460440" cy="708120"/>
                <a:chOff x="5524560" y="4083120"/>
                <a:chExt cx="460440" cy="708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24560" y="4167000"/>
                  <a:ext cx="415800" cy="624240"/>
                </a:xfrm>
                <a:custGeom>
                  <a:avLst/>
                  <a:gdLst/>
                  <a:ahLst/>
                  <a:rect l="l" t="t" r="r" b="b"/>
                  <a:pathLst>
                    <a:path w="262" h="393">
                      <a:moveTo>
                        <a:pt x="0" y="392"/>
                      </a:moveTo>
                      <a:lnTo>
                        <a:pt x="124" y="95"/>
                      </a:lnTo>
                      <a:lnTo>
                        <a:pt x="157" y="243"/>
                      </a:lnTo>
                      <a:lnTo>
                        <a:pt x="261" y="0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84920" y="4083120"/>
                  <a:ext cx="100080" cy="117360"/>
                </a:xfrm>
                <a:custGeom>
                  <a:avLst/>
                  <a:gdLst/>
                  <a:ahLst/>
                  <a:rect l="l" t="t" r="r" b="b"/>
                  <a:pathLst>
                    <a:path w="63" h="74">
                      <a:moveTo>
                        <a:pt x="0" y="47"/>
                      </a:moveTo>
                      <a:lnTo>
                        <a:pt x="56" y="0"/>
                      </a:lnTo>
                      <a:lnTo>
                        <a:pt x="62" y="73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4" name=""/>
          <p:cNvSpPr/>
          <p:nvPr/>
        </p:nvSpPr>
        <p:spPr>
          <a:xfrm>
            <a:off x="6517080" y="481320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COM “with a longer wir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M components communicate in the sam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process, Out-of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Local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Wide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tools, knowledge,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DCE RPC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le with OSF DCE RPC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“ORPC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 and Sca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ed in Internet-D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://ietf.org/internet-drafts/draft-brown-dcom-v1-spec-01.t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model” is about how the technology i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 is how it’s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the COM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onent Objec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1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1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2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4290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8862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X,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3434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B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8006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52578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c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34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36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39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43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46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962520" y="3809880"/>
          <a:ext cx="6825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682560" cy="131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Security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5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5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8769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4197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9625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L, Ce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35053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73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78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82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85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797440" y="4114800"/>
            <a:ext cx="2419560" cy="2286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308640" y="4724280"/>
            <a:ext cx="1234800" cy="739800"/>
            <a:chOff x="6308640" y="4724280"/>
            <a:chExt cx="1234800" cy="739800"/>
          </a:xfrm>
        </p:grpSpPr>
        <p:grpSp>
          <p:nvGrpSpPr>
            <p:cNvPr id="290" name=""/>
            <p:cNvGrpSpPr/>
            <p:nvPr/>
          </p:nvGrpSpPr>
          <p:grpSpPr>
            <a:xfrm>
              <a:off x="6308640" y="4770360"/>
              <a:ext cx="469800" cy="378000"/>
              <a:chOff x="6308640" y="4770360"/>
              <a:chExt cx="469800" cy="378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89360" y="49500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00680" y="48006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69000" y="477036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84600" y="5027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08640" y="49942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892560" y="4724280"/>
              <a:ext cx="470160" cy="379440"/>
              <a:chOff x="6892560" y="4724280"/>
              <a:chExt cx="470160" cy="379440"/>
            </a:xfrm>
          </p:grpSpPr>
          <p:sp>
            <p:nvSpPr>
              <p:cNvPr id="297" name=""/>
              <p:cNvSpPr/>
              <p:nvPr/>
            </p:nvSpPr>
            <p:spPr>
              <a:xfrm>
                <a:off x="7073640" y="49053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86400" y="4757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54720" y="47242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120" y="49816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92560" y="495000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495840" y="5084640"/>
              <a:ext cx="469800" cy="379440"/>
              <a:chOff x="6495840" y="5084640"/>
              <a:chExt cx="469800" cy="379440"/>
            </a:xfrm>
          </p:grpSpPr>
          <p:sp>
            <p:nvSpPr>
              <p:cNvPr id="303" name=""/>
              <p:cNvSpPr/>
              <p:nvPr/>
            </p:nvSpPr>
            <p:spPr>
              <a:xfrm>
                <a:off x="6675120" y="526428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89680" y="511668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6200" y="508464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73600" y="534204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5840" y="53085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7254720" y="5219640"/>
              <a:ext cx="288720" cy="19872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7480" y="5072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4000" y="504036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51400" y="529596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73640" y="526428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02320" y="5572080"/>
            <a:ext cx="1235160" cy="739800"/>
            <a:chOff x="6502320" y="5572080"/>
            <a:chExt cx="1235160" cy="739800"/>
          </a:xfrm>
        </p:grpSpPr>
        <p:grpSp>
          <p:nvGrpSpPr>
            <p:cNvPr id="314" name=""/>
            <p:cNvGrpSpPr/>
            <p:nvPr/>
          </p:nvGrpSpPr>
          <p:grpSpPr>
            <a:xfrm>
              <a:off x="6502320" y="5618160"/>
              <a:ext cx="469800" cy="378000"/>
              <a:chOff x="6502320" y="5618160"/>
              <a:chExt cx="469800" cy="378000"/>
            </a:xfrm>
          </p:grpSpPr>
          <p:sp>
            <p:nvSpPr>
              <p:cNvPr id="315" name=""/>
              <p:cNvSpPr/>
              <p:nvPr/>
            </p:nvSpPr>
            <p:spPr>
              <a:xfrm>
                <a:off x="6683400" y="5797440"/>
                <a:ext cx="28872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94360" y="56484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62680" y="56181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8640" y="587520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02320" y="58420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086600" y="5572080"/>
              <a:ext cx="469800" cy="379440"/>
              <a:chOff x="7086600" y="5572080"/>
              <a:chExt cx="469800" cy="379440"/>
            </a:xfrm>
          </p:grpSpPr>
          <p:sp>
            <p:nvSpPr>
              <p:cNvPr id="321" name=""/>
              <p:cNvSpPr/>
              <p:nvPr/>
            </p:nvSpPr>
            <p:spPr>
              <a:xfrm>
                <a:off x="7267320" y="57531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80080" y="5605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48400" y="55720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65800" y="582948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86600" y="579744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689520" y="5932440"/>
              <a:ext cx="470160" cy="379440"/>
              <a:chOff x="6689520" y="5932440"/>
              <a:chExt cx="470160" cy="379440"/>
            </a:xfrm>
          </p:grpSpPr>
          <p:sp>
            <p:nvSpPr>
              <p:cNvPr id="327" name=""/>
              <p:cNvSpPr/>
              <p:nvPr/>
            </p:nvSpPr>
            <p:spPr>
              <a:xfrm>
                <a:off x="6869160" y="611172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83360" y="5964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49880" y="5932440"/>
                <a:ext cx="6372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7280" y="618984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89520" y="61563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448400" y="606744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61160" y="59198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7680" y="5888160"/>
              <a:ext cx="6372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5080" y="614376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67320" y="61117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57160" y="4343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800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ing - Single Port per-protocol, per server process, regardless of # of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le - Connection-Less Protocols like UDP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d Connection-Oriented (TCP) Sessions Reused by sam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5486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0400" y="4876560"/>
            <a:ext cx="1828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1023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7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4280040"/>
            <a:ext cx="2419200" cy="2349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83560" y="4740120"/>
            <a:ext cx="1234800" cy="739800"/>
            <a:chOff x="6883560" y="4740120"/>
            <a:chExt cx="1234800" cy="739800"/>
          </a:xfrm>
        </p:grpSpPr>
        <p:grpSp>
          <p:nvGrpSpPr>
            <p:cNvPr id="352" name=""/>
            <p:cNvGrpSpPr/>
            <p:nvPr/>
          </p:nvGrpSpPr>
          <p:grpSpPr>
            <a:xfrm>
              <a:off x="6883560" y="4786200"/>
              <a:ext cx="469800" cy="378000"/>
              <a:chOff x="6883560" y="4786200"/>
              <a:chExt cx="469800" cy="3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7064280" y="496584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75600" y="48164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43920" y="478620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59520" y="50436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83560" y="501012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467480" y="4740120"/>
              <a:ext cx="470160" cy="379440"/>
              <a:chOff x="7467480" y="4740120"/>
              <a:chExt cx="470160" cy="37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7648560" y="49212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861320" y="4773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29640" y="474012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47040" y="499752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67480" y="496584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070760" y="5100480"/>
              <a:ext cx="469800" cy="379440"/>
              <a:chOff x="7070760" y="5100480"/>
              <a:chExt cx="469800" cy="37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7250040" y="528012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64600" y="513252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31120" y="51004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8520" y="53578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0760" y="532440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829640" y="5235480"/>
              <a:ext cx="28872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42400" y="50878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8920" y="505620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26320" y="531180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48560" y="52801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035840" y="5578560"/>
            <a:ext cx="1235160" cy="739800"/>
            <a:chOff x="7035840" y="5578560"/>
            <a:chExt cx="1235160" cy="739800"/>
          </a:xfrm>
        </p:grpSpPr>
        <p:grpSp>
          <p:nvGrpSpPr>
            <p:cNvPr id="376" name=""/>
            <p:cNvGrpSpPr/>
            <p:nvPr/>
          </p:nvGrpSpPr>
          <p:grpSpPr>
            <a:xfrm>
              <a:off x="7035840" y="5624640"/>
              <a:ext cx="469800" cy="377640"/>
              <a:chOff x="7035840" y="5624640"/>
              <a:chExt cx="469800" cy="377640"/>
            </a:xfrm>
          </p:grpSpPr>
          <p:sp>
            <p:nvSpPr>
              <p:cNvPr id="377" name=""/>
              <p:cNvSpPr/>
              <p:nvPr/>
            </p:nvSpPr>
            <p:spPr>
              <a:xfrm>
                <a:off x="7216920" y="5803920"/>
                <a:ext cx="28872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27880" y="5654520"/>
                <a:ext cx="0" cy="1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96200" y="562464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12160" y="588168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35840" y="584820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20120" y="5578560"/>
              <a:ext cx="469800" cy="379440"/>
              <a:chOff x="7620120" y="5578560"/>
              <a:chExt cx="469800" cy="379440"/>
            </a:xfrm>
          </p:grpSpPr>
          <p:sp>
            <p:nvSpPr>
              <p:cNvPr id="383" name=""/>
              <p:cNvSpPr/>
              <p:nvPr/>
            </p:nvSpPr>
            <p:spPr>
              <a:xfrm>
                <a:off x="7800840" y="5759280"/>
                <a:ext cx="28908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3600" y="561168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81920" y="55785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99320" y="583560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20120" y="580392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23040" y="5938920"/>
              <a:ext cx="470160" cy="379440"/>
              <a:chOff x="7223040" y="5938920"/>
              <a:chExt cx="470160" cy="379440"/>
            </a:xfrm>
          </p:grpSpPr>
          <p:sp>
            <p:nvSpPr>
              <p:cNvPr id="389" name=""/>
              <p:cNvSpPr/>
              <p:nvPr/>
            </p:nvSpPr>
            <p:spPr>
              <a:xfrm>
                <a:off x="7402680" y="611820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616880" y="5970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83400" y="5938920"/>
                <a:ext cx="6372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00800" y="619596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23040" y="616284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981920" y="607392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4680" y="59263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61200" y="5894280"/>
              <a:ext cx="63720" cy="6372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8600" y="614988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0840" y="611820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39640" y="431496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557532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396252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962520"/>
            <a:ext cx="194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ep-Alive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all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7060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5985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644220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020000">
            <a:off x="3339720" y="5568840"/>
            <a:ext cx="2539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gical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 “Sess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is 28 bytes over DCE-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-Alive Messages bundled for all connections between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e - Security is designed and built in. Not an o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g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debugged and tu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 Runtime first shipped in 199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1000s of commercial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today on Win95, NT, Solar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UNIX, HPUX, Linux, MVS, VMS, Mac, and others rolling out this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urce code licensable from The Open Group (formerly OSF and X/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onformance test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! (Built-into Win32 Platfor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parate client access license or expensive “developer”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 of 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743200"/>
            <a:ext cx="8381880" cy="4038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119480"/>
            <a:ext cx="4960800" cy="6368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 and Distributed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191120"/>
            <a:ext cx="2362320" cy="45720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24480" y="4876920"/>
            <a:ext cx="2362320" cy="17524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Security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SS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91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62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1500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53160" y="43434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5791320"/>
            <a:ext cx="83808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7120" y="6095880"/>
            <a:ext cx="11430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200" y="5791320"/>
            <a:ext cx="4960800" cy="8380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Trans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91440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5410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4952880"/>
            <a:ext cx="4960800" cy="60984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S-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6248520"/>
            <a:ext cx="7617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6248520"/>
            <a:ext cx="9903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c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0120" y="6095880"/>
            <a:ext cx="9144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3200400"/>
            <a:ext cx="79246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Servi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utomation, Monikers, Storage, ComCat, Data Transfer, 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057400"/>
            <a:ext cx="8381880" cy="380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mponents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COM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cycl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nformation (Interface Reposi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kers (Nam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on (Dynamic Inv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 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COM (the model, the “ORB”, and the servi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1666800"/>
            <a:ext cx="4791240" cy="4194000"/>
            <a:chOff x="0" y="1666800"/>
            <a:chExt cx="4791240" cy="41940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0" y="1666800"/>
              <a:ext cx="479124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7240" y="2769840"/>
              <a:ext cx="4497480" cy="2851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-360" y="5867280"/>
            <a:ext cx="395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Explorer 3.x/4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46160" y="2897280"/>
            <a:ext cx="2793960" cy="775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ext and im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878360" y="1371600"/>
            <a:ext cx="4151520" cy="2439360"/>
            <a:chOff x="4878360" y="1371600"/>
            <a:chExt cx="4151520" cy="2439360"/>
          </a:xfrm>
        </p:grpSpPr>
        <p:sp>
          <p:nvSpPr>
            <p:cNvPr id="454" name=""/>
            <p:cNvSpPr/>
            <p:nvPr/>
          </p:nvSpPr>
          <p:spPr>
            <a:xfrm flipH="1">
              <a:off x="4878360" y="3276720"/>
              <a:ext cx="258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99520" y="2666880"/>
              <a:ext cx="11095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HTTP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620120" y="1371600"/>
              <a:ext cx="1409760" cy="1352520"/>
              <a:chOff x="7620120" y="1371600"/>
              <a:chExt cx="1409760" cy="135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8672400" y="1371600"/>
                <a:ext cx="35748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1080" y="2363760"/>
                <a:ext cx="442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683480" y="1746360"/>
                <a:ext cx="735120" cy="628560"/>
                <a:chOff x="7683480" y="1746360"/>
                <a:chExt cx="735120" cy="6285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683480" y="1746360"/>
                  <a:ext cx="220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683480" y="1758960"/>
                  <a:ext cx="73512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786800" y="1746360"/>
                  <a:ext cx="534960" cy="6285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683480" y="2171880"/>
                  <a:ext cx="22068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194680" y="2171880"/>
                  <a:ext cx="22392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94680" y="1746360"/>
                  <a:ext cx="223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8996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689960" y="1766880"/>
                  <a:ext cx="71892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92920" y="1754280"/>
                  <a:ext cx="525600" cy="61272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8996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19468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19468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68996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689960" y="1781280"/>
                  <a:ext cx="718920" cy="5522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792920" y="1766880"/>
                  <a:ext cx="52560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8996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9468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9468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99320" y="1765440"/>
                  <a:ext cx="20808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99320" y="1778040"/>
                  <a:ext cx="70488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96160" y="1765440"/>
                  <a:ext cx="512640" cy="5904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99320" y="2168640"/>
                  <a:ext cx="20808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8200" y="2168640"/>
                  <a:ext cx="2160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188200" y="1765440"/>
                  <a:ext cx="21600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53320" y="1951200"/>
                  <a:ext cx="588960" cy="339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753320" y="1830240"/>
                  <a:ext cx="58896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773840" y="1857240"/>
                  <a:ext cx="5479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8291520" y="2325600"/>
                <a:ext cx="540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8736120" y="2376360"/>
                <a:ext cx="212760" cy="84240"/>
                <a:chOff x="8736120" y="2376360"/>
                <a:chExt cx="212760" cy="84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736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755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7724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90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09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8232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423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599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790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930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9121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9298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9488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8736120" y="2470320"/>
                <a:ext cx="212760" cy="82440"/>
                <a:chOff x="8736120" y="2470320"/>
                <a:chExt cx="212760" cy="824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736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755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7724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790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09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232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423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599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790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8930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9121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9298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9488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8721720" y="1406520"/>
                <a:ext cx="250920" cy="509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8729640" y="1838160"/>
                <a:ext cx="236520" cy="86040"/>
                <a:chOff x="8729640" y="1838160"/>
                <a:chExt cx="236520" cy="86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729640" y="1838160"/>
                  <a:ext cx="236520" cy="860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736120" y="184464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729640" y="1838160"/>
                  <a:ext cx="236520" cy="4320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618400" y="1509840"/>
                <a:ext cx="233640" cy="83880"/>
                <a:chOff x="8618400" y="1509840"/>
                <a:chExt cx="233640" cy="838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618400" y="1509840"/>
                  <a:ext cx="233640" cy="83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18400" y="1509840"/>
                  <a:ext cx="2336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8729640" y="1414440"/>
                <a:ext cx="115920" cy="1112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72480" y="1467000"/>
                <a:ext cx="49320" cy="110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772480" y="1450800"/>
                <a:ext cx="4932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772480" y="1494000"/>
                <a:ext cx="4932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782200" y="1482840"/>
                <a:ext cx="4752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742240" y="1452600"/>
                <a:ext cx="367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42240" y="1501920"/>
                <a:ext cx="3672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8729640" y="1673280"/>
                <a:ext cx="236520" cy="85680"/>
                <a:chOff x="8729640" y="1673280"/>
                <a:chExt cx="236520" cy="85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729640" y="1673280"/>
                  <a:ext cx="23652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729640" y="1673280"/>
                  <a:ext cx="2365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8745480" y="1414440"/>
                <a:ext cx="233280" cy="179280"/>
                <a:chOff x="8745480" y="1414440"/>
                <a:chExt cx="233280" cy="179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8745480" y="1506600"/>
                  <a:ext cx="233280" cy="871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745480" y="1506600"/>
                  <a:ext cx="233280" cy="4428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856720" y="1414440"/>
                  <a:ext cx="122040" cy="111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"/>
              <p:cNvSpPr/>
              <p:nvPr/>
            </p:nvSpPr>
            <p:spPr>
              <a:xfrm>
                <a:off x="8721720" y="1922400"/>
                <a:ext cx="25704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729640" y="1930320"/>
                <a:ext cx="16992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906040" y="1930320"/>
                <a:ext cx="6336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91480" y="1389240"/>
                <a:ext cx="311400" cy="92520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729640" y="175104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726400" y="158580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8678880" y="1620720"/>
                <a:ext cx="271440" cy="252360"/>
                <a:chOff x="8678880" y="1620720"/>
                <a:chExt cx="271440" cy="25236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8678880" y="1620720"/>
                  <a:ext cx="27144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685360" y="1627200"/>
                  <a:ext cx="25704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685360" y="1627200"/>
                  <a:ext cx="25704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85360" y="1627200"/>
                  <a:ext cx="257040" cy="2048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8685360" y="1627200"/>
                  <a:ext cx="25704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685360" y="1627200"/>
                  <a:ext cx="257040" cy="19692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685360" y="1627200"/>
                  <a:ext cx="25704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685360" y="1627200"/>
                  <a:ext cx="25704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685360" y="1627200"/>
                  <a:ext cx="25704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685360" y="1627200"/>
                  <a:ext cx="25704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685360" y="1627200"/>
                  <a:ext cx="25704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685360" y="1627200"/>
                  <a:ext cx="25704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685360" y="1627200"/>
                  <a:ext cx="25704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685360" y="1627200"/>
                  <a:ext cx="25704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685360" y="1627200"/>
                  <a:ext cx="25704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685360" y="1627200"/>
                  <a:ext cx="25704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685360" y="1627200"/>
                  <a:ext cx="25704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685360" y="1627200"/>
                  <a:ext cx="25704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8685360" y="1627200"/>
                  <a:ext cx="25704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8685360" y="1627200"/>
                  <a:ext cx="25704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685360" y="1627200"/>
                  <a:ext cx="25704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85360" y="1627200"/>
                  <a:ext cx="25704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685360" y="1627200"/>
                  <a:ext cx="25704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685360" y="1627200"/>
                  <a:ext cx="25704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685360" y="1627200"/>
                  <a:ext cx="25704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85360" y="1627200"/>
                  <a:ext cx="25704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685360" y="1627200"/>
                  <a:ext cx="25704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685360" y="1627200"/>
                  <a:ext cx="25704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685360" y="1627200"/>
                  <a:ext cx="25704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685360" y="1627200"/>
                  <a:ext cx="25704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685360" y="1627200"/>
                  <a:ext cx="257040" cy="9540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685360" y="1627200"/>
                  <a:ext cx="25704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685360" y="1627200"/>
                  <a:ext cx="25704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8685360" y="1627200"/>
                  <a:ext cx="25704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685360" y="1627200"/>
                  <a:ext cx="25704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685360" y="1627200"/>
                  <a:ext cx="25704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685360" y="1627200"/>
                  <a:ext cx="25704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685360" y="1627200"/>
                  <a:ext cx="257040" cy="6840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685360" y="1627200"/>
                  <a:ext cx="25704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685360" y="1627200"/>
                  <a:ext cx="257040" cy="604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685360" y="1627200"/>
                  <a:ext cx="257040" cy="57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685360" y="1627200"/>
                  <a:ext cx="25704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685360" y="1627200"/>
                  <a:ext cx="257040" cy="4932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685360" y="1627200"/>
                  <a:ext cx="25704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685360" y="1627200"/>
                  <a:ext cx="257040" cy="4140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8685360" y="1627200"/>
                  <a:ext cx="25704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685360" y="1627200"/>
                  <a:ext cx="25704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678880" y="1620720"/>
                  <a:ext cx="2714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"/>
              <p:cNvSpPr/>
              <p:nvPr/>
            </p:nvSpPr>
            <p:spPr>
              <a:xfrm>
                <a:off x="8742240" y="1623960"/>
                <a:ext cx="23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902800" y="1647720"/>
                <a:ext cx="4752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906040" y="1650960"/>
                <a:ext cx="4752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20120" y="2432160"/>
                <a:ext cx="882360" cy="161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29480" y="2451240"/>
                <a:ext cx="204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43680" y="2451240"/>
                <a:ext cx="2066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55000" y="2451240"/>
                <a:ext cx="2062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300880" y="2536920"/>
                <a:ext cx="51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32720" y="2490840"/>
                <a:ext cx="62856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77120" y="2451240"/>
                <a:ext cx="1018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77120" y="2487600"/>
                <a:ext cx="101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97720" y="2494080"/>
                <a:ext cx="9072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5867280" y="3352680"/>
              <a:ext cx="106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1981080"/>
              <a:ext cx="2438640" cy="11898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 or Java applet down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838080" y="3728880"/>
            <a:ext cx="3048120" cy="945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Control or Java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038480" y="4495680"/>
            <a:ext cx="2590560" cy="2133720"/>
            <a:chOff x="4038480" y="4495680"/>
            <a:chExt cx="2590560" cy="2133720"/>
          </a:xfrm>
        </p:grpSpPr>
        <p:sp>
          <p:nvSpPr>
            <p:cNvPr id="1049" name=""/>
            <p:cNvSpPr/>
            <p:nvPr/>
          </p:nvSpPr>
          <p:spPr>
            <a:xfrm>
              <a:off x="4038480" y="4495680"/>
              <a:ext cx="60948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3000" y="5805360"/>
              <a:ext cx="25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962520" y="3733920"/>
            <a:ext cx="5180040" cy="2119320"/>
            <a:chOff x="3962520" y="3733920"/>
            <a:chExt cx="5180040" cy="2119320"/>
          </a:xfrm>
        </p:grpSpPr>
        <p:sp>
          <p:nvSpPr>
            <p:cNvPr id="1052" name=""/>
            <p:cNvSpPr/>
            <p:nvPr/>
          </p:nvSpPr>
          <p:spPr>
            <a:xfrm>
              <a:off x="3962520" y="4419720"/>
              <a:ext cx="3429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4572000"/>
              <a:ext cx="137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26160" y="5029200"/>
              <a:ext cx="251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7526160" y="3733920"/>
              <a:ext cx="1581480" cy="1352520"/>
              <a:chOff x="7526160" y="3733920"/>
              <a:chExt cx="1581480" cy="1352520"/>
            </a:xfrm>
          </p:grpSpPr>
          <p:sp>
            <p:nvSpPr>
              <p:cNvPr id="1056" name=""/>
              <p:cNvSpPr/>
              <p:nvPr/>
            </p:nvSpPr>
            <p:spPr>
              <a:xfrm>
                <a:off x="8707320" y="3733920"/>
                <a:ext cx="40032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63040" y="4726080"/>
                <a:ext cx="496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597800" y="4108320"/>
                <a:ext cx="824040" cy="628920"/>
                <a:chOff x="7597800" y="4108320"/>
                <a:chExt cx="824040" cy="62892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597800" y="4108320"/>
                  <a:ext cx="247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597800" y="4121280"/>
                  <a:ext cx="82404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713720" y="4108320"/>
                  <a:ext cx="600120" cy="6289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597800" y="4533840"/>
                  <a:ext cx="24768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8170920" y="4533840"/>
                  <a:ext cx="25092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70920" y="4108320"/>
                  <a:ext cx="250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605720" y="4116240"/>
                  <a:ext cx="23976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605720" y="4129200"/>
                  <a:ext cx="80640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719840" y="4116240"/>
                  <a:ext cx="590760" cy="61308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605720" y="4533840"/>
                  <a:ext cx="23976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170920" y="4533840"/>
                  <a:ext cx="24120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70920" y="4116240"/>
                  <a:ext cx="241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605720" y="4129200"/>
                  <a:ext cx="23976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605720" y="4143240"/>
                  <a:ext cx="806400" cy="55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719840" y="4129200"/>
                  <a:ext cx="59076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605720" y="4530600"/>
                  <a:ext cx="23976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170920" y="4530600"/>
                  <a:ext cx="24120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170920" y="4129200"/>
                  <a:ext cx="241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15080" y="4127400"/>
                  <a:ext cx="23364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615080" y="4140360"/>
                  <a:ext cx="79056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724880" y="4127400"/>
                  <a:ext cx="574560" cy="5907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615080" y="4530600"/>
                  <a:ext cx="23364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164440" y="4530600"/>
                  <a:ext cx="24120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164440" y="4127400"/>
                  <a:ext cx="24120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75560" y="4313160"/>
                  <a:ext cx="660240" cy="339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675560" y="4192560"/>
                  <a:ext cx="66024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99320" y="4219560"/>
                  <a:ext cx="6145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8280360" y="4687920"/>
                <a:ext cx="604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8778960" y="4738680"/>
                <a:ext cx="237960" cy="84240"/>
                <a:chOff x="8778960" y="4738680"/>
                <a:chExt cx="237960" cy="8424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8778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7994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8185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8390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859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8758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8977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91684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9377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9550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9758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9946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90169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8778960" y="4832280"/>
                <a:ext cx="237960" cy="82800"/>
                <a:chOff x="8778960" y="4832280"/>
                <a:chExt cx="237960" cy="828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8778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87994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8185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390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859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8758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8977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91684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9377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9550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9758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9946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90169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5" name=""/>
              <p:cNvSpPr/>
              <p:nvPr/>
            </p:nvSpPr>
            <p:spPr>
              <a:xfrm>
                <a:off x="8761320" y="3768840"/>
                <a:ext cx="282600" cy="5094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8771040" y="4200480"/>
                <a:ext cx="264960" cy="85680"/>
                <a:chOff x="8771040" y="4200480"/>
                <a:chExt cx="264960" cy="856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8771040" y="420048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777160" y="420696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771040" y="420048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8647200" y="3871800"/>
                <a:ext cx="260280" cy="84240"/>
                <a:chOff x="8647200" y="3871800"/>
                <a:chExt cx="260280" cy="842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8647200" y="3871800"/>
                  <a:ext cx="260280" cy="84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647200" y="3871800"/>
                  <a:ext cx="26028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>
                <a:off x="8771040" y="3776760"/>
                <a:ext cx="129960" cy="1108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818560" y="3828960"/>
                <a:ext cx="55440" cy="111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18560" y="3813120"/>
                <a:ext cx="5544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818560" y="3855960"/>
                <a:ext cx="5544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29720" y="3844800"/>
                <a:ext cx="5400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785080" y="3814920"/>
                <a:ext cx="414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785080" y="3863880"/>
                <a:ext cx="414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8771040" y="4035600"/>
                <a:ext cx="264960" cy="85680"/>
                <a:chOff x="8771040" y="4035600"/>
                <a:chExt cx="264960" cy="85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8771040" y="403560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771040" y="403560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8788320" y="3776760"/>
                <a:ext cx="262080" cy="179280"/>
                <a:chOff x="8788320" y="3776760"/>
                <a:chExt cx="262080" cy="1792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8788320" y="3868560"/>
                  <a:ext cx="262080" cy="874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788320" y="3868560"/>
                  <a:ext cx="262080" cy="446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913960" y="3776760"/>
                  <a:ext cx="136440" cy="110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8761320" y="4284720"/>
                <a:ext cx="28908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771040" y="4292640"/>
                <a:ext cx="1904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9400" y="4292640"/>
                <a:ext cx="698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728200" y="3751200"/>
                <a:ext cx="349200" cy="92556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71040" y="411336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67800" y="394812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8713800" y="3983040"/>
                <a:ext cx="304920" cy="252360"/>
                <a:chOff x="8713800" y="3983040"/>
                <a:chExt cx="304920" cy="2523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8713800" y="3983040"/>
                  <a:ext cx="30492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720280" y="3989520"/>
                  <a:ext cx="29052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720280" y="3989520"/>
                  <a:ext cx="29052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720280" y="3989520"/>
                  <a:ext cx="290520" cy="204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720280" y="3989520"/>
                  <a:ext cx="29052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720280" y="3989520"/>
                  <a:ext cx="290520" cy="19656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720280" y="3989520"/>
                  <a:ext cx="29052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720280" y="3989520"/>
                  <a:ext cx="29052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720280" y="3989520"/>
                  <a:ext cx="29052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720280" y="3989520"/>
                  <a:ext cx="29052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720280" y="3989520"/>
                  <a:ext cx="29052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720280" y="3989520"/>
                  <a:ext cx="29052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720280" y="3989520"/>
                  <a:ext cx="29052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720280" y="3989520"/>
                  <a:ext cx="29052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720280" y="3989520"/>
                  <a:ext cx="29052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720280" y="3989520"/>
                  <a:ext cx="29052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720280" y="3989520"/>
                  <a:ext cx="29052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720280" y="3989520"/>
                  <a:ext cx="29052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720280" y="3989520"/>
                  <a:ext cx="29052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720280" y="3989520"/>
                  <a:ext cx="29052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720280" y="3989520"/>
                  <a:ext cx="29052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720280" y="3989520"/>
                  <a:ext cx="29052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720280" y="3989520"/>
                  <a:ext cx="29052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720280" y="3989520"/>
                  <a:ext cx="29052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720280" y="3989520"/>
                  <a:ext cx="29052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720280" y="3989520"/>
                  <a:ext cx="29052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720280" y="3989520"/>
                  <a:ext cx="29052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720280" y="3989520"/>
                  <a:ext cx="29052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720280" y="3989520"/>
                  <a:ext cx="29052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720280" y="3989520"/>
                  <a:ext cx="29052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720280" y="3989520"/>
                  <a:ext cx="290520" cy="95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8720280" y="3989520"/>
                  <a:ext cx="29052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8720280" y="3989520"/>
                  <a:ext cx="29052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720280" y="3989520"/>
                  <a:ext cx="29052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720280" y="3989520"/>
                  <a:ext cx="29052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720280" y="3989520"/>
                  <a:ext cx="29052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720280" y="3989520"/>
                  <a:ext cx="29052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720280" y="3989520"/>
                  <a:ext cx="290520" cy="68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720280" y="3989520"/>
                  <a:ext cx="29052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720280" y="3989520"/>
                  <a:ext cx="290520" cy="6012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720280" y="3989520"/>
                  <a:ext cx="290520" cy="568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720280" y="3989520"/>
                  <a:ext cx="29052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720280" y="3989520"/>
                  <a:ext cx="290520" cy="4896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720280" y="3989520"/>
                  <a:ext cx="29052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720280" y="3989520"/>
                  <a:ext cx="290520" cy="41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720280" y="3989520"/>
                  <a:ext cx="29052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720280" y="3989520"/>
                  <a:ext cx="29052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8713800" y="3983040"/>
                  <a:ext cx="3049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8785080" y="3986280"/>
                <a:ext cx="25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964720" y="4010040"/>
                <a:ext cx="5400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969400" y="4013280"/>
                <a:ext cx="5220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526160" y="4794120"/>
                <a:ext cx="990720" cy="162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537320" y="4813200"/>
                <a:ext cx="23040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77708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1360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290080" y="4898880"/>
                <a:ext cx="56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40560" y="4853160"/>
                <a:ext cx="70488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263080" y="4813200"/>
                <a:ext cx="11412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263080" y="4849920"/>
                <a:ext cx="114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399520" y="4856040"/>
                <a:ext cx="101520" cy="874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914400" y="4923000"/>
            <a:ext cx="297180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Experience:  How It Work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X Contr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OM components with “design-time” U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in C++, Java, VB, Delphi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gi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ed for download and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on both Active Client or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lk indirectly over HTTP or directly over 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 Java 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V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OM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Java classes from any application/language, not just browser/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Java obj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COM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706920" cy="2971800"/>
          </a:xfrm>
          <a:prstGeom prst="rect">
            <a:avLst/>
          </a:prstGeom>
          <a:ln w="0">
            <a:noFill/>
          </a:ln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action Server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Viper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636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ime exec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 for serv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COM archi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ture with trans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concurrenc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ing, queuing, atomici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is easy to encapsulate business logic in middle-t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re Product Stat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”COM first released in Windows NT 4.0, August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95 version released January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aris 2.x release imm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UNICES, MVS, and VMS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version in H1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Group source licenses available by mid-1997; DCE integration project by end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 Overview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derstanding ActiveX and 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vid Chappe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95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microsoft.com/oledev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 and other non-Win32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sagus.com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ttp://www.microsoft.com/workshop/&gt; and &lt;http://www.microsoft.com/oledev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side C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le Roger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microsoft.com/workshop/resources/email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new%20ms%20with%20tagline%208x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grpSp>
        <p:nvGrpSpPr>
          <p:cNvPr id="1662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1663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nted: Softwar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wave” requires applications, content, operating systems, networking, distributed services to be integrated as never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solutions won’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one vendor or one team of programmers can move fast en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leverage others’ work and to build and ship smaller pieces increment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evolve smaller pieces asynchronously without sacrificing the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s…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SA” architecture was Microsoft’s 2nd generation component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 (often with different “level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(Microsoft) -supplied intermediary DLL with out-of-band management rout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 for real components/servers to plug in “underneat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great (e.g. ODBC) but has crucial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afe decentralized extension or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: 3rd Generatio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ied programming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OS and apps — unification of system handle-based “objects” and variety of ap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in-process and remote interaction — unification of DLLs and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binary deployment, conn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ieces or “components” find and connect to each other through clearly define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es fundamental problems of software integration, independent 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pro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on the Interent/Intranet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based serv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erver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Transaction Server (Vip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tier “client/server”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Tier Client/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867280"/>
            <a:ext cx="8458200" cy="8384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-Tier - Databases, Legac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06704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343400"/>
            <a:ext cx="99036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886200"/>
            <a:ext cx="8458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id-Tier - HTTP, Biz Objects, Active Server Page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362320"/>
            <a:ext cx="106668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36232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4582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esktop” - Compound Documents, Control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uilds on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’s initial thrust: integrating desktop applications with 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technology is generically useful, being applied to a range of other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0’s of shipping, commercially available, produ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class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, VC, VJ, Delphi, PowerSof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3T01:13:36Z</dcterms:created>
  <dc:creator>Charlie Kindel</dc:creator>
  <dc:description>This presentation was given by Charlie Kindel at Object World East '97.</dc:description>
  <cp:keywords>COM ActiveX OLE DCOM Objects Components</cp:keywords>
  <dc:language>en-US</dc:language>
  <cp:lastModifiedBy>Michael Gross</cp:lastModifiedBy>
  <cp:lastPrinted>1997-03-05T05:56:03Z</cp:lastPrinted>
  <dcterms:modified xsi:type="dcterms:W3CDTF">1997-10-06T17:43:29Z</dcterms:modified>
  <cp:revision>25</cp:revision>
  <dc:subject>ActiveX and COM</dc:subject>
  <dc:title>ActiveX Overview</dc:title>
</cp:coreProperties>
</file>