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14AE-205E-4EF6-9CAC-4831213DF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8948-40A7-45CB-B15A-46381F03A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B99E-50C4-4D05-A8F2-42FFD69AF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1745-3E06-4AF7-A36C-2DD7D5111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6CFE-5897-4B86-9FA9-39C1D37B9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4A8D-BB28-433A-A04A-0E87E7C23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0C5D-F02B-4B1E-B065-9AEEE0F9B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607A-3F3E-4C97-A5C7-5E666BFDE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C306-47D7-4E29-AEC0-6E6BDAA3C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1C09-A499-4F7A-9B94-A30A27CD5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FC45-A6E0-4CD5-9D50-7F54C063E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0256-D9A4-442F-AA83-6F4DDDF44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40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édric Bertho   -   Comparaison entr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C10-303C-464A-AD10-A36B81641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2/10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520" y="35812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g10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4056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sm_perl_id_bk_wt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85436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ar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30F0-E60A-4F51-8128-6CAFE0CD55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685800"/>
            <a:ext cx="723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filename = "cooktest1.1-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 (F, $filename) or die ("can't open $filename: $!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@lines = &lt;F&gt;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23924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ilename = "cooktest1.1-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 = open (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xcep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ys.stderr.write ("can't open %s: %s %s\n"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filename, sys.exc_type, sys.exc_valu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lines = f.readlin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CCE6-D806-4939-A196-5DEAFE8B99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quel choisi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approprié  aux  débutants  en 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05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urs  familiers  du  C,  Sed,  Awk  ou  des  commande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81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 programmation  orientée  objet  et  les  gros 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971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de chaînes de caractères et les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grand  support  actuel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3B32-8811-4D96-8A1A-14BA64E53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urces - réfé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zop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buzz.builder.com/cgi-bin/WebX?14@133.uWaUauuNrDb^1@.ee7bc67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byte.com/printableArticle?doc_id=BYT20000201S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python.org/doc/Comparis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24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starship.python.net/~da/jak/cookbook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culte.org/projets/doc/scripting.s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ADE7-05A8-455F-8980-B181B006DC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gines  de  Perl  et 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438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 quoi  servent-il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similitud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différenc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95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 d’util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quel  choisi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D79A-F394-42C0-8CA1-9C4002360E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rigines d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yth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655308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90  par  Guido  van  Ros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projet  Amo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  issu  des  Monthy  Python’s  Flying 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86200"/>
            <a:ext cx="65530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87  par  Larr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traitement  de  chaînes de caractères  sou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actical  Extraction  and  Report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B816-D5D5-44E3-96E9-AE9840B82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 quoi servent-il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  rapide  de  diverses  tâches  courantes  telles  que  des  scripts d ’administration système, analyse de fichiers textue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age  rapide  d’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s  avec  d’autres  programmes  (C, Jav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rogation  de  bases  de 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ation  Internet, Common  Gateway 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 d’images,  interfaces  graphiques (avec  modules  et  bibliothè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1A0C-6A4E-4169-9BE5-3CD970D09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similitud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atuits,  portables  et  Open 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60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s  « interactifs » et  interprétés  évol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59884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ion  procédurale  ou  orientée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3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èdent  de  fortes  communautés  de 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ent  de  nombreux  modules  et  bibliothèques 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22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-plateformes  (Unix, Windows, BeOs,  MacOS, Amig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35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ort  de  structures  de  données  riches  et  dynamiques (listes, hashtabl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86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3A38-C31F-4470-AC7F-5AC07C3EB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 est  plus  gros,  mais  Python  grossit  plus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entation  objet :  native  pour  Python,  superficielle  pour 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971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 « There ’s more than one way to do i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de Python : plus constante et uniforme,  voir 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 « Life’s better without brac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131F-E25F-4673-B16C-A5D62104D9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mp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5000" cy="451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ison of Six XML Parsers Processing Each Tes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F27E-C146-4F49-B9BD-A12BEF0E4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696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(split(/:/, $ENV{'PATH'}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dir(DIR, $_) or die "can't opendir $_: $!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grep {!/^\./ &amp;&amp; print "$_\n" } readdir(DI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osedir DI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os, string,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d in string.split(os.environ['PATH'], ':'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f in os.listdir(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e = os.lstat(d + '/' + f)[stat.ST_MOD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f not stat.S_ISDIR(mo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int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CD63-8288-4784-B2A3-FC3E76711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ythonwi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02640" cy="58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9457-0E99-4120-B59A-DBF2E90FC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15:11:22Z</dcterms:created>
  <dc:creator>Ced</dc:creator>
  <dc:description/>
  <dc:language>en-US</dc:language>
  <cp:lastModifiedBy>Ced</cp:lastModifiedBy>
  <dcterms:modified xsi:type="dcterms:W3CDTF">2000-10-11T22:29:03Z</dcterms:modified>
  <cp:revision>20</cp:revision>
  <dc:subject/>
  <dc:title>vs</dc:title>
</cp:coreProperties>
</file>